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3C1-AFE0-4619-B4C0-D365868F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E43-F5C0-4DE1-8459-9A43119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B67-171C-4F1E-81A1-483AF83C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04B-6DC7-4DC1-A04A-5D36F2EF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D7E-8A61-4891-9BB2-1525FB14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14E-3858-42B3-AB76-AFF64695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A1E-D76F-49FA-B10D-20F8DC47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4E6-F808-4341-8A47-6FD48BAA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38B-60DC-4DFE-A0BA-09DBE71C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E45-51AD-4BCD-9429-B27A795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AF6-F974-4EA9-94FF-73A5026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0CC-7647-4A73-9B02-FC0C5B7B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5453-1CA2-4C2A-88C5-051CCA5A2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71760" y="1704960"/>
                <a:ext cx="81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00400"/>
                <a:ext cx="13716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081160" y="2303640"/>
            <a:ext cx="330120" cy="27756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5804" y="6474"/>
                </a:moveTo>
                <a:cubicBezTo>
                  <a:pt x="5780" y="6402"/>
                  <a:pt x="6073" y="6428"/>
                  <a:pt x="6127" y="6424"/>
                </a:cubicBezTo>
                <a:cubicBezTo>
                  <a:pt x="6320" y="6411"/>
                  <a:pt x="6504" y="6400"/>
                  <a:pt x="6697" y="6400"/>
                </a:cubicBezTo>
              </a:path>
              <a:path w="919" h="770">
                <a:moveTo>
                  <a:pt x="6176" y="6772"/>
                </a:moveTo>
                <a:cubicBezTo>
                  <a:pt x="6197" y="6853"/>
                  <a:pt x="6216" y="6950"/>
                  <a:pt x="6201" y="7045"/>
                </a:cubicBezTo>
                <a:cubicBezTo>
                  <a:pt x="6192" y="7104"/>
                  <a:pt x="6176" y="7116"/>
                  <a:pt x="6176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5840" y="2232000"/>
            <a:ext cx="8892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7293" y="6251"/>
                </a:moveTo>
                <a:cubicBezTo>
                  <a:pt x="7352" y="6191"/>
                  <a:pt x="7445" y="6201"/>
                  <a:pt x="7541" y="6201"/>
                </a:cubicBezTo>
                <a:cubicBezTo>
                  <a:pt x="7533" y="6201"/>
                  <a:pt x="7524" y="6201"/>
                  <a:pt x="7516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7880" y="1901880"/>
            <a:ext cx="189000" cy="500040"/>
          </a:xfrm>
          <a:custGeom>
            <a:avLst/>
            <a:gdLst/>
            <a:ahLst/>
            <a:rect l="l" t="t" r="r" b="b"/>
            <a:pathLst>
              <a:path w="522" h="1390">
                <a:moveTo>
                  <a:pt x="8855" y="5358"/>
                </a:moveTo>
                <a:cubicBezTo>
                  <a:pt x="8740" y="5267"/>
                  <a:pt x="8621" y="5255"/>
                  <a:pt x="8508" y="5383"/>
                </a:cubicBezTo>
                <a:cubicBezTo>
                  <a:pt x="8500" y="5408"/>
                  <a:pt x="8491" y="5432"/>
                  <a:pt x="8483" y="5457"/>
                </a:cubicBezTo>
                <a:cubicBezTo>
                  <a:pt x="8625" y="5542"/>
                  <a:pt x="8638" y="5486"/>
                  <a:pt x="8756" y="5407"/>
                </a:cubicBezTo>
                <a:cubicBezTo>
                  <a:pt x="8764" y="5407"/>
                  <a:pt x="8773" y="5407"/>
                  <a:pt x="8781" y="5407"/>
                </a:cubicBezTo>
                <a:cubicBezTo>
                  <a:pt x="8814" y="5541"/>
                  <a:pt x="8806" y="5705"/>
                  <a:pt x="8806" y="5854"/>
                </a:cubicBezTo>
                <a:cubicBezTo>
                  <a:pt x="8806" y="5933"/>
                  <a:pt x="8830" y="5962"/>
                  <a:pt x="8781" y="5978"/>
                </a:cubicBezTo>
              </a:path>
              <a:path w="522" h="1390">
                <a:moveTo>
                  <a:pt x="8384" y="6152"/>
                </a:moveTo>
                <a:cubicBezTo>
                  <a:pt x="8560" y="6125"/>
                  <a:pt x="8727" y="6102"/>
                  <a:pt x="8905" y="6102"/>
                </a:cubicBezTo>
              </a:path>
              <a:path w="522" h="1390">
                <a:moveTo>
                  <a:pt x="8508" y="6499"/>
                </a:moveTo>
                <a:cubicBezTo>
                  <a:pt x="8489" y="6557"/>
                  <a:pt x="8468" y="6613"/>
                  <a:pt x="8458" y="6672"/>
                </a:cubicBezTo>
                <a:cubicBezTo>
                  <a:pt x="8577" y="6664"/>
                  <a:pt x="8689" y="6645"/>
                  <a:pt x="8806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6200" y="2259000"/>
            <a:ext cx="1911600" cy="1768320"/>
          </a:xfrm>
          <a:custGeom>
            <a:avLst/>
            <a:gdLst/>
            <a:ahLst/>
            <a:rect l="l" t="t" r="r" b="b"/>
            <a:pathLst>
              <a:path w="5309" h="4912">
                <a:moveTo>
                  <a:pt x="7268" y="6375"/>
                </a:moveTo>
                <a:cubicBezTo>
                  <a:pt x="7413" y="6363"/>
                  <a:pt x="7481" y="6332"/>
                  <a:pt x="7615" y="6276"/>
                </a:cubicBezTo>
              </a:path>
              <a:path w="5309" h="4912">
                <a:moveTo>
                  <a:pt x="7615" y="6276"/>
                </a:moveTo>
                <a:lnTo>
                  <a:pt x="7615" y="6276"/>
                </a:lnTo>
              </a:path>
              <a:path w="5309" h="4912">
                <a:moveTo>
                  <a:pt x="8855" y="6424"/>
                </a:moveTo>
                <a:cubicBezTo>
                  <a:pt x="8822" y="6554"/>
                  <a:pt x="8804" y="6665"/>
                  <a:pt x="8781" y="6796"/>
                </a:cubicBezTo>
              </a:path>
              <a:path w="5309" h="4912">
                <a:moveTo>
                  <a:pt x="3597" y="10864"/>
                </a:moveTo>
                <a:cubicBezTo>
                  <a:pt x="3556" y="11052"/>
                  <a:pt x="3524" y="11052"/>
                  <a:pt x="3646" y="11187"/>
                </a:cubicBezTo>
                <a:cubicBezTo>
                  <a:pt x="3774" y="11128"/>
                  <a:pt x="3922" y="11010"/>
                  <a:pt x="3721" y="10889"/>
                </a:cubicBezTo>
                <a:cubicBezTo>
                  <a:pt x="3688" y="10881"/>
                  <a:pt x="3654" y="10872"/>
                  <a:pt x="3621" y="10864"/>
                </a:cubicBezTo>
              </a:path>
              <a:path w="5309" h="4912">
                <a:moveTo>
                  <a:pt x="6449" y="10567"/>
                </a:moveTo>
                <a:cubicBezTo>
                  <a:pt x="6470" y="10630"/>
                  <a:pt x="6482" y="10685"/>
                  <a:pt x="6524" y="10716"/>
                </a:cubicBezTo>
              </a:path>
              <a:path w="5309" h="4912">
                <a:moveTo>
                  <a:pt x="5904" y="10864"/>
                </a:moveTo>
                <a:cubicBezTo>
                  <a:pt x="5911" y="10972"/>
                  <a:pt x="5922" y="11079"/>
                  <a:pt x="592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97280" y="1438200"/>
            <a:ext cx="1312920" cy="919080"/>
          </a:xfrm>
          <a:custGeom>
            <a:avLst/>
            <a:gdLst/>
            <a:ahLst/>
            <a:rect l="l" t="t" r="r" b="b"/>
            <a:pathLst>
              <a:path w="3648" h="2555">
                <a:moveTo>
                  <a:pt x="13047" y="5432"/>
                </a:moveTo>
                <a:cubicBezTo>
                  <a:pt x="13112" y="5393"/>
                  <a:pt x="13191" y="5389"/>
                  <a:pt x="13271" y="5383"/>
                </a:cubicBezTo>
              </a:path>
              <a:path w="3648" h="2555">
                <a:moveTo>
                  <a:pt x="14412" y="5085"/>
                </a:moveTo>
                <a:cubicBezTo>
                  <a:pt x="14457" y="4956"/>
                  <a:pt x="14473" y="4875"/>
                  <a:pt x="14610" y="4812"/>
                </a:cubicBezTo>
                <a:cubicBezTo>
                  <a:pt x="14702" y="4789"/>
                  <a:pt x="14727" y="4778"/>
                  <a:pt x="14784" y="4812"/>
                </a:cubicBezTo>
                <a:cubicBezTo>
                  <a:pt x="14783" y="5164"/>
                  <a:pt x="14600" y="5292"/>
                  <a:pt x="14387" y="5556"/>
                </a:cubicBezTo>
                <a:cubicBezTo>
                  <a:pt x="14326" y="5632"/>
                  <a:pt x="14224" y="5737"/>
                  <a:pt x="14238" y="5804"/>
                </a:cubicBezTo>
                <a:cubicBezTo>
                  <a:pt x="14381" y="5702"/>
                  <a:pt x="14542" y="5548"/>
                  <a:pt x="14734" y="5631"/>
                </a:cubicBezTo>
                <a:cubicBezTo>
                  <a:pt x="14849" y="5681"/>
                  <a:pt x="14814" y="5736"/>
                  <a:pt x="14908" y="5680"/>
                </a:cubicBezTo>
              </a:path>
              <a:path w="3648" h="2555">
                <a:moveTo>
                  <a:pt x="15726" y="4465"/>
                </a:moveTo>
                <a:cubicBezTo>
                  <a:pt x="15735" y="4609"/>
                  <a:pt x="15825" y="4847"/>
                  <a:pt x="15776" y="4986"/>
                </a:cubicBezTo>
                <a:cubicBezTo>
                  <a:pt x="15759" y="4994"/>
                  <a:pt x="15743" y="5003"/>
                  <a:pt x="15726" y="5011"/>
                </a:cubicBezTo>
              </a:path>
              <a:path w="3648" h="2555">
                <a:moveTo>
                  <a:pt x="15652" y="5085"/>
                </a:moveTo>
                <a:cubicBezTo>
                  <a:pt x="15787" y="5090"/>
                  <a:pt x="16012" y="5025"/>
                  <a:pt x="15925" y="5184"/>
                </a:cubicBezTo>
              </a:path>
              <a:path w="3648" h="2555">
                <a:moveTo>
                  <a:pt x="15627" y="5358"/>
                </a:moveTo>
                <a:cubicBezTo>
                  <a:pt x="15577" y="5457"/>
                  <a:pt x="15560" y="5490"/>
                  <a:pt x="15528" y="5556"/>
                </a:cubicBezTo>
                <a:cubicBezTo>
                  <a:pt x="15631" y="5639"/>
                  <a:pt x="15689" y="5621"/>
                  <a:pt x="15801" y="5581"/>
                </a:cubicBezTo>
              </a:path>
              <a:path w="3648" h="2555">
                <a:moveTo>
                  <a:pt x="15875" y="5383"/>
                </a:moveTo>
                <a:cubicBezTo>
                  <a:pt x="15864" y="5522"/>
                  <a:pt x="15873" y="5755"/>
                  <a:pt x="15801" y="5879"/>
                </a:cubicBezTo>
                <a:cubicBezTo>
                  <a:pt x="15784" y="5887"/>
                  <a:pt x="15768" y="5896"/>
                  <a:pt x="15751" y="5904"/>
                </a:cubicBezTo>
              </a:path>
              <a:path w="3648" h="2555">
                <a:moveTo>
                  <a:pt x="14039" y="6003"/>
                </a:moveTo>
                <a:cubicBezTo>
                  <a:pt x="14148" y="6196"/>
                  <a:pt x="14275" y="6287"/>
                  <a:pt x="14486" y="6375"/>
                </a:cubicBezTo>
                <a:cubicBezTo>
                  <a:pt x="14775" y="6495"/>
                  <a:pt x="15114" y="6598"/>
                  <a:pt x="15429" y="6524"/>
                </a:cubicBezTo>
                <a:cubicBezTo>
                  <a:pt x="15804" y="6436"/>
                  <a:pt x="16186" y="6266"/>
                  <a:pt x="16421" y="5953"/>
                </a:cubicBezTo>
                <a:cubicBezTo>
                  <a:pt x="16605" y="5708"/>
                  <a:pt x="16712" y="5441"/>
                  <a:pt x="16694" y="5135"/>
                </a:cubicBezTo>
                <a:cubicBezTo>
                  <a:pt x="16675" y="4820"/>
                  <a:pt x="16517" y="4585"/>
                  <a:pt x="16297" y="4366"/>
                </a:cubicBezTo>
                <a:cubicBezTo>
                  <a:pt x="16078" y="4147"/>
                  <a:pt x="15783" y="4019"/>
                  <a:pt x="15478" y="3994"/>
                </a:cubicBezTo>
                <a:cubicBezTo>
                  <a:pt x="15159" y="3968"/>
                  <a:pt x="14754" y="4001"/>
                  <a:pt x="14486" y="4192"/>
                </a:cubicBezTo>
                <a:cubicBezTo>
                  <a:pt x="14052" y="4501"/>
                  <a:pt x="14011" y="4957"/>
                  <a:pt x="14064" y="5432"/>
                </a:cubicBezTo>
                <a:cubicBezTo>
                  <a:pt x="14098" y="5735"/>
                  <a:pt x="14098" y="5825"/>
                  <a:pt x="14387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6120" y="1768320"/>
            <a:ext cx="635040" cy="973440"/>
          </a:xfrm>
          <a:custGeom>
            <a:avLst/>
            <a:gdLst/>
            <a:ahLst/>
            <a:rect l="l" t="t" r="r" b="b"/>
            <a:pathLst>
              <a:path w="1762" h="2705">
                <a:moveTo>
                  <a:pt x="11609" y="5779"/>
                </a:moveTo>
                <a:cubicBezTo>
                  <a:pt x="11609" y="5687"/>
                  <a:pt x="11553" y="5581"/>
                  <a:pt x="11435" y="5631"/>
                </a:cubicBezTo>
                <a:cubicBezTo>
                  <a:pt x="11309" y="5732"/>
                  <a:pt x="11267" y="5767"/>
                  <a:pt x="11237" y="5879"/>
                </a:cubicBezTo>
                <a:cubicBezTo>
                  <a:pt x="11245" y="5904"/>
                  <a:pt x="11253" y="5928"/>
                  <a:pt x="11261" y="5953"/>
                </a:cubicBezTo>
                <a:cubicBezTo>
                  <a:pt x="11442" y="5922"/>
                  <a:pt x="11462" y="5924"/>
                  <a:pt x="11584" y="5779"/>
                </a:cubicBezTo>
                <a:cubicBezTo>
                  <a:pt x="11642" y="5919"/>
                  <a:pt x="11718" y="6074"/>
                  <a:pt x="11658" y="6226"/>
                </a:cubicBezTo>
                <a:cubicBezTo>
                  <a:pt x="11650" y="6226"/>
                  <a:pt x="11641" y="6226"/>
                  <a:pt x="11633" y="6226"/>
                </a:cubicBezTo>
              </a:path>
              <a:path w="1762" h="2705">
                <a:moveTo>
                  <a:pt x="11162" y="6424"/>
                </a:moveTo>
                <a:cubicBezTo>
                  <a:pt x="11162" y="6166"/>
                  <a:pt x="11168" y="5907"/>
                  <a:pt x="11137" y="5655"/>
                </a:cubicBezTo>
                <a:cubicBezTo>
                  <a:pt x="11137" y="5614"/>
                  <a:pt x="11137" y="5606"/>
                  <a:pt x="11137" y="5581"/>
                </a:cubicBezTo>
                <a:cubicBezTo>
                  <a:pt x="11278" y="5568"/>
                  <a:pt x="11414" y="5537"/>
                  <a:pt x="11559" y="5531"/>
                </a:cubicBezTo>
                <a:cubicBezTo>
                  <a:pt x="11705" y="5525"/>
                  <a:pt x="12154" y="5464"/>
                  <a:pt x="12278" y="5556"/>
                </a:cubicBezTo>
                <a:cubicBezTo>
                  <a:pt x="12270" y="5556"/>
                  <a:pt x="12262" y="5556"/>
                  <a:pt x="12254" y="5556"/>
                </a:cubicBezTo>
              </a:path>
              <a:path w="1762" h="2705">
                <a:moveTo>
                  <a:pt x="10567" y="5779"/>
                </a:moveTo>
                <a:cubicBezTo>
                  <a:pt x="10556" y="5846"/>
                  <a:pt x="10533" y="5976"/>
                  <a:pt x="10517" y="6003"/>
                </a:cubicBezTo>
                <a:cubicBezTo>
                  <a:pt x="10621" y="6025"/>
                  <a:pt x="10722" y="6050"/>
                  <a:pt x="10815" y="6003"/>
                </a:cubicBezTo>
              </a:path>
              <a:path w="1762" h="2705">
                <a:moveTo>
                  <a:pt x="10790" y="5730"/>
                </a:moveTo>
                <a:cubicBezTo>
                  <a:pt x="10740" y="5903"/>
                  <a:pt x="10720" y="6095"/>
                  <a:pt x="10691" y="6276"/>
                </a:cubicBezTo>
                <a:cubicBezTo>
                  <a:pt x="10691" y="6318"/>
                  <a:pt x="10697" y="6309"/>
                  <a:pt x="10716" y="6226"/>
                </a:cubicBezTo>
              </a:path>
              <a:path w="1762" h="2705">
                <a:moveTo>
                  <a:pt x="11385" y="5011"/>
                </a:moveTo>
                <a:cubicBezTo>
                  <a:pt x="11408" y="4919"/>
                  <a:pt x="11503" y="4923"/>
                  <a:pt x="11584" y="4911"/>
                </a:cubicBezTo>
                <a:cubicBezTo>
                  <a:pt x="11563" y="5039"/>
                  <a:pt x="11469" y="5184"/>
                  <a:pt x="11385" y="5283"/>
                </a:cubicBezTo>
                <a:cubicBezTo>
                  <a:pt x="11361" y="5283"/>
                  <a:pt x="11353" y="5283"/>
                  <a:pt x="11361" y="5308"/>
                </a:cubicBezTo>
                <a:cubicBezTo>
                  <a:pt x="11481" y="5288"/>
                  <a:pt x="11641" y="5238"/>
                  <a:pt x="11683" y="5308"/>
                </a:cubicBezTo>
              </a:path>
              <a:path w="1762" h="2705">
                <a:moveTo>
                  <a:pt x="11658" y="6449"/>
                </a:moveTo>
                <a:cubicBezTo>
                  <a:pt x="11629" y="6362"/>
                  <a:pt x="11474" y="6493"/>
                  <a:pt x="11435" y="6524"/>
                </a:cubicBezTo>
                <a:cubicBezTo>
                  <a:pt x="11410" y="6549"/>
                  <a:pt x="11386" y="6573"/>
                  <a:pt x="11361" y="6598"/>
                </a:cubicBezTo>
                <a:cubicBezTo>
                  <a:pt x="11468" y="6627"/>
                  <a:pt x="11793" y="6636"/>
                  <a:pt x="11683" y="6821"/>
                </a:cubicBezTo>
                <a:cubicBezTo>
                  <a:pt x="11596" y="6887"/>
                  <a:pt x="11577" y="6917"/>
                  <a:pt x="11509" y="6871"/>
                </a:cubicBezTo>
                <a:cubicBezTo>
                  <a:pt x="11557" y="6727"/>
                  <a:pt x="11608" y="6616"/>
                  <a:pt x="11708" y="6499"/>
                </a:cubicBezTo>
              </a:path>
              <a:path w="1762" h="2705">
                <a:moveTo>
                  <a:pt x="11112" y="7069"/>
                </a:moveTo>
                <a:cubicBezTo>
                  <a:pt x="11405" y="7069"/>
                  <a:pt x="11689" y="7041"/>
                  <a:pt x="11981" y="7020"/>
                </a:cubicBezTo>
                <a:cubicBezTo>
                  <a:pt x="12179" y="7006"/>
                  <a:pt x="11934" y="7020"/>
                  <a:pt x="11931" y="7020"/>
                </a:cubicBezTo>
              </a:path>
              <a:path w="1762" h="2705">
                <a:moveTo>
                  <a:pt x="11038" y="6747"/>
                </a:moveTo>
                <a:cubicBezTo>
                  <a:pt x="11155" y="6740"/>
                  <a:pt x="11247" y="6734"/>
                  <a:pt x="11361" y="6747"/>
                </a:cubicBezTo>
              </a:path>
              <a:path w="1762" h="2705">
                <a:moveTo>
                  <a:pt x="11584" y="7193"/>
                </a:moveTo>
                <a:cubicBezTo>
                  <a:pt x="11584" y="7342"/>
                  <a:pt x="11584" y="7739"/>
                  <a:pt x="11584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5320" y="1946160"/>
            <a:ext cx="3071880" cy="3098880"/>
          </a:xfrm>
          <a:custGeom>
            <a:avLst/>
            <a:gdLst/>
            <a:ahLst/>
            <a:rect l="l" t="t" r="r" b="b"/>
            <a:pathLst>
              <a:path w="8534" h="8609">
                <a:moveTo>
                  <a:pt x="13072" y="5556"/>
                </a:moveTo>
                <a:cubicBezTo>
                  <a:pt x="13232" y="5510"/>
                  <a:pt x="13367" y="5477"/>
                  <a:pt x="13519" y="5407"/>
                </a:cubicBezTo>
              </a:path>
              <a:path w="8534" h="8609">
                <a:moveTo>
                  <a:pt x="6102" y="12080"/>
                </a:moveTo>
                <a:cubicBezTo>
                  <a:pt x="6083" y="12212"/>
                  <a:pt x="6046" y="12345"/>
                  <a:pt x="6028" y="12477"/>
                </a:cubicBezTo>
                <a:cubicBezTo>
                  <a:pt x="6028" y="12493"/>
                  <a:pt x="6028" y="12510"/>
                  <a:pt x="6028" y="12526"/>
                </a:cubicBezTo>
              </a:path>
              <a:path w="8534" h="8609">
                <a:moveTo>
                  <a:pt x="5085" y="13345"/>
                </a:moveTo>
                <a:cubicBezTo>
                  <a:pt x="5077" y="13353"/>
                  <a:pt x="5068" y="13362"/>
                  <a:pt x="5060" y="13370"/>
                </a:cubicBezTo>
              </a:path>
              <a:path w="8534" h="8609">
                <a:moveTo>
                  <a:pt x="5060" y="13370"/>
                </a:moveTo>
                <a:lnTo>
                  <a:pt x="5060" y="13370"/>
                </a:lnTo>
              </a:path>
              <a:path w="8534" h="8609">
                <a:moveTo>
                  <a:pt x="4986" y="13841"/>
                </a:moveTo>
                <a:cubicBezTo>
                  <a:pt x="4994" y="13841"/>
                  <a:pt x="5003" y="13841"/>
                  <a:pt x="5011" y="13841"/>
                </a:cubicBezTo>
              </a:path>
              <a:path w="8534" h="8609">
                <a:moveTo>
                  <a:pt x="5358" y="13593"/>
                </a:moveTo>
                <a:cubicBezTo>
                  <a:pt x="5450" y="13546"/>
                  <a:pt x="5477" y="13534"/>
                  <a:pt x="5531" y="13494"/>
                </a:cubicBezTo>
              </a:path>
              <a:path w="8534" h="8609">
                <a:moveTo>
                  <a:pt x="6821" y="12080"/>
                </a:moveTo>
                <a:cubicBezTo>
                  <a:pt x="6813" y="12121"/>
                  <a:pt x="6804" y="12163"/>
                  <a:pt x="6796" y="12204"/>
                </a:cubicBezTo>
              </a:path>
              <a:path w="8534" h="8609">
                <a:moveTo>
                  <a:pt x="6796" y="12204"/>
                </a:moveTo>
                <a:lnTo>
                  <a:pt x="6796" y="12204"/>
                </a:lnTo>
              </a:path>
              <a:path w="8534" h="8609">
                <a:moveTo>
                  <a:pt x="6747" y="12402"/>
                </a:moveTo>
                <a:cubicBezTo>
                  <a:pt x="6755" y="12402"/>
                  <a:pt x="6764" y="12402"/>
                  <a:pt x="6772" y="12402"/>
                </a:cubicBezTo>
              </a:path>
              <a:path w="8534" h="8609">
                <a:moveTo>
                  <a:pt x="7045" y="12129"/>
                </a:moveTo>
                <a:cubicBezTo>
                  <a:pt x="7128" y="12093"/>
                  <a:pt x="7178" y="12068"/>
                  <a:pt x="7268" y="12055"/>
                </a:cubicBezTo>
              </a:path>
              <a:path w="8534" h="8609">
                <a:moveTo>
                  <a:pt x="6648" y="12898"/>
                </a:moveTo>
                <a:lnTo>
                  <a:pt x="6648" y="12898"/>
                </a:lnTo>
              </a:path>
              <a:path w="8534" h="8609">
                <a:moveTo>
                  <a:pt x="7094" y="12948"/>
                </a:moveTo>
                <a:cubicBezTo>
                  <a:pt x="7068" y="13064"/>
                  <a:pt x="7046" y="13179"/>
                  <a:pt x="7020" y="13295"/>
                </a:cubicBezTo>
              </a:path>
              <a:path w="8534" h="8609">
                <a:moveTo>
                  <a:pt x="5060" y="12229"/>
                </a:moveTo>
                <a:cubicBezTo>
                  <a:pt x="5171" y="12251"/>
                  <a:pt x="5201" y="12256"/>
                  <a:pt x="5308" y="12229"/>
                </a:cubicBezTo>
              </a:path>
              <a:path w="8534" h="8609">
                <a:moveTo>
                  <a:pt x="5259" y="12055"/>
                </a:moveTo>
                <a:cubicBezTo>
                  <a:pt x="5251" y="12063"/>
                  <a:pt x="5242" y="12072"/>
                  <a:pt x="5234" y="12080"/>
                </a:cubicBezTo>
              </a:path>
              <a:path w="8534" h="8609">
                <a:moveTo>
                  <a:pt x="5234" y="12080"/>
                </a:moveTo>
                <a:lnTo>
                  <a:pt x="5234" y="12080"/>
                </a:lnTo>
              </a:path>
              <a:path w="8534" h="8609">
                <a:moveTo>
                  <a:pt x="5209" y="12402"/>
                </a:moveTo>
                <a:lnTo>
                  <a:pt x="5209" y="12402"/>
                </a:lnTo>
              </a:path>
              <a:path w="8534" h="8609">
                <a:moveTo>
                  <a:pt x="5581" y="12080"/>
                </a:moveTo>
                <a:cubicBezTo>
                  <a:pt x="5538" y="12295"/>
                  <a:pt x="5574" y="12377"/>
                  <a:pt x="5358" y="12378"/>
                </a:cubicBezTo>
              </a:path>
              <a:path w="8534" h="8609">
                <a:moveTo>
                  <a:pt x="6226" y="13593"/>
                </a:moveTo>
                <a:cubicBezTo>
                  <a:pt x="6192" y="13740"/>
                  <a:pt x="6162" y="13866"/>
                  <a:pt x="6152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90760" y="4106880"/>
            <a:ext cx="1098360" cy="1100160"/>
          </a:xfrm>
          <a:custGeom>
            <a:avLst/>
            <a:gdLst/>
            <a:ahLst/>
            <a:rect l="l" t="t" r="r" b="b"/>
            <a:pathLst>
              <a:path w="3052" h="3052">
                <a:moveTo>
                  <a:pt x="4316" y="12204"/>
                </a:moveTo>
                <a:cubicBezTo>
                  <a:pt x="4389" y="12189"/>
                  <a:pt x="4518" y="12080"/>
                  <a:pt x="4589" y="12129"/>
                </a:cubicBezTo>
                <a:cubicBezTo>
                  <a:pt x="4693" y="12200"/>
                  <a:pt x="4504" y="12336"/>
                  <a:pt x="4465" y="12378"/>
                </a:cubicBezTo>
                <a:cubicBezTo>
                  <a:pt x="4457" y="12386"/>
                  <a:pt x="4448" y="12394"/>
                  <a:pt x="4440" y="12402"/>
                </a:cubicBezTo>
                <a:cubicBezTo>
                  <a:pt x="4515" y="12377"/>
                  <a:pt x="4694" y="12323"/>
                  <a:pt x="4589" y="12502"/>
                </a:cubicBezTo>
                <a:cubicBezTo>
                  <a:pt x="4520" y="12619"/>
                  <a:pt x="4343" y="12679"/>
                  <a:pt x="4291" y="12576"/>
                </a:cubicBezTo>
              </a:path>
              <a:path w="3052" h="3052">
                <a:moveTo>
                  <a:pt x="4837" y="12154"/>
                </a:moveTo>
                <a:cubicBezTo>
                  <a:pt x="4996" y="12194"/>
                  <a:pt x="5081" y="12322"/>
                  <a:pt x="4936" y="12477"/>
                </a:cubicBezTo>
                <a:cubicBezTo>
                  <a:pt x="4848" y="12521"/>
                  <a:pt x="4826" y="12537"/>
                  <a:pt x="4762" y="12526"/>
                </a:cubicBezTo>
                <a:cubicBezTo>
                  <a:pt x="4742" y="12405"/>
                  <a:pt x="4783" y="12275"/>
                  <a:pt x="4936" y="12402"/>
                </a:cubicBezTo>
                <a:cubicBezTo>
                  <a:pt x="4993" y="12478"/>
                  <a:pt x="4996" y="12490"/>
                  <a:pt x="5035" y="12526"/>
                </a:cubicBezTo>
              </a:path>
              <a:path w="3052" h="3052">
                <a:moveTo>
                  <a:pt x="4142" y="12750"/>
                </a:moveTo>
                <a:cubicBezTo>
                  <a:pt x="4383" y="12726"/>
                  <a:pt x="4619" y="12725"/>
                  <a:pt x="4862" y="12725"/>
                </a:cubicBezTo>
                <a:cubicBezTo>
                  <a:pt x="4887" y="12725"/>
                  <a:pt x="4911" y="12725"/>
                  <a:pt x="4936" y="12725"/>
                </a:cubicBezTo>
              </a:path>
              <a:path w="3052" h="3052">
                <a:moveTo>
                  <a:pt x="4614" y="12948"/>
                </a:moveTo>
                <a:cubicBezTo>
                  <a:pt x="4467" y="12971"/>
                  <a:pt x="4483" y="12997"/>
                  <a:pt x="4440" y="13146"/>
                </a:cubicBezTo>
                <a:cubicBezTo>
                  <a:pt x="4526" y="13163"/>
                  <a:pt x="4720" y="13118"/>
                  <a:pt x="4787" y="13221"/>
                </a:cubicBezTo>
                <a:cubicBezTo>
                  <a:pt x="4915" y="13417"/>
                  <a:pt x="4624" y="13603"/>
                  <a:pt x="4465" y="13593"/>
                </a:cubicBezTo>
                <a:cubicBezTo>
                  <a:pt x="4343" y="13544"/>
                  <a:pt x="4301" y="13530"/>
                  <a:pt x="4366" y="13419"/>
                </a:cubicBezTo>
              </a:path>
              <a:path w="3052" h="3052">
                <a:moveTo>
                  <a:pt x="5308" y="12948"/>
                </a:moveTo>
                <a:cubicBezTo>
                  <a:pt x="5393" y="12990"/>
                  <a:pt x="5412" y="13089"/>
                  <a:pt x="5457" y="13171"/>
                </a:cubicBezTo>
                <a:cubicBezTo>
                  <a:pt x="5465" y="13179"/>
                  <a:pt x="5474" y="13188"/>
                  <a:pt x="5482" y="13196"/>
                </a:cubicBezTo>
              </a:path>
              <a:path w="3052" h="3052">
                <a:moveTo>
                  <a:pt x="5432" y="12948"/>
                </a:moveTo>
                <a:cubicBezTo>
                  <a:pt x="5410" y="12989"/>
                  <a:pt x="5308" y="13301"/>
                  <a:pt x="5308" y="13171"/>
                </a:cubicBezTo>
              </a:path>
              <a:path w="3052" h="3052">
                <a:moveTo>
                  <a:pt x="6623" y="11956"/>
                </a:moveTo>
                <a:cubicBezTo>
                  <a:pt x="6600" y="11960"/>
                  <a:pt x="6464" y="11967"/>
                  <a:pt x="6449" y="11981"/>
                </a:cubicBezTo>
                <a:cubicBezTo>
                  <a:pt x="6421" y="12008"/>
                  <a:pt x="6391" y="12095"/>
                  <a:pt x="6375" y="12154"/>
                </a:cubicBezTo>
                <a:cubicBezTo>
                  <a:pt x="6375" y="12162"/>
                  <a:pt x="6375" y="12171"/>
                  <a:pt x="6375" y="12179"/>
                </a:cubicBezTo>
                <a:cubicBezTo>
                  <a:pt x="6460" y="12162"/>
                  <a:pt x="6536" y="12138"/>
                  <a:pt x="6598" y="12229"/>
                </a:cubicBezTo>
                <a:cubicBezTo>
                  <a:pt x="6698" y="12375"/>
                  <a:pt x="6489" y="12418"/>
                  <a:pt x="6400" y="12427"/>
                </a:cubicBezTo>
                <a:cubicBezTo>
                  <a:pt x="6392" y="12427"/>
                  <a:pt x="6383" y="12427"/>
                  <a:pt x="6375" y="12427"/>
                </a:cubicBezTo>
              </a:path>
              <a:path w="3052" h="3052">
                <a:moveTo>
                  <a:pt x="5854" y="12675"/>
                </a:moveTo>
                <a:cubicBezTo>
                  <a:pt x="6085" y="12653"/>
                  <a:pt x="6345" y="12643"/>
                  <a:pt x="6573" y="12601"/>
                </a:cubicBezTo>
                <a:cubicBezTo>
                  <a:pt x="6581" y="12593"/>
                  <a:pt x="6590" y="12584"/>
                  <a:pt x="6598" y="12576"/>
                </a:cubicBezTo>
              </a:path>
              <a:path w="3052" h="3052">
                <a:moveTo>
                  <a:pt x="6127" y="12849"/>
                </a:moveTo>
                <a:cubicBezTo>
                  <a:pt x="6097" y="12914"/>
                  <a:pt x="6069" y="12979"/>
                  <a:pt x="6052" y="13047"/>
                </a:cubicBezTo>
                <a:cubicBezTo>
                  <a:pt x="6173" y="13047"/>
                  <a:pt x="6286" y="13051"/>
                  <a:pt x="6400" y="13022"/>
                </a:cubicBezTo>
              </a:path>
              <a:path w="3052" h="3052">
                <a:moveTo>
                  <a:pt x="6325" y="12849"/>
                </a:moveTo>
                <a:cubicBezTo>
                  <a:pt x="6297" y="12984"/>
                  <a:pt x="6284" y="13235"/>
                  <a:pt x="6201" y="13345"/>
                </a:cubicBezTo>
                <a:cubicBezTo>
                  <a:pt x="6193" y="13345"/>
                  <a:pt x="6184" y="13345"/>
                  <a:pt x="6176" y="13345"/>
                </a:cubicBezTo>
              </a:path>
              <a:path w="3052" h="3052">
                <a:moveTo>
                  <a:pt x="4936" y="13568"/>
                </a:moveTo>
                <a:cubicBezTo>
                  <a:pt x="4936" y="13576"/>
                  <a:pt x="4936" y="13585"/>
                  <a:pt x="4936" y="13593"/>
                </a:cubicBezTo>
                <a:cubicBezTo>
                  <a:pt x="4997" y="13602"/>
                  <a:pt x="5069" y="13596"/>
                  <a:pt x="5085" y="13643"/>
                </a:cubicBezTo>
                <a:cubicBezTo>
                  <a:pt x="5085" y="13635"/>
                  <a:pt x="5085" y="13626"/>
                  <a:pt x="5085" y="13618"/>
                </a:cubicBezTo>
              </a:path>
              <a:path w="3052" h="3052">
                <a:moveTo>
                  <a:pt x="5308" y="13568"/>
                </a:moveTo>
                <a:cubicBezTo>
                  <a:pt x="5282" y="13672"/>
                  <a:pt x="5309" y="13627"/>
                  <a:pt x="5383" y="13717"/>
                </a:cubicBezTo>
                <a:cubicBezTo>
                  <a:pt x="5444" y="13791"/>
                  <a:pt x="5408" y="13816"/>
                  <a:pt x="5358" y="13841"/>
                </a:cubicBezTo>
              </a:path>
              <a:path w="3052" h="3052">
                <a:moveTo>
                  <a:pt x="6772" y="12204"/>
                </a:moveTo>
                <a:cubicBezTo>
                  <a:pt x="6837" y="12195"/>
                  <a:pt x="6920" y="12192"/>
                  <a:pt x="6945" y="12154"/>
                </a:cubicBezTo>
              </a:path>
              <a:path w="3052" h="3052">
                <a:moveTo>
                  <a:pt x="7020" y="12080"/>
                </a:moveTo>
                <a:cubicBezTo>
                  <a:pt x="7040" y="12140"/>
                  <a:pt x="7157" y="12135"/>
                  <a:pt x="7193" y="12229"/>
                </a:cubicBezTo>
                <a:cubicBezTo>
                  <a:pt x="7231" y="12328"/>
                  <a:pt x="7154" y="12320"/>
                  <a:pt x="7094" y="12328"/>
                </a:cubicBezTo>
              </a:path>
              <a:path w="3052" h="3052">
                <a:moveTo>
                  <a:pt x="6003" y="12303"/>
                </a:moveTo>
                <a:cubicBezTo>
                  <a:pt x="6267" y="12273"/>
                  <a:pt x="6529" y="12278"/>
                  <a:pt x="6796" y="12278"/>
                </a:cubicBezTo>
                <a:cubicBezTo>
                  <a:pt x="6878" y="12278"/>
                  <a:pt x="7107" y="12265"/>
                  <a:pt x="7169" y="12303"/>
                </a:cubicBezTo>
              </a:path>
              <a:path w="3052" h="3052">
                <a:moveTo>
                  <a:pt x="6350" y="11559"/>
                </a:moveTo>
                <a:cubicBezTo>
                  <a:pt x="6425" y="11544"/>
                  <a:pt x="6486" y="11501"/>
                  <a:pt x="6548" y="11509"/>
                </a:cubicBezTo>
                <a:cubicBezTo>
                  <a:pt x="6537" y="11579"/>
                  <a:pt x="6522" y="11610"/>
                  <a:pt x="6474" y="11658"/>
                </a:cubicBezTo>
                <a:cubicBezTo>
                  <a:pt x="6620" y="11682"/>
                  <a:pt x="6573" y="11737"/>
                  <a:pt x="6474" y="11807"/>
                </a:cubicBezTo>
                <a:cubicBezTo>
                  <a:pt x="6430" y="11829"/>
                  <a:pt x="6419" y="11842"/>
                  <a:pt x="6400" y="11807"/>
                </a:cubicBezTo>
              </a:path>
              <a:path w="3052" h="3052">
                <a:moveTo>
                  <a:pt x="4490" y="13146"/>
                </a:moveTo>
                <a:cubicBezTo>
                  <a:pt x="4753" y="13302"/>
                  <a:pt x="5007" y="13485"/>
                  <a:pt x="5283" y="13618"/>
                </a:cubicBezTo>
                <a:cubicBezTo>
                  <a:pt x="5449" y="13680"/>
                  <a:pt x="5490" y="13679"/>
                  <a:pt x="5556" y="13767"/>
                </a:cubicBezTo>
              </a:path>
              <a:path w="3052" h="3052">
                <a:moveTo>
                  <a:pt x="4514" y="13990"/>
                </a:moveTo>
                <a:cubicBezTo>
                  <a:pt x="4514" y="14097"/>
                  <a:pt x="4457" y="14373"/>
                  <a:pt x="4490" y="14461"/>
                </a:cubicBezTo>
                <a:cubicBezTo>
                  <a:pt x="4498" y="14445"/>
                  <a:pt x="4506" y="14428"/>
                  <a:pt x="4514" y="14412"/>
                </a:cubicBezTo>
              </a:path>
              <a:path w="3052" h="3052">
                <a:moveTo>
                  <a:pt x="6573" y="13097"/>
                </a:moveTo>
                <a:cubicBezTo>
                  <a:pt x="6651" y="13084"/>
                  <a:pt x="6714" y="13072"/>
                  <a:pt x="6796" y="13072"/>
                </a:cubicBezTo>
              </a:path>
              <a:path w="3052" h="3052">
                <a:moveTo>
                  <a:pt x="6623" y="13221"/>
                </a:moveTo>
                <a:cubicBezTo>
                  <a:pt x="6664" y="13221"/>
                  <a:pt x="6672" y="13221"/>
                  <a:pt x="6697" y="13221"/>
                </a:cubicBezTo>
              </a:path>
              <a:path w="3052" h="3052">
                <a:moveTo>
                  <a:pt x="6945" y="12998"/>
                </a:moveTo>
                <a:cubicBezTo>
                  <a:pt x="6945" y="13046"/>
                  <a:pt x="6894" y="13121"/>
                  <a:pt x="6945" y="13146"/>
                </a:cubicBezTo>
                <a:cubicBezTo>
                  <a:pt x="7004" y="13146"/>
                  <a:pt x="7030" y="13143"/>
                  <a:pt x="7069" y="13122"/>
                </a:cubicBezTo>
              </a:path>
              <a:path w="3052" h="3052">
                <a:moveTo>
                  <a:pt x="5457" y="12129"/>
                </a:moveTo>
                <a:cubicBezTo>
                  <a:pt x="5457" y="12249"/>
                  <a:pt x="5499" y="12225"/>
                  <a:pt x="5581" y="12179"/>
                </a:cubicBezTo>
              </a:path>
              <a:path w="3052" h="3052">
                <a:moveTo>
                  <a:pt x="4440" y="12427"/>
                </a:moveTo>
                <a:cubicBezTo>
                  <a:pt x="4712" y="12337"/>
                  <a:pt x="4965" y="12288"/>
                  <a:pt x="5259" y="12254"/>
                </a:cubicBezTo>
                <a:cubicBezTo>
                  <a:pt x="5403" y="12237"/>
                  <a:pt x="5519" y="12224"/>
                  <a:pt x="5655" y="12204"/>
                </a:cubicBezTo>
              </a:path>
              <a:path w="3052" h="3052">
                <a:moveTo>
                  <a:pt x="4986" y="11410"/>
                </a:moveTo>
                <a:cubicBezTo>
                  <a:pt x="4897" y="11448"/>
                  <a:pt x="4833" y="11514"/>
                  <a:pt x="4762" y="11584"/>
                </a:cubicBezTo>
                <a:cubicBezTo>
                  <a:pt x="4850" y="11603"/>
                  <a:pt x="5114" y="11673"/>
                  <a:pt x="4986" y="11832"/>
                </a:cubicBezTo>
                <a:cubicBezTo>
                  <a:pt x="4896" y="11886"/>
                  <a:pt x="4895" y="11910"/>
                  <a:pt x="4837" y="11906"/>
                </a:cubicBezTo>
                <a:cubicBezTo>
                  <a:pt x="4869" y="11748"/>
                  <a:pt x="4895" y="11707"/>
                  <a:pt x="5011" y="11584"/>
                </a:cubicBezTo>
              </a:path>
              <a:path w="3052" h="3052">
                <a:moveTo>
                  <a:pt x="5631" y="13022"/>
                </a:moveTo>
                <a:cubicBezTo>
                  <a:pt x="5881" y="13022"/>
                  <a:pt x="6124" y="13030"/>
                  <a:pt x="6375" y="13047"/>
                </a:cubicBezTo>
                <a:cubicBezTo>
                  <a:pt x="6599" y="13062"/>
                  <a:pt x="6995" y="13097"/>
                  <a:pt x="6995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3120" y="379584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4093" y="10616"/>
                </a:moveTo>
                <a:cubicBezTo>
                  <a:pt x="4169" y="10693"/>
                  <a:pt x="4234" y="10776"/>
                  <a:pt x="4316" y="10840"/>
                </a:cubicBezTo>
              </a:path>
              <a:path w="224" h="323">
                <a:moveTo>
                  <a:pt x="4316" y="10542"/>
                </a:moveTo>
                <a:cubicBezTo>
                  <a:pt x="4252" y="10661"/>
                  <a:pt x="4198" y="10811"/>
                  <a:pt x="4093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08080" y="387504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3076" y="10840"/>
                </a:moveTo>
                <a:cubicBezTo>
                  <a:pt x="3120" y="10824"/>
                  <a:pt x="3365" y="10658"/>
                  <a:pt x="3349" y="10840"/>
                </a:cubicBezTo>
                <a:cubicBezTo>
                  <a:pt x="3305" y="10950"/>
                  <a:pt x="3296" y="10979"/>
                  <a:pt x="3249" y="11038"/>
                </a:cubicBezTo>
                <a:cubicBezTo>
                  <a:pt x="3292" y="11038"/>
                  <a:pt x="3317" y="11032"/>
                  <a:pt x="3349" y="11013"/>
                </a:cubicBezTo>
                <a:cubicBezTo>
                  <a:pt x="3388" y="11124"/>
                  <a:pt x="3407" y="11354"/>
                  <a:pt x="3200" y="11336"/>
                </a:cubicBezTo>
                <a:cubicBezTo>
                  <a:pt x="3167" y="11319"/>
                  <a:pt x="3134" y="11303"/>
                  <a:pt x="3101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97000" y="3295800"/>
            <a:ext cx="401760" cy="473040"/>
          </a:xfrm>
          <a:custGeom>
            <a:avLst/>
            <a:gdLst/>
            <a:ahLst/>
            <a:rect l="l" t="t" r="r" b="b"/>
            <a:pathLst>
              <a:path w="1117" h="1316">
                <a:moveTo>
                  <a:pt x="3497" y="10468"/>
                </a:moveTo>
                <a:cubicBezTo>
                  <a:pt x="3439" y="10372"/>
                  <a:pt x="3324" y="10237"/>
                  <a:pt x="3324" y="10120"/>
                </a:cubicBezTo>
                <a:cubicBezTo>
                  <a:pt x="3324" y="9963"/>
                  <a:pt x="3378" y="9710"/>
                  <a:pt x="3497" y="9599"/>
                </a:cubicBezTo>
                <a:cubicBezTo>
                  <a:pt x="3660" y="9447"/>
                  <a:pt x="3835" y="9426"/>
                  <a:pt x="4043" y="9426"/>
                </a:cubicBezTo>
                <a:cubicBezTo>
                  <a:pt x="4051" y="9426"/>
                  <a:pt x="4060" y="9426"/>
                  <a:pt x="4068" y="9426"/>
                </a:cubicBezTo>
              </a:path>
              <a:path w="1117" h="1316">
                <a:moveTo>
                  <a:pt x="4167" y="9153"/>
                </a:moveTo>
                <a:cubicBezTo>
                  <a:pt x="4188" y="9248"/>
                  <a:pt x="4234" y="9319"/>
                  <a:pt x="4242" y="9426"/>
                </a:cubicBezTo>
                <a:cubicBezTo>
                  <a:pt x="4242" y="9434"/>
                  <a:pt x="4242" y="9443"/>
                  <a:pt x="4242" y="9451"/>
                </a:cubicBezTo>
              </a:path>
              <a:path w="1117" h="1316">
                <a:moveTo>
                  <a:pt x="4043" y="9327"/>
                </a:moveTo>
                <a:cubicBezTo>
                  <a:pt x="4162" y="9279"/>
                  <a:pt x="4261" y="9277"/>
                  <a:pt x="4390" y="9277"/>
                </a:cubicBezTo>
                <a:cubicBezTo>
                  <a:pt x="4415" y="9277"/>
                  <a:pt x="4423" y="9277"/>
                  <a:pt x="4440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5800" y="3303720"/>
            <a:ext cx="312480" cy="723600"/>
          </a:xfrm>
          <a:custGeom>
            <a:avLst/>
            <a:gdLst/>
            <a:ahLst/>
            <a:rect l="l" t="t" r="r" b="b"/>
            <a:pathLst>
              <a:path w="869" h="2010">
                <a:moveTo>
                  <a:pt x="6573" y="10492"/>
                </a:moveTo>
                <a:cubicBezTo>
                  <a:pt x="6518" y="10572"/>
                  <a:pt x="6433" y="10657"/>
                  <a:pt x="6400" y="10740"/>
                </a:cubicBezTo>
              </a:path>
              <a:path w="869" h="2010">
                <a:moveTo>
                  <a:pt x="6077" y="10889"/>
                </a:moveTo>
                <a:cubicBezTo>
                  <a:pt x="6174" y="10902"/>
                  <a:pt x="6407" y="10976"/>
                  <a:pt x="6276" y="11137"/>
                </a:cubicBezTo>
                <a:cubicBezTo>
                  <a:pt x="6186" y="11182"/>
                  <a:pt x="6163" y="11202"/>
                  <a:pt x="6102" y="11162"/>
                </a:cubicBezTo>
                <a:cubicBezTo>
                  <a:pt x="6120" y="11154"/>
                  <a:pt x="6345" y="11064"/>
                  <a:pt x="6300" y="11162"/>
                </a:cubicBezTo>
                <a:cubicBezTo>
                  <a:pt x="6292" y="11162"/>
                  <a:pt x="6284" y="11162"/>
                  <a:pt x="6276" y="11162"/>
                </a:cubicBezTo>
              </a:path>
              <a:path w="869" h="2010">
                <a:moveTo>
                  <a:pt x="5978" y="10616"/>
                </a:moveTo>
                <a:cubicBezTo>
                  <a:pt x="5935" y="10510"/>
                  <a:pt x="5908" y="10409"/>
                  <a:pt x="5904" y="10294"/>
                </a:cubicBezTo>
                <a:cubicBezTo>
                  <a:pt x="5899" y="10152"/>
                  <a:pt x="5940" y="10036"/>
                  <a:pt x="5953" y="9897"/>
                </a:cubicBezTo>
                <a:cubicBezTo>
                  <a:pt x="5963" y="9784"/>
                  <a:pt x="5953" y="9690"/>
                  <a:pt x="6028" y="9599"/>
                </a:cubicBezTo>
                <a:cubicBezTo>
                  <a:pt x="6079" y="9537"/>
                  <a:pt x="6160" y="9494"/>
                  <a:pt x="6226" y="9451"/>
                </a:cubicBezTo>
                <a:cubicBezTo>
                  <a:pt x="6280" y="9416"/>
                  <a:pt x="6350" y="9385"/>
                  <a:pt x="6424" y="9376"/>
                </a:cubicBezTo>
                <a:cubicBezTo>
                  <a:pt x="6490" y="9376"/>
                  <a:pt x="6507" y="9376"/>
                  <a:pt x="6548" y="9376"/>
                </a:cubicBezTo>
              </a:path>
              <a:path w="869" h="2010">
                <a:moveTo>
                  <a:pt x="6672" y="9351"/>
                </a:moveTo>
                <a:cubicBezTo>
                  <a:pt x="6672" y="9284"/>
                  <a:pt x="6649" y="9518"/>
                  <a:pt x="6648" y="9525"/>
                </a:cubicBezTo>
                <a:cubicBezTo>
                  <a:pt x="6648" y="9533"/>
                  <a:pt x="6648" y="9542"/>
                  <a:pt x="6648" y="9550"/>
                </a:cubicBezTo>
              </a:path>
              <a:path w="869" h="2010">
                <a:moveTo>
                  <a:pt x="6548" y="9401"/>
                </a:moveTo>
                <a:cubicBezTo>
                  <a:pt x="6617" y="9387"/>
                  <a:pt x="6696" y="9325"/>
                  <a:pt x="6772" y="9351"/>
                </a:cubicBezTo>
                <a:cubicBezTo>
                  <a:pt x="6772" y="9359"/>
                  <a:pt x="6772" y="9368"/>
                  <a:pt x="6772" y="9376"/>
                </a:cubicBezTo>
              </a:path>
              <a:path w="869" h="2010">
                <a:moveTo>
                  <a:pt x="6722" y="9327"/>
                </a:moveTo>
                <a:cubicBezTo>
                  <a:pt x="6722" y="9271"/>
                  <a:pt x="6702" y="9293"/>
                  <a:pt x="6697" y="9252"/>
                </a:cubicBezTo>
                <a:cubicBezTo>
                  <a:pt x="6693" y="9219"/>
                  <a:pt x="6687" y="9148"/>
                  <a:pt x="6672" y="9178"/>
                </a:cubicBezTo>
                <a:cubicBezTo>
                  <a:pt x="6639" y="9244"/>
                  <a:pt x="6672" y="9374"/>
                  <a:pt x="6672" y="9451"/>
                </a:cubicBezTo>
              </a:path>
              <a:path w="869" h="2010">
                <a:moveTo>
                  <a:pt x="6524" y="9376"/>
                </a:moveTo>
                <a:cubicBezTo>
                  <a:pt x="6600" y="9337"/>
                  <a:pt x="6638" y="9368"/>
                  <a:pt x="6722" y="9376"/>
                </a:cubicBezTo>
                <a:cubicBezTo>
                  <a:pt x="6730" y="9376"/>
                  <a:pt x="6739" y="9376"/>
                  <a:pt x="6747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3840" y="4286160"/>
            <a:ext cx="1974960" cy="401760"/>
          </a:xfrm>
          <a:custGeom>
            <a:avLst/>
            <a:gdLst/>
            <a:ahLst/>
            <a:rect l="l" t="t" r="r" b="b"/>
            <a:pathLst>
              <a:path w="5482" h="1117">
                <a:moveTo>
                  <a:pt x="10294" y="12477"/>
                </a:moveTo>
                <a:cubicBezTo>
                  <a:pt x="10217" y="12655"/>
                  <a:pt x="10151" y="12836"/>
                  <a:pt x="10096" y="13022"/>
                </a:cubicBezTo>
              </a:path>
              <a:path w="5482" h="1117">
                <a:moveTo>
                  <a:pt x="10988" y="12030"/>
                </a:moveTo>
                <a:cubicBezTo>
                  <a:pt x="11025" y="12142"/>
                  <a:pt x="11051" y="12315"/>
                  <a:pt x="11137" y="12402"/>
                </a:cubicBezTo>
                <a:cubicBezTo>
                  <a:pt x="11137" y="12394"/>
                  <a:pt x="11137" y="12386"/>
                  <a:pt x="11137" y="12378"/>
                </a:cubicBezTo>
              </a:path>
              <a:path w="5482" h="1117">
                <a:moveTo>
                  <a:pt x="11683" y="12105"/>
                </a:moveTo>
                <a:cubicBezTo>
                  <a:pt x="11846" y="12080"/>
                  <a:pt x="12029" y="12024"/>
                  <a:pt x="12179" y="12080"/>
                </a:cubicBezTo>
              </a:path>
              <a:path w="5482" h="1117">
                <a:moveTo>
                  <a:pt x="12650" y="12229"/>
                </a:moveTo>
                <a:cubicBezTo>
                  <a:pt x="12800" y="12229"/>
                  <a:pt x="12850" y="12229"/>
                  <a:pt x="12948" y="12204"/>
                </a:cubicBezTo>
              </a:path>
              <a:path w="5482" h="1117">
                <a:moveTo>
                  <a:pt x="14536" y="11906"/>
                </a:moveTo>
                <a:lnTo>
                  <a:pt x="14536" y="11906"/>
                </a:lnTo>
              </a:path>
              <a:path w="5482" h="1117">
                <a:moveTo>
                  <a:pt x="15304" y="12080"/>
                </a:moveTo>
                <a:cubicBezTo>
                  <a:pt x="15424" y="12020"/>
                  <a:pt x="15479" y="11997"/>
                  <a:pt x="15577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2200" y="4089240"/>
            <a:ext cx="1081080" cy="527040"/>
          </a:xfrm>
          <a:custGeom>
            <a:avLst/>
            <a:gdLst/>
            <a:ahLst/>
            <a:rect l="l" t="t" r="r" b="b"/>
            <a:pathLst>
              <a:path w="3002" h="1464">
                <a:moveTo>
                  <a:pt x="10393" y="11410"/>
                </a:moveTo>
                <a:cubicBezTo>
                  <a:pt x="10225" y="11450"/>
                  <a:pt x="10117" y="11492"/>
                  <a:pt x="9971" y="11584"/>
                </a:cubicBezTo>
                <a:cubicBezTo>
                  <a:pt x="10056" y="11682"/>
                  <a:pt x="10364" y="11860"/>
                  <a:pt x="10220" y="12005"/>
                </a:cubicBezTo>
                <a:cubicBezTo>
                  <a:pt x="10109" y="12050"/>
                  <a:pt x="10080" y="12074"/>
                  <a:pt x="10021" y="12005"/>
                </a:cubicBezTo>
                <a:cubicBezTo>
                  <a:pt x="10120" y="11825"/>
                  <a:pt x="10288" y="11695"/>
                  <a:pt x="10393" y="11534"/>
                </a:cubicBezTo>
                <a:cubicBezTo>
                  <a:pt x="10385" y="11534"/>
                  <a:pt x="10376" y="11534"/>
                  <a:pt x="10368" y="11534"/>
                </a:cubicBezTo>
              </a:path>
              <a:path w="3002" h="1464">
                <a:moveTo>
                  <a:pt x="9897" y="12254"/>
                </a:moveTo>
                <a:cubicBezTo>
                  <a:pt x="10091" y="12238"/>
                  <a:pt x="10360" y="12176"/>
                  <a:pt x="10542" y="12229"/>
                </a:cubicBezTo>
                <a:cubicBezTo>
                  <a:pt x="10534" y="12229"/>
                  <a:pt x="10525" y="12229"/>
                  <a:pt x="10517" y="12229"/>
                </a:cubicBezTo>
              </a:path>
              <a:path w="3002" h="1464">
                <a:moveTo>
                  <a:pt x="11088" y="12105"/>
                </a:moveTo>
                <a:cubicBezTo>
                  <a:pt x="11052" y="12177"/>
                  <a:pt x="10865" y="12642"/>
                  <a:pt x="10914" y="12328"/>
                </a:cubicBezTo>
              </a:path>
              <a:path w="3002" h="1464">
                <a:moveTo>
                  <a:pt x="11708" y="11485"/>
                </a:moveTo>
                <a:cubicBezTo>
                  <a:pt x="11731" y="11470"/>
                  <a:pt x="12021" y="11289"/>
                  <a:pt x="12005" y="11385"/>
                </a:cubicBezTo>
                <a:cubicBezTo>
                  <a:pt x="11951" y="11495"/>
                  <a:pt x="11925" y="11534"/>
                  <a:pt x="11832" y="11559"/>
                </a:cubicBezTo>
                <a:cubicBezTo>
                  <a:pt x="11824" y="11567"/>
                  <a:pt x="11815" y="11576"/>
                  <a:pt x="11807" y="11584"/>
                </a:cubicBezTo>
                <a:cubicBezTo>
                  <a:pt x="11961" y="11562"/>
                  <a:pt x="11886" y="11561"/>
                  <a:pt x="12030" y="11633"/>
                </a:cubicBezTo>
                <a:cubicBezTo>
                  <a:pt x="11937" y="11807"/>
                  <a:pt x="11862" y="11834"/>
                  <a:pt x="11658" y="11807"/>
                </a:cubicBezTo>
              </a:path>
              <a:path w="3002" h="1464">
                <a:moveTo>
                  <a:pt x="11906" y="12328"/>
                </a:moveTo>
                <a:cubicBezTo>
                  <a:pt x="11870" y="12394"/>
                  <a:pt x="11670" y="12736"/>
                  <a:pt x="11708" y="12824"/>
                </a:cubicBezTo>
                <a:cubicBezTo>
                  <a:pt x="11724" y="12807"/>
                  <a:pt x="11741" y="12791"/>
                  <a:pt x="11757" y="12774"/>
                </a:cubicBezTo>
              </a:path>
              <a:path w="3002" h="1464">
                <a:moveTo>
                  <a:pt x="12650" y="12005"/>
                </a:moveTo>
                <a:cubicBezTo>
                  <a:pt x="12737" y="11986"/>
                  <a:pt x="12808" y="11981"/>
                  <a:pt x="12898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8840" y="3929040"/>
            <a:ext cx="1455480" cy="696960"/>
          </a:xfrm>
          <a:custGeom>
            <a:avLst/>
            <a:gdLst/>
            <a:ahLst/>
            <a:rect l="l" t="t" r="r" b="b"/>
            <a:pathLst>
              <a:path w="4044" h="1936">
                <a:moveTo>
                  <a:pt x="13866" y="11435"/>
                </a:moveTo>
                <a:cubicBezTo>
                  <a:pt x="13990" y="11320"/>
                  <a:pt x="14030" y="11293"/>
                  <a:pt x="14188" y="11261"/>
                </a:cubicBezTo>
                <a:cubicBezTo>
                  <a:pt x="14228" y="11565"/>
                  <a:pt x="14096" y="11746"/>
                  <a:pt x="13767" y="11832"/>
                </a:cubicBezTo>
                <a:cubicBezTo>
                  <a:pt x="13750" y="11824"/>
                  <a:pt x="13734" y="11815"/>
                  <a:pt x="13717" y="11807"/>
                </a:cubicBezTo>
                <a:cubicBezTo>
                  <a:pt x="13832" y="11709"/>
                  <a:pt x="14065" y="11500"/>
                  <a:pt x="14213" y="11708"/>
                </a:cubicBezTo>
                <a:cubicBezTo>
                  <a:pt x="14213" y="11752"/>
                  <a:pt x="14210" y="11772"/>
                  <a:pt x="14238" y="11733"/>
                </a:cubicBezTo>
              </a:path>
              <a:path w="4044" h="1936">
                <a:moveTo>
                  <a:pt x="14486" y="11311"/>
                </a:moveTo>
                <a:cubicBezTo>
                  <a:pt x="14540" y="11383"/>
                  <a:pt x="14477" y="11466"/>
                  <a:pt x="14486" y="11534"/>
                </a:cubicBezTo>
                <a:cubicBezTo>
                  <a:pt x="14508" y="11707"/>
                  <a:pt x="14764" y="11464"/>
                  <a:pt x="14784" y="11410"/>
                </a:cubicBezTo>
                <a:cubicBezTo>
                  <a:pt x="14792" y="11352"/>
                  <a:pt x="14800" y="11295"/>
                  <a:pt x="14808" y="11237"/>
                </a:cubicBezTo>
              </a:path>
              <a:path w="4044" h="1936">
                <a:moveTo>
                  <a:pt x="14759" y="11063"/>
                </a:moveTo>
                <a:cubicBezTo>
                  <a:pt x="14692" y="11346"/>
                  <a:pt x="14627" y="11630"/>
                  <a:pt x="14536" y="11906"/>
                </a:cubicBezTo>
              </a:path>
              <a:path w="4044" h="1936">
                <a:moveTo>
                  <a:pt x="13841" y="12055"/>
                </a:moveTo>
                <a:cubicBezTo>
                  <a:pt x="14011" y="11970"/>
                  <a:pt x="14349" y="11952"/>
                  <a:pt x="14536" y="11931"/>
                </a:cubicBezTo>
                <a:cubicBezTo>
                  <a:pt x="14784" y="11912"/>
                  <a:pt x="14816" y="11903"/>
                  <a:pt x="14957" y="11906"/>
                </a:cubicBezTo>
              </a:path>
              <a:path w="4044" h="1936">
                <a:moveTo>
                  <a:pt x="14288" y="12229"/>
                </a:moveTo>
                <a:cubicBezTo>
                  <a:pt x="14258" y="12408"/>
                  <a:pt x="14146" y="12932"/>
                  <a:pt x="14139" y="12750"/>
                </a:cubicBezTo>
                <a:cubicBezTo>
                  <a:pt x="14147" y="12725"/>
                  <a:pt x="14155" y="12700"/>
                  <a:pt x="14163" y="12675"/>
                </a:cubicBezTo>
              </a:path>
              <a:path w="4044" h="1936">
                <a:moveTo>
                  <a:pt x="15230" y="11956"/>
                </a:moveTo>
                <a:cubicBezTo>
                  <a:pt x="15332" y="11941"/>
                  <a:pt x="15423" y="11931"/>
                  <a:pt x="15528" y="11931"/>
                </a:cubicBezTo>
              </a:path>
              <a:path w="4044" h="1936">
                <a:moveTo>
                  <a:pt x="16321" y="11609"/>
                </a:moveTo>
                <a:cubicBezTo>
                  <a:pt x="16299" y="11631"/>
                  <a:pt x="16291" y="11642"/>
                  <a:pt x="16297" y="11609"/>
                </a:cubicBezTo>
                <a:cubicBezTo>
                  <a:pt x="16569" y="11506"/>
                  <a:pt x="16622" y="11733"/>
                  <a:pt x="16470" y="11981"/>
                </a:cubicBezTo>
                <a:cubicBezTo>
                  <a:pt x="16295" y="12156"/>
                  <a:pt x="16261" y="12213"/>
                  <a:pt x="16098" y="12229"/>
                </a:cubicBezTo>
                <a:cubicBezTo>
                  <a:pt x="16111" y="12028"/>
                  <a:pt x="16213" y="11969"/>
                  <a:pt x="16421" y="12080"/>
                </a:cubicBezTo>
                <a:cubicBezTo>
                  <a:pt x="16460" y="12119"/>
                  <a:pt x="16461" y="12135"/>
                  <a:pt x="16495" y="12129"/>
                </a:cubicBezTo>
              </a:path>
              <a:path w="4044" h="1936">
                <a:moveTo>
                  <a:pt x="16842" y="11658"/>
                </a:moveTo>
                <a:cubicBezTo>
                  <a:pt x="16829" y="11751"/>
                  <a:pt x="16742" y="11957"/>
                  <a:pt x="16966" y="11906"/>
                </a:cubicBezTo>
                <a:cubicBezTo>
                  <a:pt x="17016" y="11873"/>
                  <a:pt x="17065" y="11840"/>
                  <a:pt x="17115" y="11807"/>
                </a:cubicBezTo>
              </a:path>
              <a:path w="4044" h="1936">
                <a:moveTo>
                  <a:pt x="17140" y="11460"/>
                </a:moveTo>
                <a:cubicBezTo>
                  <a:pt x="17101" y="11731"/>
                  <a:pt x="17059" y="11971"/>
                  <a:pt x="16966" y="12229"/>
                </a:cubicBezTo>
              </a:path>
              <a:path w="4044" h="1936">
                <a:moveTo>
                  <a:pt x="15429" y="12502"/>
                </a:moveTo>
                <a:cubicBezTo>
                  <a:pt x="15743" y="12712"/>
                  <a:pt x="16177" y="12849"/>
                  <a:pt x="16570" y="12849"/>
                </a:cubicBezTo>
                <a:cubicBezTo>
                  <a:pt x="17010" y="12849"/>
                  <a:pt x="17688" y="12581"/>
                  <a:pt x="17760" y="12080"/>
                </a:cubicBezTo>
                <a:cubicBezTo>
                  <a:pt x="17843" y="11501"/>
                  <a:pt x="17282" y="10966"/>
                  <a:pt x="16743" y="10914"/>
                </a:cubicBezTo>
                <a:cubicBezTo>
                  <a:pt x="16043" y="10846"/>
                  <a:pt x="15243" y="11469"/>
                  <a:pt x="15404" y="12229"/>
                </a:cubicBezTo>
                <a:cubicBezTo>
                  <a:pt x="15647" y="12553"/>
                  <a:pt x="15755" y="12653"/>
                  <a:pt x="16098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26, 20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at you know how to multiply fractions and mixed numbers, here is a tip that might make some of your problems easier to solv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o see if you can cross simplify before you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23880" y="4952880"/>
                <a:ext cx="1067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795320" y="5000760"/>
            <a:ext cx="4017960" cy="830160"/>
          </a:xfrm>
          <a:custGeom>
            <a:avLst/>
            <a:gdLst/>
            <a:ahLst/>
            <a:rect l="l" t="t" r="r" b="b"/>
            <a:pathLst>
              <a:path w="11163" h="2307">
                <a:moveTo>
                  <a:pt x="5011" y="14188"/>
                </a:moveTo>
                <a:lnTo>
                  <a:pt x="5011" y="14188"/>
                </a:lnTo>
              </a:path>
              <a:path w="11163" h="2307">
                <a:moveTo>
                  <a:pt x="4986" y="14511"/>
                </a:moveTo>
                <a:cubicBezTo>
                  <a:pt x="4986" y="14519"/>
                  <a:pt x="4986" y="14528"/>
                  <a:pt x="4986" y="14536"/>
                </a:cubicBezTo>
              </a:path>
              <a:path w="11163" h="2307">
                <a:moveTo>
                  <a:pt x="6970" y="15875"/>
                </a:moveTo>
                <a:lnTo>
                  <a:pt x="6970" y="15875"/>
                </a:lnTo>
                <a:lnTo>
                  <a:pt x="6970" y="15875"/>
                </a:lnTo>
              </a:path>
              <a:path w="11163" h="2307">
                <a:moveTo>
                  <a:pt x="6970" y="15875"/>
                </a:moveTo>
                <a:lnTo>
                  <a:pt x="6970" y="15875"/>
                </a:lnTo>
              </a:path>
              <a:path w="11163" h="2307">
                <a:moveTo>
                  <a:pt x="6921" y="16197"/>
                </a:moveTo>
                <a:lnTo>
                  <a:pt x="6921" y="16197"/>
                </a:lnTo>
              </a:path>
              <a:path w="11163" h="2307">
                <a:moveTo>
                  <a:pt x="7317" y="13891"/>
                </a:moveTo>
                <a:cubicBezTo>
                  <a:pt x="7317" y="13907"/>
                  <a:pt x="7317" y="13924"/>
                  <a:pt x="7317" y="13940"/>
                </a:cubicBezTo>
              </a:path>
              <a:path w="11163" h="2307">
                <a:moveTo>
                  <a:pt x="7317" y="13940"/>
                </a:moveTo>
                <a:lnTo>
                  <a:pt x="7317" y="13940"/>
                </a:lnTo>
              </a:path>
              <a:path w="11163" h="2307">
                <a:moveTo>
                  <a:pt x="7293" y="14362"/>
                </a:moveTo>
                <a:lnTo>
                  <a:pt x="7293" y="14362"/>
                </a:lnTo>
              </a:path>
              <a:path w="11163" h="2307">
                <a:moveTo>
                  <a:pt x="5135" y="15701"/>
                </a:moveTo>
                <a:cubicBezTo>
                  <a:pt x="5135" y="15718"/>
                  <a:pt x="5135" y="15734"/>
                  <a:pt x="5135" y="15751"/>
                </a:cubicBezTo>
              </a:path>
              <a:path w="11163" h="2307">
                <a:moveTo>
                  <a:pt x="5135" y="15751"/>
                </a:moveTo>
                <a:lnTo>
                  <a:pt x="5135" y="15751"/>
                </a:lnTo>
              </a:path>
              <a:path w="11163" h="2307">
                <a:moveTo>
                  <a:pt x="5135" y="16073"/>
                </a:moveTo>
                <a:lnTo>
                  <a:pt x="5135" y="16073"/>
                </a:lnTo>
              </a:path>
              <a:path w="11163" h="2307">
                <a:moveTo>
                  <a:pt x="13965" y="14560"/>
                </a:moveTo>
                <a:cubicBezTo>
                  <a:pt x="14139" y="14535"/>
                  <a:pt x="14312" y="14512"/>
                  <a:pt x="14486" y="14486"/>
                </a:cubicBezTo>
              </a:path>
              <a:path w="11163" h="2307">
                <a:moveTo>
                  <a:pt x="14486" y="14486"/>
                </a:moveTo>
                <a:lnTo>
                  <a:pt x="14486" y="14486"/>
                </a:lnTo>
              </a:path>
              <a:path w="11163" h="2307">
                <a:moveTo>
                  <a:pt x="14982" y="14486"/>
                </a:moveTo>
                <a:cubicBezTo>
                  <a:pt x="15347" y="14435"/>
                  <a:pt x="15705" y="14348"/>
                  <a:pt x="16073" y="14312"/>
                </a:cubicBezTo>
                <a:cubicBezTo>
                  <a:pt x="16098" y="14312"/>
                  <a:pt x="16123" y="14312"/>
                  <a:pt x="1614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71760" y="4687920"/>
            <a:ext cx="1339560" cy="1546200"/>
          </a:xfrm>
          <a:custGeom>
            <a:avLst/>
            <a:gdLst/>
            <a:ahLst/>
            <a:rect l="l" t="t" r="r" b="b"/>
            <a:pathLst>
              <a:path w="3721" h="4293">
                <a:moveTo>
                  <a:pt x="5011" y="14337"/>
                </a:moveTo>
                <a:cubicBezTo>
                  <a:pt x="5069" y="14337"/>
                  <a:pt x="5126" y="14337"/>
                  <a:pt x="5184" y="14337"/>
                </a:cubicBezTo>
              </a:path>
              <a:path w="3721" h="4293">
                <a:moveTo>
                  <a:pt x="5234" y="14163"/>
                </a:moveTo>
                <a:cubicBezTo>
                  <a:pt x="5292" y="14118"/>
                  <a:pt x="5308" y="14101"/>
                  <a:pt x="5383" y="14089"/>
                </a:cubicBezTo>
                <a:cubicBezTo>
                  <a:pt x="5370" y="14250"/>
                  <a:pt x="5263" y="14329"/>
                  <a:pt x="5234" y="14461"/>
                </a:cubicBezTo>
                <a:cubicBezTo>
                  <a:pt x="5218" y="14532"/>
                  <a:pt x="5361" y="14403"/>
                  <a:pt x="5432" y="14387"/>
                </a:cubicBezTo>
              </a:path>
              <a:path w="3721" h="4293">
                <a:moveTo>
                  <a:pt x="6871" y="16098"/>
                </a:moveTo>
                <a:cubicBezTo>
                  <a:pt x="6932" y="16119"/>
                  <a:pt x="6980" y="16123"/>
                  <a:pt x="7045" y="16123"/>
                </a:cubicBezTo>
                <a:cubicBezTo>
                  <a:pt x="7069" y="16123"/>
                  <a:pt x="7077" y="16123"/>
                  <a:pt x="7069" y="16098"/>
                </a:cubicBezTo>
              </a:path>
              <a:path w="3721" h="4293">
                <a:moveTo>
                  <a:pt x="7193" y="16024"/>
                </a:moveTo>
                <a:cubicBezTo>
                  <a:pt x="7282" y="16024"/>
                  <a:pt x="7372" y="15991"/>
                  <a:pt x="7417" y="16073"/>
                </a:cubicBezTo>
                <a:cubicBezTo>
                  <a:pt x="7482" y="16191"/>
                  <a:pt x="7295" y="16233"/>
                  <a:pt x="7293" y="16297"/>
                </a:cubicBezTo>
                <a:cubicBezTo>
                  <a:pt x="7292" y="16326"/>
                  <a:pt x="7495" y="16232"/>
                  <a:pt x="7516" y="16222"/>
                </a:cubicBezTo>
              </a:path>
              <a:path w="3721" h="4293">
                <a:moveTo>
                  <a:pt x="5581" y="14064"/>
                </a:moveTo>
                <a:cubicBezTo>
                  <a:pt x="5329" y="14212"/>
                  <a:pt x="5096" y="14412"/>
                  <a:pt x="4837" y="14560"/>
                </a:cubicBezTo>
                <a:cubicBezTo>
                  <a:pt x="4760" y="14604"/>
                  <a:pt x="4605" y="14666"/>
                  <a:pt x="4514" y="14709"/>
                </a:cubicBezTo>
              </a:path>
              <a:path w="3721" h="4293">
                <a:moveTo>
                  <a:pt x="5209" y="13022"/>
                </a:moveTo>
                <a:cubicBezTo>
                  <a:pt x="5209" y="13186"/>
                  <a:pt x="5154" y="13378"/>
                  <a:pt x="5135" y="13543"/>
                </a:cubicBezTo>
                <a:cubicBezTo>
                  <a:pt x="5115" y="13726"/>
                  <a:pt x="5116" y="13761"/>
                  <a:pt x="5085" y="13866"/>
                </a:cubicBezTo>
              </a:path>
              <a:path w="3721" h="4293">
                <a:moveTo>
                  <a:pt x="6424" y="15726"/>
                </a:moveTo>
                <a:cubicBezTo>
                  <a:pt x="6630" y="15800"/>
                  <a:pt x="6787" y="16015"/>
                  <a:pt x="6945" y="16173"/>
                </a:cubicBezTo>
                <a:cubicBezTo>
                  <a:pt x="6994" y="16222"/>
                  <a:pt x="7091" y="16351"/>
                  <a:pt x="7169" y="16371"/>
                </a:cubicBezTo>
              </a:path>
              <a:path w="3721" h="4293">
                <a:moveTo>
                  <a:pt x="6350" y="16570"/>
                </a:moveTo>
                <a:cubicBezTo>
                  <a:pt x="6403" y="16445"/>
                  <a:pt x="6576" y="16493"/>
                  <a:pt x="6623" y="16644"/>
                </a:cubicBezTo>
                <a:cubicBezTo>
                  <a:pt x="6696" y="16875"/>
                  <a:pt x="6501" y="17256"/>
                  <a:pt x="6251" y="17289"/>
                </a:cubicBezTo>
                <a:cubicBezTo>
                  <a:pt x="6218" y="17272"/>
                  <a:pt x="6185" y="17256"/>
                  <a:pt x="6152" y="17239"/>
                </a:cubicBezTo>
                <a:cubicBezTo>
                  <a:pt x="6118" y="17114"/>
                  <a:pt x="6167" y="16931"/>
                  <a:pt x="6375" y="17016"/>
                </a:cubicBezTo>
                <a:cubicBezTo>
                  <a:pt x="6480" y="17059"/>
                  <a:pt x="6589" y="17177"/>
                  <a:pt x="6598" y="17289"/>
                </a:cubicBezTo>
                <a:cubicBezTo>
                  <a:pt x="6598" y="17297"/>
                  <a:pt x="6598" y="17306"/>
                  <a:pt x="6598" y="17314"/>
                </a:cubicBezTo>
              </a:path>
              <a:path w="3721" h="4293">
                <a:moveTo>
                  <a:pt x="7218" y="14188"/>
                </a:moveTo>
                <a:cubicBezTo>
                  <a:pt x="7286" y="14188"/>
                  <a:pt x="7339" y="14170"/>
                  <a:pt x="7392" y="14188"/>
                </a:cubicBezTo>
              </a:path>
              <a:path w="3721" h="4293">
                <a:moveTo>
                  <a:pt x="7590" y="13891"/>
                </a:moveTo>
                <a:cubicBezTo>
                  <a:pt x="7697" y="13853"/>
                  <a:pt x="7757" y="13833"/>
                  <a:pt x="7863" y="13841"/>
                </a:cubicBezTo>
                <a:cubicBezTo>
                  <a:pt x="7814" y="13931"/>
                  <a:pt x="7776" y="13979"/>
                  <a:pt x="7689" y="14039"/>
                </a:cubicBezTo>
                <a:cubicBezTo>
                  <a:pt x="7817" y="14055"/>
                  <a:pt x="8021" y="14099"/>
                  <a:pt x="7838" y="14263"/>
                </a:cubicBezTo>
                <a:cubicBezTo>
                  <a:pt x="7724" y="14308"/>
                  <a:pt x="7693" y="14327"/>
                  <a:pt x="7615" y="14288"/>
                </a:cubicBezTo>
              </a:path>
              <a:path w="3721" h="4293">
                <a:moveTo>
                  <a:pt x="5110" y="15949"/>
                </a:moveTo>
                <a:cubicBezTo>
                  <a:pt x="5040" y="15915"/>
                  <a:pt x="5232" y="15925"/>
                  <a:pt x="5259" y="15925"/>
                </a:cubicBezTo>
              </a:path>
              <a:path w="3721" h="4293">
                <a:moveTo>
                  <a:pt x="5407" y="15776"/>
                </a:moveTo>
                <a:cubicBezTo>
                  <a:pt x="5460" y="15765"/>
                  <a:pt x="5499" y="15751"/>
                  <a:pt x="5556" y="15751"/>
                </a:cubicBezTo>
                <a:cubicBezTo>
                  <a:pt x="5532" y="15809"/>
                  <a:pt x="5500" y="15869"/>
                  <a:pt x="5482" y="15925"/>
                </a:cubicBezTo>
                <a:cubicBezTo>
                  <a:pt x="5530" y="15946"/>
                  <a:pt x="5722" y="16028"/>
                  <a:pt x="5556" y="16098"/>
                </a:cubicBezTo>
                <a:cubicBezTo>
                  <a:pt x="5467" y="16098"/>
                  <a:pt x="5441" y="16105"/>
                  <a:pt x="5407" y="16049"/>
                </a:cubicBezTo>
              </a:path>
              <a:path w="3721" h="4293">
                <a:moveTo>
                  <a:pt x="6325" y="14709"/>
                </a:moveTo>
                <a:cubicBezTo>
                  <a:pt x="6629" y="14561"/>
                  <a:pt x="6955" y="14428"/>
                  <a:pt x="7268" y="14288"/>
                </a:cubicBezTo>
                <a:cubicBezTo>
                  <a:pt x="7550" y="14162"/>
                  <a:pt x="7790" y="14060"/>
                  <a:pt x="8086" y="13990"/>
                </a:cubicBezTo>
              </a:path>
              <a:path w="3721" h="4293">
                <a:moveTo>
                  <a:pt x="6896" y="13171"/>
                </a:moveTo>
                <a:cubicBezTo>
                  <a:pt x="6870" y="13299"/>
                  <a:pt x="6870" y="13434"/>
                  <a:pt x="6846" y="13568"/>
                </a:cubicBezTo>
                <a:cubicBezTo>
                  <a:pt x="6820" y="13713"/>
                  <a:pt x="6798" y="13661"/>
                  <a:pt x="6871" y="13643"/>
                </a:cubicBezTo>
              </a:path>
              <a:path w="3721" h="4293">
                <a:moveTo>
                  <a:pt x="4366" y="15825"/>
                </a:moveTo>
                <a:cubicBezTo>
                  <a:pt x="4392" y="15799"/>
                  <a:pt x="4645" y="15872"/>
                  <a:pt x="4713" y="15875"/>
                </a:cubicBezTo>
                <a:cubicBezTo>
                  <a:pt x="5004" y="15888"/>
                  <a:pt x="5271" y="15893"/>
                  <a:pt x="5556" y="15949"/>
                </a:cubicBezTo>
                <a:cubicBezTo>
                  <a:pt x="5564" y="15949"/>
                  <a:pt x="5573" y="15949"/>
                  <a:pt x="5581" y="15949"/>
                </a:cubicBezTo>
              </a:path>
              <a:path w="3721" h="4293">
                <a:moveTo>
                  <a:pt x="4415" y="16272"/>
                </a:moveTo>
                <a:cubicBezTo>
                  <a:pt x="4590" y="16272"/>
                  <a:pt x="4665" y="16273"/>
                  <a:pt x="4787" y="16396"/>
                </a:cubicBezTo>
                <a:cubicBezTo>
                  <a:pt x="4690" y="16527"/>
                  <a:pt x="4629" y="16622"/>
                  <a:pt x="4465" y="16669"/>
                </a:cubicBezTo>
                <a:cubicBezTo>
                  <a:pt x="4633" y="16612"/>
                  <a:pt x="4710" y="16591"/>
                  <a:pt x="4812" y="16718"/>
                </a:cubicBezTo>
                <a:cubicBezTo>
                  <a:pt x="4727" y="16854"/>
                  <a:pt x="4635" y="17003"/>
                  <a:pt x="4440" y="16966"/>
                </a:cubicBezTo>
                <a:cubicBezTo>
                  <a:pt x="4440" y="16942"/>
                  <a:pt x="4440" y="16934"/>
                  <a:pt x="4415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2120" y="4643280"/>
            <a:ext cx="2143080" cy="947880"/>
          </a:xfrm>
          <a:custGeom>
            <a:avLst/>
            <a:gdLst/>
            <a:ahLst/>
            <a:rect l="l" t="t" r="r" b="b"/>
            <a:pathLst>
              <a:path w="5954" h="2631">
                <a:moveTo>
                  <a:pt x="10889" y="13593"/>
                </a:moveTo>
                <a:cubicBezTo>
                  <a:pt x="10930" y="13756"/>
                  <a:pt x="10936" y="13936"/>
                  <a:pt x="10939" y="14114"/>
                </a:cubicBezTo>
                <a:cubicBezTo>
                  <a:pt x="10939" y="14225"/>
                  <a:pt x="10966" y="14248"/>
                  <a:pt x="10914" y="14288"/>
                </a:cubicBezTo>
              </a:path>
              <a:path w="5954" h="2631">
                <a:moveTo>
                  <a:pt x="10368" y="14461"/>
                </a:moveTo>
                <a:cubicBezTo>
                  <a:pt x="10705" y="14390"/>
                  <a:pt x="11039" y="14367"/>
                  <a:pt x="11385" y="14362"/>
                </a:cubicBezTo>
                <a:cubicBezTo>
                  <a:pt x="11479" y="14362"/>
                  <a:pt x="11500" y="14341"/>
                  <a:pt x="11534" y="14387"/>
                </a:cubicBezTo>
              </a:path>
              <a:path w="5954" h="2631">
                <a:moveTo>
                  <a:pt x="10716" y="14709"/>
                </a:moveTo>
                <a:cubicBezTo>
                  <a:pt x="10754" y="14632"/>
                  <a:pt x="10919" y="14580"/>
                  <a:pt x="11013" y="14610"/>
                </a:cubicBezTo>
                <a:cubicBezTo>
                  <a:pt x="11021" y="14627"/>
                  <a:pt x="11030" y="14643"/>
                  <a:pt x="11038" y="14660"/>
                </a:cubicBezTo>
                <a:cubicBezTo>
                  <a:pt x="11002" y="14867"/>
                  <a:pt x="10952" y="14915"/>
                  <a:pt x="10740" y="14957"/>
                </a:cubicBezTo>
                <a:cubicBezTo>
                  <a:pt x="10883" y="14914"/>
                  <a:pt x="11046" y="14952"/>
                  <a:pt x="11088" y="15131"/>
                </a:cubicBezTo>
                <a:cubicBezTo>
                  <a:pt x="11139" y="15346"/>
                  <a:pt x="10839" y="15369"/>
                  <a:pt x="10716" y="15379"/>
                </a:cubicBezTo>
                <a:cubicBezTo>
                  <a:pt x="10667" y="15383"/>
                  <a:pt x="10693" y="15362"/>
                  <a:pt x="10716" y="15354"/>
                </a:cubicBezTo>
              </a:path>
              <a:path w="5954" h="2631">
                <a:moveTo>
                  <a:pt x="11857" y="14188"/>
                </a:moveTo>
                <a:cubicBezTo>
                  <a:pt x="11943" y="14380"/>
                  <a:pt x="12063" y="14551"/>
                  <a:pt x="12154" y="14734"/>
                </a:cubicBezTo>
                <a:cubicBezTo>
                  <a:pt x="12154" y="14742"/>
                  <a:pt x="12154" y="14751"/>
                  <a:pt x="12154" y="14759"/>
                </a:cubicBezTo>
              </a:path>
              <a:path w="5954" h="2631">
                <a:moveTo>
                  <a:pt x="12154" y="14213"/>
                </a:moveTo>
                <a:cubicBezTo>
                  <a:pt x="12037" y="14394"/>
                  <a:pt x="11611" y="14849"/>
                  <a:pt x="11807" y="14759"/>
                </a:cubicBezTo>
                <a:cubicBezTo>
                  <a:pt x="11832" y="14734"/>
                  <a:pt x="11856" y="14709"/>
                  <a:pt x="11881" y="14684"/>
                </a:cubicBezTo>
              </a:path>
              <a:path w="5954" h="2631">
                <a:moveTo>
                  <a:pt x="13122" y="13543"/>
                </a:moveTo>
                <a:cubicBezTo>
                  <a:pt x="13143" y="13773"/>
                  <a:pt x="13179" y="14013"/>
                  <a:pt x="13146" y="14238"/>
                </a:cubicBezTo>
                <a:cubicBezTo>
                  <a:pt x="13146" y="14230"/>
                  <a:pt x="13146" y="14221"/>
                  <a:pt x="13146" y="14213"/>
                </a:cubicBezTo>
              </a:path>
              <a:path w="5954" h="2631">
                <a:moveTo>
                  <a:pt x="12849" y="14387"/>
                </a:moveTo>
                <a:cubicBezTo>
                  <a:pt x="13094" y="14347"/>
                  <a:pt x="13320" y="14312"/>
                  <a:pt x="13568" y="14312"/>
                </a:cubicBezTo>
                <a:cubicBezTo>
                  <a:pt x="13576" y="14312"/>
                  <a:pt x="13585" y="14312"/>
                  <a:pt x="13593" y="14312"/>
                </a:cubicBezTo>
              </a:path>
              <a:path w="5954" h="2631">
                <a:moveTo>
                  <a:pt x="12973" y="14660"/>
                </a:moveTo>
                <a:cubicBezTo>
                  <a:pt x="13095" y="14631"/>
                  <a:pt x="13208" y="14587"/>
                  <a:pt x="13320" y="14635"/>
                </a:cubicBezTo>
                <a:cubicBezTo>
                  <a:pt x="13321" y="14853"/>
                  <a:pt x="13157" y="14953"/>
                  <a:pt x="12998" y="15106"/>
                </a:cubicBezTo>
                <a:cubicBezTo>
                  <a:pt x="12907" y="15197"/>
                  <a:pt x="12899" y="15205"/>
                  <a:pt x="12849" y="15255"/>
                </a:cubicBezTo>
                <a:cubicBezTo>
                  <a:pt x="12982" y="15255"/>
                  <a:pt x="13088" y="15177"/>
                  <a:pt x="13221" y="15156"/>
                </a:cubicBezTo>
                <a:cubicBezTo>
                  <a:pt x="13329" y="15139"/>
                  <a:pt x="13442" y="15135"/>
                  <a:pt x="13543" y="15156"/>
                </a:cubicBezTo>
              </a:path>
              <a:path w="5954" h="2631">
                <a:moveTo>
                  <a:pt x="14039" y="14263"/>
                </a:moveTo>
                <a:cubicBezTo>
                  <a:pt x="14209" y="14221"/>
                  <a:pt x="14367" y="14192"/>
                  <a:pt x="14536" y="14213"/>
                </a:cubicBezTo>
              </a:path>
              <a:path w="5954" h="2631">
                <a:moveTo>
                  <a:pt x="15404" y="13593"/>
                </a:moveTo>
                <a:cubicBezTo>
                  <a:pt x="15404" y="13795"/>
                  <a:pt x="15410" y="13952"/>
                  <a:pt x="15478" y="14139"/>
                </a:cubicBezTo>
              </a:path>
              <a:path w="5954" h="2631">
                <a:moveTo>
                  <a:pt x="15429" y="14585"/>
                </a:moveTo>
                <a:cubicBezTo>
                  <a:pt x="15353" y="14610"/>
                  <a:pt x="15291" y="14922"/>
                  <a:pt x="15280" y="15007"/>
                </a:cubicBezTo>
                <a:cubicBezTo>
                  <a:pt x="15280" y="15164"/>
                  <a:pt x="15267" y="15212"/>
                  <a:pt x="15379" y="15255"/>
                </a:cubicBezTo>
                <a:cubicBezTo>
                  <a:pt x="15548" y="15185"/>
                  <a:pt x="15691" y="15095"/>
                  <a:pt x="15701" y="14883"/>
                </a:cubicBezTo>
                <a:cubicBezTo>
                  <a:pt x="15693" y="14875"/>
                  <a:pt x="15685" y="14866"/>
                  <a:pt x="15677" y="14858"/>
                </a:cubicBezTo>
                <a:cubicBezTo>
                  <a:pt x="15514" y="14845"/>
                  <a:pt x="15402" y="14930"/>
                  <a:pt x="15453" y="15131"/>
                </a:cubicBezTo>
                <a:cubicBezTo>
                  <a:pt x="15470" y="15147"/>
                  <a:pt x="15486" y="15164"/>
                  <a:pt x="15503" y="15180"/>
                </a:cubicBezTo>
              </a:path>
              <a:path w="5954" h="2631">
                <a:moveTo>
                  <a:pt x="14684" y="13295"/>
                </a:moveTo>
                <a:cubicBezTo>
                  <a:pt x="14684" y="13580"/>
                  <a:pt x="14708" y="13856"/>
                  <a:pt x="14734" y="14139"/>
                </a:cubicBezTo>
                <a:cubicBezTo>
                  <a:pt x="14761" y="14428"/>
                  <a:pt x="14813" y="14718"/>
                  <a:pt x="14833" y="15007"/>
                </a:cubicBezTo>
                <a:cubicBezTo>
                  <a:pt x="14846" y="15203"/>
                  <a:pt x="14863" y="15313"/>
                  <a:pt x="15032" y="15429"/>
                </a:cubicBezTo>
                <a:cubicBezTo>
                  <a:pt x="15172" y="15526"/>
                  <a:pt x="15335" y="15550"/>
                  <a:pt x="15503" y="15528"/>
                </a:cubicBezTo>
                <a:cubicBezTo>
                  <a:pt x="15631" y="15511"/>
                  <a:pt x="15819" y="15417"/>
                  <a:pt x="15925" y="15354"/>
                </a:cubicBezTo>
                <a:cubicBezTo>
                  <a:pt x="15996" y="15311"/>
                  <a:pt x="16127" y="15257"/>
                  <a:pt x="16173" y="15180"/>
                </a:cubicBezTo>
                <a:cubicBezTo>
                  <a:pt x="16247" y="15058"/>
                  <a:pt x="16306" y="14961"/>
                  <a:pt x="16321" y="14808"/>
                </a:cubicBezTo>
                <a:cubicBezTo>
                  <a:pt x="16339" y="14626"/>
                  <a:pt x="16287" y="14466"/>
                  <a:pt x="16272" y="14288"/>
                </a:cubicBezTo>
                <a:cubicBezTo>
                  <a:pt x="16258" y="14119"/>
                  <a:pt x="16283" y="13958"/>
                  <a:pt x="16247" y="13791"/>
                </a:cubicBezTo>
                <a:cubicBezTo>
                  <a:pt x="16217" y="13654"/>
                  <a:pt x="16168" y="13527"/>
                  <a:pt x="16123" y="13395"/>
                </a:cubicBezTo>
                <a:cubicBezTo>
                  <a:pt x="16076" y="13257"/>
                  <a:pt x="16033" y="13216"/>
                  <a:pt x="15925" y="13122"/>
                </a:cubicBezTo>
                <a:cubicBezTo>
                  <a:pt x="15820" y="13032"/>
                  <a:pt x="15734" y="12991"/>
                  <a:pt x="15602" y="12948"/>
                </a:cubicBezTo>
                <a:cubicBezTo>
                  <a:pt x="15501" y="12915"/>
                  <a:pt x="15387" y="12901"/>
                  <a:pt x="15280" y="12898"/>
                </a:cubicBezTo>
                <a:cubicBezTo>
                  <a:pt x="15162" y="12894"/>
                  <a:pt x="15052" y="12925"/>
                  <a:pt x="14957" y="12998"/>
                </a:cubicBezTo>
                <a:cubicBezTo>
                  <a:pt x="14863" y="13071"/>
                  <a:pt x="14800" y="13306"/>
                  <a:pt x="14784" y="13419"/>
                </a:cubicBezTo>
                <a:cubicBezTo>
                  <a:pt x="14759" y="13597"/>
                  <a:pt x="14796" y="13731"/>
                  <a:pt x="14858" y="13891"/>
                </a:cubicBezTo>
                <a:cubicBezTo>
                  <a:pt x="14905" y="14011"/>
                  <a:pt x="14889" y="13964"/>
                  <a:pt x="1485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401840" y="3382920"/>
                <a:ext cx="1614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1120" y="1830240"/>
            <a:ext cx="7572240" cy="1312920"/>
          </a:xfrm>
          <a:custGeom>
            <a:avLst/>
            <a:gdLst/>
            <a:ahLst/>
            <a:rect l="l" t="t" r="r" b="b"/>
            <a:pathLst>
              <a:path w="21035" h="3647">
                <a:moveTo>
                  <a:pt x="1141" y="8706"/>
                </a:moveTo>
                <a:cubicBezTo>
                  <a:pt x="1182" y="8707"/>
                  <a:pt x="1199" y="8679"/>
                  <a:pt x="1240" y="8682"/>
                </a:cubicBezTo>
                <a:cubicBezTo>
                  <a:pt x="1710" y="8718"/>
                  <a:pt x="1898" y="8536"/>
                  <a:pt x="2332" y="8483"/>
                </a:cubicBezTo>
                <a:cubicBezTo>
                  <a:pt x="2505" y="8462"/>
                  <a:pt x="2692" y="8560"/>
                  <a:pt x="2853" y="8533"/>
                </a:cubicBezTo>
                <a:cubicBezTo>
                  <a:pt x="3211" y="8474"/>
                  <a:pt x="3561" y="8351"/>
                  <a:pt x="3919" y="8285"/>
                </a:cubicBezTo>
                <a:cubicBezTo>
                  <a:pt x="4123" y="8247"/>
                  <a:pt x="4330" y="8180"/>
                  <a:pt x="4539" y="8186"/>
                </a:cubicBezTo>
                <a:cubicBezTo>
                  <a:pt x="4813" y="8194"/>
                  <a:pt x="5186" y="8280"/>
                  <a:pt x="5457" y="8334"/>
                </a:cubicBezTo>
                <a:cubicBezTo>
                  <a:pt x="5638" y="8370"/>
                  <a:pt x="5799" y="8451"/>
                  <a:pt x="5978" y="8483"/>
                </a:cubicBezTo>
                <a:cubicBezTo>
                  <a:pt x="6386" y="8556"/>
                  <a:pt x="6899" y="8492"/>
                  <a:pt x="7317" y="8483"/>
                </a:cubicBezTo>
                <a:cubicBezTo>
                  <a:pt x="7468" y="8480"/>
                  <a:pt x="7614" y="8460"/>
                  <a:pt x="7764" y="8458"/>
                </a:cubicBezTo>
                <a:cubicBezTo>
                  <a:pt x="8161" y="8452"/>
                  <a:pt x="8536" y="8382"/>
                  <a:pt x="8930" y="8359"/>
                </a:cubicBezTo>
                <a:cubicBezTo>
                  <a:pt x="9318" y="8336"/>
                  <a:pt x="9706" y="8337"/>
                  <a:pt x="10096" y="8334"/>
                </a:cubicBezTo>
                <a:cubicBezTo>
                  <a:pt x="10517" y="8331"/>
                  <a:pt x="10920" y="8360"/>
                  <a:pt x="11336" y="8409"/>
                </a:cubicBezTo>
                <a:cubicBezTo>
                  <a:pt x="11992" y="8486"/>
                  <a:pt x="12588" y="8488"/>
                  <a:pt x="13246" y="8458"/>
                </a:cubicBezTo>
                <a:cubicBezTo>
                  <a:pt x="13660" y="8439"/>
                  <a:pt x="14073" y="8439"/>
                  <a:pt x="14486" y="8409"/>
                </a:cubicBezTo>
                <a:cubicBezTo>
                  <a:pt x="15218" y="8356"/>
                  <a:pt x="15935" y="8249"/>
                  <a:pt x="16669" y="8235"/>
                </a:cubicBezTo>
                <a:cubicBezTo>
                  <a:pt x="17360" y="8222"/>
                  <a:pt x="17996" y="8414"/>
                  <a:pt x="18678" y="8458"/>
                </a:cubicBezTo>
                <a:cubicBezTo>
                  <a:pt x="19091" y="8485"/>
                  <a:pt x="19505" y="8430"/>
                  <a:pt x="19918" y="8434"/>
                </a:cubicBezTo>
                <a:cubicBezTo>
                  <a:pt x="20387" y="8439"/>
                  <a:pt x="20838" y="8509"/>
                  <a:pt x="21307" y="8483"/>
                </a:cubicBezTo>
                <a:cubicBezTo>
                  <a:pt x="21586" y="8467"/>
                  <a:pt x="21903" y="8415"/>
                  <a:pt x="22175" y="8359"/>
                </a:cubicBezTo>
                <a:cubicBezTo>
                  <a:pt x="22134" y="8359"/>
                  <a:pt x="22092" y="8359"/>
                  <a:pt x="22051" y="8359"/>
                </a:cubicBezTo>
              </a:path>
              <a:path w="21035" h="3647">
                <a:moveTo>
                  <a:pt x="5904" y="6102"/>
                </a:moveTo>
                <a:cubicBezTo>
                  <a:pt x="5974" y="6066"/>
                  <a:pt x="6071" y="6040"/>
                  <a:pt x="6102" y="5978"/>
                </a:cubicBezTo>
              </a:path>
              <a:path w="21035" h="3647">
                <a:moveTo>
                  <a:pt x="6226" y="5804"/>
                </a:moveTo>
                <a:cubicBezTo>
                  <a:pt x="6264" y="5766"/>
                  <a:pt x="6336" y="5730"/>
                  <a:pt x="6400" y="5779"/>
                </a:cubicBezTo>
                <a:cubicBezTo>
                  <a:pt x="6521" y="5872"/>
                  <a:pt x="6419" y="5992"/>
                  <a:pt x="6350" y="6077"/>
                </a:cubicBezTo>
                <a:cubicBezTo>
                  <a:pt x="6429" y="6077"/>
                  <a:pt x="6497" y="6045"/>
                  <a:pt x="6573" y="6028"/>
                </a:cubicBezTo>
                <a:cubicBezTo>
                  <a:pt x="6581" y="6028"/>
                  <a:pt x="6590" y="6028"/>
                  <a:pt x="6598" y="6028"/>
                </a:cubicBezTo>
              </a:path>
              <a:path w="21035" h="3647">
                <a:moveTo>
                  <a:pt x="3522" y="7268"/>
                </a:moveTo>
                <a:cubicBezTo>
                  <a:pt x="3450" y="7159"/>
                  <a:pt x="3718" y="7288"/>
                  <a:pt x="3845" y="7317"/>
                </a:cubicBezTo>
                <a:cubicBezTo>
                  <a:pt x="4108" y="7376"/>
                  <a:pt x="4374" y="7389"/>
                  <a:pt x="4638" y="7441"/>
                </a:cubicBezTo>
                <a:cubicBezTo>
                  <a:pt x="4732" y="7460"/>
                  <a:pt x="4824" y="7458"/>
                  <a:pt x="4911" y="7491"/>
                </a:cubicBezTo>
              </a:path>
              <a:path w="21035" h="3647">
                <a:moveTo>
                  <a:pt x="3522" y="7913"/>
                </a:moveTo>
                <a:cubicBezTo>
                  <a:pt x="3578" y="7801"/>
                  <a:pt x="3672" y="7777"/>
                  <a:pt x="3770" y="7838"/>
                </a:cubicBezTo>
                <a:cubicBezTo>
                  <a:pt x="3770" y="7967"/>
                  <a:pt x="3753" y="7973"/>
                  <a:pt x="3646" y="8062"/>
                </a:cubicBezTo>
                <a:cubicBezTo>
                  <a:pt x="3700" y="8062"/>
                  <a:pt x="3817" y="8000"/>
                  <a:pt x="3845" y="8062"/>
                </a:cubicBezTo>
                <a:cubicBezTo>
                  <a:pt x="3927" y="8242"/>
                  <a:pt x="3669" y="8255"/>
                  <a:pt x="3572" y="8260"/>
                </a:cubicBezTo>
                <a:cubicBezTo>
                  <a:pt x="3547" y="8260"/>
                  <a:pt x="3539" y="8260"/>
                  <a:pt x="3547" y="8235"/>
                </a:cubicBezTo>
              </a:path>
              <a:path w="21035" h="3647">
                <a:moveTo>
                  <a:pt x="5184" y="6300"/>
                </a:moveTo>
                <a:cubicBezTo>
                  <a:pt x="5418" y="6152"/>
                  <a:pt x="5712" y="5985"/>
                  <a:pt x="5978" y="5854"/>
                </a:cubicBezTo>
                <a:cubicBezTo>
                  <a:pt x="6166" y="5762"/>
                  <a:pt x="6453" y="5678"/>
                  <a:pt x="6623" y="5556"/>
                </a:cubicBezTo>
                <a:cubicBezTo>
                  <a:pt x="6623" y="5548"/>
                  <a:pt x="6623" y="5539"/>
                  <a:pt x="6623" y="5531"/>
                </a:cubicBezTo>
              </a:path>
              <a:path w="21035" h="3647">
                <a:moveTo>
                  <a:pt x="5879" y="5308"/>
                </a:moveTo>
                <a:cubicBezTo>
                  <a:pt x="5849" y="5368"/>
                  <a:pt x="5834" y="5394"/>
                  <a:pt x="5804" y="5432"/>
                </a:cubicBezTo>
                <a:cubicBezTo>
                  <a:pt x="5942" y="5432"/>
                  <a:pt x="6026" y="5415"/>
                  <a:pt x="6152" y="5358"/>
                </a:cubicBezTo>
              </a:path>
              <a:path w="21035" h="3647">
                <a:moveTo>
                  <a:pt x="6077" y="5085"/>
                </a:moveTo>
                <a:cubicBezTo>
                  <a:pt x="6077" y="5247"/>
                  <a:pt x="6083" y="5394"/>
                  <a:pt x="6077" y="5556"/>
                </a:cubicBezTo>
                <a:cubicBezTo>
                  <a:pt x="6075" y="5613"/>
                  <a:pt x="6077" y="5672"/>
                  <a:pt x="6077" y="5730"/>
                </a:cubicBezTo>
              </a:path>
              <a:path w="21035" h="3647">
                <a:moveTo>
                  <a:pt x="9575" y="5209"/>
                </a:moveTo>
                <a:cubicBezTo>
                  <a:pt x="9618" y="5397"/>
                  <a:pt x="9662" y="5587"/>
                  <a:pt x="9674" y="5779"/>
                </a:cubicBezTo>
                <a:cubicBezTo>
                  <a:pt x="9674" y="5796"/>
                  <a:pt x="9674" y="5812"/>
                  <a:pt x="9674" y="5829"/>
                </a:cubicBezTo>
              </a:path>
              <a:path w="21035" h="3647">
                <a:moveTo>
                  <a:pt x="9327" y="5829"/>
                </a:moveTo>
                <a:cubicBezTo>
                  <a:pt x="9568" y="5789"/>
                  <a:pt x="9804" y="5720"/>
                  <a:pt x="10046" y="5705"/>
                </a:cubicBezTo>
                <a:cubicBezTo>
                  <a:pt x="10088" y="5705"/>
                  <a:pt x="10104" y="5697"/>
                  <a:pt x="10096" y="5730"/>
                </a:cubicBezTo>
              </a:path>
              <a:path w="21035" h="3647">
                <a:moveTo>
                  <a:pt x="9500" y="6226"/>
                </a:moveTo>
                <a:cubicBezTo>
                  <a:pt x="9531" y="6132"/>
                  <a:pt x="9683" y="6140"/>
                  <a:pt x="9773" y="6127"/>
                </a:cubicBezTo>
                <a:cubicBezTo>
                  <a:pt x="9755" y="6327"/>
                  <a:pt x="9700" y="6326"/>
                  <a:pt x="9575" y="6449"/>
                </a:cubicBezTo>
                <a:cubicBezTo>
                  <a:pt x="9583" y="6449"/>
                  <a:pt x="9591" y="6449"/>
                  <a:pt x="9599" y="6449"/>
                </a:cubicBezTo>
                <a:cubicBezTo>
                  <a:pt x="9767" y="6413"/>
                  <a:pt x="9910" y="6435"/>
                  <a:pt x="9773" y="6648"/>
                </a:cubicBezTo>
                <a:cubicBezTo>
                  <a:pt x="9657" y="6828"/>
                  <a:pt x="9500" y="6809"/>
                  <a:pt x="9500" y="6623"/>
                </a:cubicBezTo>
              </a:path>
              <a:path w="21035" h="3647">
                <a:moveTo>
                  <a:pt x="10740" y="5581"/>
                </a:moveTo>
                <a:cubicBezTo>
                  <a:pt x="10650" y="5808"/>
                  <a:pt x="10572" y="6018"/>
                  <a:pt x="10443" y="6226"/>
                </a:cubicBezTo>
              </a:path>
              <a:path w="21035" h="3647">
                <a:moveTo>
                  <a:pt x="11212" y="5407"/>
                </a:moveTo>
                <a:cubicBezTo>
                  <a:pt x="11204" y="5424"/>
                  <a:pt x="11195" y="5440"/>
                  <a:pt x="11187" y="5457"/>
                </a:cubicBezTo>
                <a:cubicBezTo>
                  <a:pt x="11289" y="5474"/>
                  <a:pt x="11432" y="5489"/>
                  <a:pt x="11534" y="5457"/>
                </a:cubicBezTo>
                <a:cubicBezTo>
                  <a:pt x="11559" y="5440"/>
                  <a:pt x="11584" y="5424"/>
                  <a:pt x="11609" y="5407"/>
                </a:cubicBezTo>
              </a:path>
              <a:path w="21035" h="3647">
                <a:moveTo>
                  <a:pt x="11584" y="5085"/>
                </a:moveTo>
                <a:cubicBezTo>
                  <a:pt x="11584" y="5374"/>
                  <a:pt x="11584" y="5664"/>
                  <a:pt x="11584" y="5953"/>
                </a:cubicBezTo>
              </a:path>
              <a:path w="21035" h="3647">
                <a:moveTo>
                  <a:pt x="11187" y="6052"/>
                </a:moveTo>
                <a:cubicBezTo>
                  <a:pt x="11404" y="6032"/>
                  <a:pt x="11638" y="5947"/>
                  <a:pt x="11857" y="5953"/>
                </a:cubicBezTo>
                <a:cubicBezTo>
                  <a:pt x="11873" y="5961"/>
                  <a:pt x="11890" y="5970"/>
                  <a:pt x="11906" y="5978"/>
                </a:cubicBezTo>
              </a:path>
              <a:path w="21035" h="3647">
                <a:moveTo>
                  <a:pt x="11385" y="6251"/>
                </a:moveTo>
                <a:cubicBezTo>
                  <a:pt x="11488" y="6239"/>
                  <a:pt x="11803" y="6133"/>
                  <a:pt x="11733" y="6325"/>
                </a:cubicBezTo>
                <a:cubicBezTo>
                  <a:pt x="11681" y="6428"/>
                  <a:pt x="11661" y="6464"/>
                  <a:pt x="11584" y="6499"/>
                </a:cubicBezTo>
                <a:cubicBezTo>
                  <a:pt x="11576" y="6499"/>
                  <a:pt x="11567" y="6499"/>
                  <a:pt x="11559" y="6499"/>
                </a:cubicBezTo>
                <a:cubicBezTo>
                  <a:pt x="11606" y="6499"/>
                  <a:pt x="11825" y="6468"/>
                  <a:pt x="11782" y="6573"/>
                </a:cubicBezTo>
                <a:cubicBezTo>
                  <a:pt x="11702" y="6769"/>
                  <a:pt x="11533" y="6725"/>
                  <a:pt x="11385" y="6672"/>
                </a:cubicBezTo>
              </a:path>
              <a:path w="21035" h="3647">
                <a:moveTo>
                  <a:pt x="11261" y="5135"/>
                </a:moveTo>
                <a:cubicBezTo>
                  <a:pt x="11261" y="5262"/>
                  <a:pt x="11243" y="5360"/>
                  <a:pt x="11212" y="5482"/>
                </a:cubicBezTo>
              </a:path>
              <a:path w="21035" h="3647">
                <a:moveTo>
                  <a:pt x="12576" y="5953"/>
                </a:moveTo>
                <a:cubicBezTo>
                  <a:pt x="12655" y="5935"/>
                  <a:pt x="12723" y="5913"/>
                  <a:pt x="12799" y="5904"/>
                </a:cubicBezTo>
              </a:path>
              <a:path w="21035" h="3647">
                <a:moveTo>
                  <a:pt x="12576" y="6201"/>
                </a:moveTo>
                <a:cubicBezTo>
                  <a:pt x="12678" y="6175"/>
                  <a:pt x="12713" y="6166"/>
                  <a:pt x="12774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9840" y="3081240"/>
            <a:ext cx="625320" cy="749520"/>
          </a:xfrm>
          <a:custGeom>
            <a:avLst/>
            <a:gdLst/>
            <a:ahLst/>
            <a:rect l="l" t="t" r="r" b="b"/>
            <a:pathLst>
              <a:path w="1737" h="2084">
                <a:moveTo>
                  <a:pt x="20910" y="8706"/>
                </a:moveTo>
                <a:cubicBezTo>
                  <a:pt x="20798" y="8706"/>
                  <a:pt x="20672" y="8661"/>
                  <a:pt x="20563" y="8682"/>
                </a:cubicBezTo>
                <a:cubicBezTo>
                  <a:pt x="20510" y="8692"/>
                  <a:pt x="20503" y="8855"/>
                  <a:pt x="20489" y="8905"/>
                </a:cubicBezTo>
                <a:cubicBezTo>
                  <a:pt x="20578" y="8905"/>
                  <a:pt x="20737" y="8874"/>
                  <a:pt x="20811" y="8930"/>
                </a:cubicBezTo>
                <a:cubicBezTo>
                  <a:pt x="21005" y="9078"/>
                  <a:pt x="20709" y="9246"/>
                  <a:pt x="20588" y="9252"/>
                </a:cubicBezTo>
                <a:cubicBezTo>
                  <a:pt x="20514" y="9233"/>
                  <a:pt x="20481" y="9251"/>
                  <a:pt x="20489" y="9203"/>
                </a:cubicBezTo>
              </a:path>
              <a:path w="1737" h="2084">
                <a:moveTo>
                  <a:pt x="21183" y="8558"/>
                </a:moveTo>
                <a:cubicBezTo>
                  <a:pt x="21183" y="8761"/>
                  <a:pt x="21187" y="8977"/>
                  <a:pt x="21158" y="9178"/>
                </a:cubicBezTo>
                <a:cubicBezTo>
                  <a:pt x="21150" y="9203"/>
                  <a:pt x="21142" y="9227"/>
                  <a:pt x="21134" y="9252"/>
                </a:cubicBezTo>
              </a:path>
              <a:path w="1737" h="2084">
                <a:moveTo>
                  <a:pt x="20017" y="9401"/>
                </a:moveTo>
                <a:cubicBezTo>
                  <a:pt x="20090" y="9459"/>
                  <a:pt x="20158" y="9596"/>
                  <a:pt x="20191" y="9699"/>
                </a:cubicBezTo>
                <a:cubicBezTo>
                  <a:pt x="20191" y="9707"/>
                  <a:pt x="20191" y="9715"/>
                  <a:pt x="20191" y="9723"/>
                </a:cubicBezTo>
              </a:path>
              <a:path w="1737" h="2084">
                <a:moveTo>
                  <a:pt x="20216" y="9302"/>
                </a:moveTo>
                <a:cubicBezTo>
                  <a:pt x="20159" y="9481"/>
                  <a:pt x="20076" y="9646"/>
                  <a:pt x="20017" y="9823"/>
                </a:cubicBezTo>
              </a:path>
              <a:path w="1737" h="2084">
                <a:moveTo>
                  <a:pt x="21109" y="9426"/>
                </a:moveTo>
                <a:cubicBezTo>
                  <a:pt x="21043" y="9426"/>
                  <a:pt x="20910" y="9398"/>
                  <a:pt x="20886" y="9451"/>
                </a:cubicBezTo>
                <a:cubicBezTo>
                  <a:pt x="20863" y="9501"/>
                  <a:pt x="20866" y="9535"/>
                  <a:pt x="20836" y="9575"/>
                </a:cubicBezTo>
                <a:cubicBezTo>
                  <a:pt x="20941" y="9575"/>
                  <a:pt x="21113" y="9526"/>
                  <a:pt x="21183" y="9624"/>
                </a:cubicBezTo>
                <a:cubicBezTo>
                  <a:pt x="21307" y="9799"/>
                  <a:pt x="20979" y="9821"/>
                  <a:pt x="20910" y="9823"/>
                </a:cubicBezTo>
                <a:cubicBezTo>
                  <a:pt x="20877" y="9823"/>
                  <a:pt x="20844" y="9823"/>
                  <a:pt x="20811" y="9823"/>
                </a:cubicBezTo>
              </a:path>
              <a:path w="1737" h="2084">
                <a:moveTo>
                  <a:pt x="19720" y="9996"/>
                </a:moveTo>
                <a:cubicBezTo>
                  <a:pt x="20125" y="10034"/>
                  <a:pt x="20527" y="10000"/>
                  <a:pt x="20935" y="9996"/>
                </a:cubicBezTo>
                <a:cubicBezTo>
                  <a:pt x="20986" y="9996"/>
                  <a:pt x="21433" y="9969"/>
                  <a:pt x="21406" y="10046"/>
                </a:cubicBezTo>
              </a:path>
              <a:path w="1737" h="2084">
                <a:moveTo>
                  <a:pt x="21208" y="10170"/>
                </a:moveTo>
                <a:cubicBezTo>
                  <a:pt x="21115" y="10180"/>
                  <a:pt x="21032" y="10195"/>
                  <a:pt x="20935" y="10195"/>
                </a:cubicBezTo>
                <a:cubicBezTo>
                  <a:pt x="20874" y="10195"/>
                  <a:pt x="20890" y="10341"/>
                  <a:pt x="20886" y="10393"/>
                </a:cubicBezTo>
                <a:cubicBezTo>
                  <a:pt x="21003" y="10393"/>
                  <a:pt x="21049" y="10352"/>
                  <a:pt x="21158" y="10418"/>
                </a:cubicBezTo>
                <a:cubicBezTo>
                  <a:pt x="21175" y="10435"/>
                  <a:pt x="21191" y="10451"/>
                  <a:pt x="21208" y="10468"/>
                </a:cubicBezTo>
                <a:cubicBezTo>
                  <a:pt x="21071" y="10577"/>
                  <a:pt x="20995" y="10596"/>
                  <a:pt x="20836" y="10542"/>
                </a:cubicBezTo>
              </a:path>
              <a:path w="1737" h="2084">
                <a:moveTo>
                  <a:pt x="19869" y="10294"/>
                </a:moveTo>
                <a:cubicBezTo>
                  <a:pt x="20003" y="10212"/>
                  <a:pt x="20155" y="10273"/>
                  <a:pt x="20067" y="10468"/>
                </a:cubicBezTo>
                <a:cubicBezTo>
                  <a:pt x="19988" y="10643"/>
                  <a:pt x="19853" y="10626"/>
                  <a:pt x="19695" y="10641"/>
                </a:cubicBezTo>
                <a:cubicBezTo>
                  <a:pt x="19717" y="10481"/>
                  <a:pt x="19766" y="10390"/>
                  <a:pt x="19943" y="10492"/>
                </a:cubicBezTo>
                <a:cubicBezTo>
                  <a:pt x="19982" y="10531"/>
                  <a:pt x="19999" y="10533"/>
                  <a:pt x="19993" y="10567"/>
                </a:cubicBezTo>
              </a:path>
              <a:path w="1737" h="2084">
                <a:moveTo>
                  <a:pt x="20489" y="10145"/>
                </a:moveTo>
                <a:cubicBezTo>
                  <a:pt x="20475" y="10187"/>
                  <a:pt x="20370" y="10207"/>
                  <a:pt x="20315" y="10220"/>
                </a:cubicBezTo>
                <a:cubicBezTo>
                  <a:pt x="20246" y="10236"/>
                  <a:pt x="20265" y="10333"/>
                  <a:pt x="20265" y="10393"/>
                </a:cubicBezTo>
                <a:cubicBezTo>
                  <a:pt x="20265" y="10401"/>
                  <a:pt x="20265" y="10410"/>
                  <a:pt x="20265" y="10418"/>
                </a:cubicBezTo>
                <a:cubicBezTo>
                  <a:pt x="20365" y="10398"/>
                  <a:pt x="20440" y="10325"/>
                  <a:pt x="20538" y="10418"/>
                </a:cubicBezTo>
                <a:cubicBezTo>
                  <a:pt x="20538" y="10435"/>
                  <a:pt x="20538" y="10451"/>
                  <a:pt x="20538" y="10468"/>
                </a:cubicBezTo>
                <a:cubicBezTo>
                  <a:pt x="20357" y="10599"/>
                  <a:pt x="20285" y="10559"/>
                  <a:pt x="20092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91240" y="4000680"/>
            <a:ext cx="804960" cy="1143000"/>
          </a:xfrm>
          <a:custGeom>
            <a:avLst/>
            <a:gdLst/>
            <a:ahLst/>
            <a:rect l="l" t="t" r="r" b="b"/>
            <a:pathLst>
              <a:path w="2234" h="3177">
                <a:moveTo>
                  <a:pt x="21779" y="11708"/>
                </a:moveTo>
                <a:cubicBezTo>
                  <a:pt x="21754" y="11708"/>
                  <a:pt x="21746" y="11708"/>
                  <a:pt x="21754" y="11733"/>
                </a:cubicBezTo>
                <a:cubicBezTo>
                  <a:pt x="21673" y="11706"/>
                  <a:pt x="21827" y="11635"/>
                  <a:pt x="21853" y="11633"/>
                </a:cubicBezTo>
                <a:cubicBezTo>
                  <a:pt x="22176" y="11610"/>
                  <a:pt x="21764" y="12185"/>
                  <a:pt x="21704" y="12229"/>
                </a:cubicBezTo>
                <a:cubicBezTo>
                  <a:pt x="21561" y="12290"/>
                  <a:pt x="21531" y="12333"/>
                  <a:pt x="21456" y="12254"/>
                </a:cubicBezTo>
                <a:cubicBezTo>
                  <a:pt x="21532" y="12101"/>
                  <a:pt x="21719" y="11922"/>
                  <a:pt x="21903" y="12129"/>
                </a:cubicBezTo>
                <a:cubicBezTo>
                  <a:pt x="21922" y="12207"/>
                  <a:pt x="21914" y="12225"/>
                  <a:pt x="21952" y="12254"/>
                </a:cubicBezTo>
              </a:path>
              <a:path w="2234" h="3177">
                <a:moveTo>
                  <a:pt x="22547" y="11485"/>
                </a:moveTo>
                <a:cubicBezTo>
                  <a:pt x="22443" y="11546"/>
                  <a:pt x="22349" y="11612"/>
                  <a:pt x="22250" y="11683"/>
                </a:cubicBezTo>
                <a:cubicBezTo>
                  <a:pt x="22339" y="11752"/>
                  <a:pt x="22594" y="11864"/>
                  <a:pt x="22597" y="12005"/>
                </a:cubicBezTo>
                <a:cubicBezTo>
                  <a:pt x="22548" y="12126"/>
                  <a:pt x="22535" y="12167"/>
                  <a:pt x="22423" y="12129"/>
                </a:cubicBezTo>
                <a:cubicBezTo>
                  <a:pt x="22389" y="11897"/>
                  <a:pt x="22539" y="11828"/>
                  <a:pt x="22572" y="11609"/>
                </a:cubicBezTo>
                <a:cubicBezTo>
                  <a:pt x="22564" y="11609"/>
                  <a:pt x="22555" y="11609"/>
                  <a:pt x="22547" y="11609"/>
                </a:cubicBezTo>
              </a:path>
              <a:path w="2234" h="3177">
                <a:moveTo>
                  <a:pt x="21357" y="12477"/>
                </a:moveTo>
                <a:cubicBezTo>
                  <a:pt x="21501" y="12610"/>
                  <a:pt x="21564" y="12756"/>
                  <a:pt x="21654" y="12923"/>
                </a:cubicBezTo>
                <a:cubicBezTo>
                  <a:pt x="21654" y="12915"/>
                  <a:pt x="21654" y="12906"/>
                  <a:pt x="21654" y="12898"/>
                </a:cubicBezTo>
              </a:path>
              <a:path w="2234" h="3177">
                <a:moveTo>
                  <a:pt x="22647" y="12576"/>
                </a:moveTo>
                <a:cubicBezTo>
                  <a:pt x="22647" y="12482"/>
                  <a:pt x="22590" y="12431"/>
                  <a:pt x="22498" y="12402"/>
                </a:cubicBezTo>
                <a:cubicBezTo>
                  <a:pt x="22339" y="12353"/>
                  <a:pt x="22271" y="12600"/>
                  <a:pt x="22250" y="12700"/>
                </a:cubicBezTo>
                <a:cubicBezTo>
                  <a:pt x="22411" y="12670"/>
                  <a:pt x="22459" y="12646"/>
                  <a:pt x="22523" y="12477"/>
                </a:cubicBezTo>
                <a:cubicBezTo>
                  <a:pt x="22542" y="12636"/>
                  <a:pt x="22557" y="12765"/>
                  <a:pt x="22547" y="12923"/>
                </a:cubicBezTo>
                <a:cubicBezTo>
                  <a:pt x="22547" y="12973"/>
                  <a:pt x="22547" y="12989"/>
                  <a:pt x="22547" y="13022"/>
                </a:cubicBezTo>
              </a:path>
              <a:path w="2234" h="3177">
                <a:moveTo>
                  <a:pt x="21109" y="13370"/>
                </a:moveTo>
                <a:cubicBezTo>
                  <a:pt x="21455" y="13345"/>
                  <a:pt x="21803" y="13293"/>
                  <a:pt x="22151" y="13295"/>
                </a:cubicBezTo>
                <a:cubicBezTo>
                  <a:pt x="22401" y="13297"/>
                  <a:pt x="22740" y="13300"/>
                  <a:pt x="22994" y="13345"/>
                </a:cubicBezTo>
                <a:cubicBezTo>
                  <a:pt x="23024" y="13375"/>
                  <a:pt x="23035" y="13377"/>
                  <a:pt x="23044" y="13320"/>
                </a:cubicBezTo>
              </a:path>
              <a:path w="2234" h="3177">
                <a:moveTo>
                  <a:pt x="22473" y="13767"/>
                </a:moveTo>
                <a:cubicBezTo>
                  <a:pt x="22553" y="13706"/>
                  <a:pt x="22758" y="13785"/>
                  <a:pt x="22746" y="13940"/>
                </a:cubicBezTo>
                <a:cubicBezTo>
                  <a:pt x="22728" y="14181"/>
                  <a:pt x="22474" y="14264"/>
                  <a:pt x="22324" y="14188"/>
                </a:cubicBezTo>
                <a:cubicBezTo>
                  <a:pt x="22489" y="14036"/>
                  <a:pt x="22541" y="14047"/>
                  <a:pt x="22721" y="14188"/>
                </a:cubicBezTo>
              </a:path>
              <a:path w="2234" h="3177">
                <a:moveTo>
                  <a:pt x="21456" y="11162"/>
                </a:moveTo>
                <a:cubicBezTo>
                  <a:pt x="21555" y="11162"/>
                  <a:pt x="21637" y="11130"/>
                  <a:pt x="21729" y="11112"/>
                </a:cubicBezTo>
                <a:cubicBezTo>
                  <a:pt x="21746" y="11112"/>
                  <a:pt x="21762" y="11112"/>
                  <a:pt x="21779" y="11112"/>
                </a:cubicBezTo>
                <a:cubicBezTo>
                  <a:pt x="21751" y="11293"/>
                  <a:pt x="21685" y="11460"/>
                  <a:pt x="21630" y="11633"/>
                </a:cubicBezTo>
                <a:cubicBezTo>
                  <a:pt x="21630" y="11641"/>
                  <a:pt x="21630" y="11650"/>
                  <a:pt x="21630" y="11658"/>
                </a:cubicBezTo>
              </a:path>
              <a:path w="2234" h="3177">
                <a:moveTo>
                  <a:pt x="20910" y="13841"/>
                </a:moveTo>
                <a:cubicBezTo>
                  <a:pt x="20866" y="13841"/>
                  <a:pt x="20947" y="13796"/>
                  <a:pt x="20985" y="13767"/>
                </a:cubicBezTo>
                <a:cubicBezTo>
                  <a:pt x="21159" y="13882"/>
                  <a:pt x="21201" y="14037"/>
                  <a:pt x="21034" y="14213"/>
                </a:cubicBezTo>
                <a:cubicBezTo>
                  <a:pt x="20929" y="14276"/>
                  <a:pt x="20909" y="14309"/>
                  <a:pt x="20836" y="14263"/>
                </a:cubicBezTo>
                <a:cubicBezTo>
                  <a:pt x="20836" y="14109"/>
                  <a:pt x="20924" y="13986"/>
                  <a:pt x="21109" y="14114"/>
                </a:cubicBezTo>
                <a:cubicBezTo>
                  <a:pt x="21146" y="14170"/>
                  <a:pt x="21163" y="14174"/>
                  <a:pt x="21158" y="14213"/>
                </a:cubicBezTo>
              </a:path>
              <a:path w="2234" h="3177">
                <a:moveTo>
                  <a:pt x="21580" y="13667"/>
                </a:moveTo>
                <a:cubicBezTo>
                  <a:pt x="21487" y="13719"/>
                  <a:pt x="21386" y="13702"/>
                  <a:pt x="21307" y="13742"/>
                </a:cubicBezTo>
                <a:cubicBezTo>
                  <a:pt x="21251" y="13770"/>
                  <a:pt x="21239" y="13904"/>
                  <a:pt x="21233" y="13965"/>
                </a:cubicBezTo>
                <a:cubicBezTo>
                  <a:pt x="21369" y="13942"/>
                  <a:pt x="21466" y="13927"/>
                  <a:pt x="21605" y="13940"/>
                </a:cubicBezTo>
                <a:cubicBezTo>
                  <a:pt x="21633" y="14123"/>
                  <a:pt x="21539" y="14239"/>
                  <a:pt x="21332" y="14263"/>
                </a:cubicBezTo>
                <a:cubicBezTo>
                  <a:pt x="21299" y="14255"/>
                  <a:pt x="21266" y="14246"/>
                  <a:pt x="21233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3080" y="2098800"/>
            <a:ext cx="5635800" cy="2581200"/>
          </a:xfrm>
          <a:custGeom>
            <a:avLst/>
            <a:gdLst/>
            <a:ahLst/>
            <a:rect l="l" t="t" r="r" b="b"/>
            <a:pathLst>
              <a:path w="15653" h="7170">
                <a:moveTo>
                  <a:pt x="6152" y="7541"/>
                </a:moveTo>
                <a:cubicBezTo>
                  <a:pt x="6152" y="7549"/>
                  <a:pt x="6152" y="7557"/>
                  <a:pt x="6152" y="7565"/>
                </a:cubicBezTo>
              </a:path>
              <a:path w="15653" h="7170">
                <a:moveTo>
                  <a:pt x="5953" y="5829"/>
                </a:moveTo>
                <a:lnTo>
                  <a:pt x="5953" y="5829"/>
                </a:lnTo>
              </a:path>
              <a:path w="15653" h="7170">
                <a:moveTo>
                  <a:pt x="6052" y="6251"/>
                </a:moveTo>
                <a:lnTo>
                  <a:pt x="6052" y="6251"/>
                </a:lnTo>
              </a:path>
              <a:path w="15653" h="7170">
                <a:moveTo>
                  <a:pt x="21605" y="12626"/>
                </a:moveTo>
                <a:cubicBezTo>
                  <a:pt x="21576" y="12702"/>
                  <a:pt x="21397" y="12996"/>
                  <a:pt x="21530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03200" y="1893960"/>
            <a:ext cx="465120" cy="374400"/>
          </a:xfrm>
          <a:custGeom>
            <a:avLst/>
            <a:gdLst/>
            <a:ahLst/>
            <a:rect l="l" t="t" r="r" b="b"/>
            <a:pathLst>
              <a:path w="1291" h="1042">
                <a:moveTo>
                  <a:pt x="3621" y="6300"/>
                </a:moveTo>
                <a:cubicBezTo>
                  <a:pt x="3789" y="6167"/>
                  <a:pt x="3950" y="6110"/>
                  <a:pt x="4167" y="6028"/>
                </a:cubicBezTo>
                <a:cubicBezTo>
                  <a:pt x="4377" y="5949"/>
                  <a:pt x="4587" y="5839"/>
                  <a:pt x="4812" y="5804"/>
                </a:cubicBezTo>
                <a:cubicBezTo>
                  <a:pt x="4858" y="5797"/>
                  <a:pt x="4872" y="5794"/>
                  <a:pt x="4911" y="5779"/>
                </a:cubicBezTo>
              </a:path>
              <a:path w="1291" h="1042">
                <a:moveTo>
                  <a:pt x="4118" y="5259"/>
                </a:moveTo>
                <a:cubicBezTo>
                  <a:pt x="4118" y="5393"/>
                  <a:pt x="4097" y="5521"/>
                  <a:pt x="4093" y="5655"/>
                </a:cubicBezTo>
                <a:cubicBezTo>
                  <a:pt x="4092" y="5696"/>
                  <a:pt x="4093" y="5738"/>
                  <a:pt x="4093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2960" y="2608200"/>
            <a:ext cx="561960" cy="374760"/>
          </a:xfrm>
          <a:custGeom>
            <a:avLst/>
            <a:gdLst/>
            <a:ahLst/>
            <a:rect l="l" t="t" r="r" b="b"/>
            <a:pathLst>
              <a:path w="1564" h="1043">
                <a:moveTo>
                  <a:pt x="6028" y="7367"/>
                </a:moveTo>
                <a:cubicBezTo>
                  <a:pt x="6111" y="7367"/>
                  <a:pt x="6193" y="7367"/>
                  <a:pt x="6276" y="7367"/>
                </a:cubicBezTo>
              </a:path>
              <a:path w="1564" h="1043">
                <a:moveTo>
                  <a:pt x="6176" y="7268"/>
                </a:moveTo>
                <a:cubicBezTo>
                  <a:pt x="6176" y="7235"/>
                  <a:pt x="6176" y="7235"/>
                  <a:pt x="6176" y="7293"/>
                </a:cubicBezTo>
              </a:path>
              <a:path w="1564" h="1043">
                <a:moveTo>
                  <a:pt x="6548" y="7243"/>
                </a:moveTo>
                <a:cubicBezTo>
                  <a:pt x="6520" y="7249"/>
                  <a:pt x="6440" y="7274"/>
                  <a:pt x="6424" y="7293"/>
                </a:cubicBezTo>
                <a:cubicBezTo>
                  <a:pt x="6395" y="7328"/>
                  <a:pt x="6400" y="7353"/>
                  <a:pt x="6400" y="7392"/>
                </a:cubicBezTo>
                <a:cubicBezTo>
                  <a:pt x="6428" y="7381"/>
                  <a:pt x="6543" y="7336"/>
                  <a:pt x="6573" y="7367"/>
                </a:cubicBezTo>
                <a:cubicBezTo>
                  <a:pt x="6648" y="7442"/>
                  <a:pt x="6574" y="7556"/>
                  <a:pt x="6499" y="7590"/>
                </a:cubicBezTo>
                <a:cubicBezTo>
                  <a:pt x="6449" y="7590"/>
                  <a:pt x="6433" y="7590"/>
                  <a:pt x="6400" y="7590"/>
                </a:cubicBezTo>
              </a:path>
              <a:path w="1564" h="1043">
                <a:moveTo>
                  <a:pt x="5035" y="7689"/>
                </a:moveTo>
                <a:cubicBezTo>
                  <a:pt x="5410" y="7577"/>
                  <a:pt x="5766" y="7459"/>
                  <a:pt x="6152" y="7392"/>
                </a:cubicBezTo>
                <a:cubicBezTo>
                  <a:pt x="6260" y="7373"/>
                  <a:pt x="6324" y="7372"/>
                  <a:pt x="6424" y="7367"/>
                </a:cubicBezTo>
              </a:path>
              <a:path w="1564" h="1043">
                <a:moveTo>
                  <a:pt x="5904" y="7888"/>
                </a:moveTo>
                <a:cubicBezTo>
                  <a:pt x="5939" y="7798"/>
                  <a:pt x="6046" y="7737"/>
                  <a:pt x="6152" y="7764"/>
                </a:cubicBezTo>
                <a:cubicBezTo>
                  <a:pt x="6372" y="7820"/>
                  <a:pt x="6114" y="7975"/>
                  <a:pt x="6052" y="8012"/>
                </a:cubicBezTo>
                <a:cubicBezTo>
                  <a:pt x="6004" y="8046"/>
                  <a:pt x="6124" y="7975"/>
                  <a:pt x="6226" y="8012"/>
                </a:cubicBezTo>
                <a:cubicBezTo>
                  <a:pt x="6251" y="8029"/>
                  <a:pt x="6275" y="8045"/>
                  <a:pt x="6300" y="8062"/>
                </a:cubicBezTo>
                <a:cubicBezTo>
                  <a:pt x="6272" y="8242"/>
                  <a:pt x="6200" y="8302"/>
                  <a:pt x="6003" y="8285"/>
                </a:cubicBezTo>
                <a:cubicBezTo>
                  <a:pt x="5961" y="8281"/>
                  <a:pt x="5886" y="8260"/>
                  <a:pt x="5928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9920" y="4830840"/>
            <a:ext cx="4035240" cy="1509480"/>
          </a:xfrm>
          <a:custGeom>
            <a:avLst/>
            <a:gdLst/>
            <a:ahLst/>
            <a:rect l="l" t="t" r="r" b="b"/>
            <a:pathLst>
              <a:path w="11212" h="4193">
                <a:moveTo>
                  <a:pt x="14932" y="13419"/>
                </a:moveTo>
                <a:lnTo>
                  <a:pt x="14932" y="13419"/>
                </a:lnTo>
                <a:lnTo>
                  <a:pt x="14932" y="13419"/>
                </a:lnTo>
              </a:path>
              <a:path w="11212" h="4193">
                <a:moveTo>
                  <a:pt x="14932" y="13444"/>
                </a:moveTo>
                <a:lnTo>
                  <a:pt x="14932" y="13444"/>
                </a:lnTo>
              </a:path>
              <a:path w="11212" h="4193">
                <a:moveTo>
                  <a:pt x="14908" y="13444"/>
                </a:moveTo>
                <a:lnTo>
                  <a:pt x="14908" y="13444"/>
                </a:lnTo>
              </a:path>
              <a:path w="11212" h="4193">
                <a:moveTo>
                  <a:pt x="3721" y="17611"/>
                </a:moveTo>
                <a:lnTo>
                  <a:pt x="3721" y="1761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8880" y="4660920"/>
            <a:ext cx="1419120" cy="1251000"/>
          </a:xfrm>
          <a:custGeom>
            <a:avLst/>
            <a:gdLst/>
            <a:ahLst/>
            <a:rect l="l" t="t" r="r" b="b"/>
            <a:pathLst>
              <a:path w="3945" h="3474">
                <a:moveTo>
                  <a:pt x="9798" y="14784"/>
                </a:moveTo>
                <a:cubicBezTo>
                  <a:pt x="9808" y="14779"/>
                  <a:pt x="9816" y="14777"/>
                  <a:pt x="9773" y="14660"/>
                </a:cubicBezTo>
                <a:cubicBezTo>
                  <a:pt x="9724" y="14529"/>
                  <a:pt x="9635" y="14325"/>
                  <a:pt x="9451" y="14387"/>
                </a:cubicBezTo>
                <a:cubicBezTo>
                  <a:pt x="9250" y="14455"/>
                  <a:pt x="9181" y="14807"/>
                  <a:pt x="9178" y="14982"/>
                </a:cubicBezTo>
                <a:cubicBezTo>
                  <a:pt x="9175" y="15191"/>
                  <a:pt x="9322" y="15316"/>
                  <a:pt x="9525" y="15230"/>
                </a:cubicBezTo>
                <a:cubicBezTo>
                  <a:pt x="9691" y="15160"/>
                  <a:pt x="9823" y="14941"/>
                  <a:pt x="9798" y="14759"/>
                </a:cubicBezTo>
                <a:cubicBezTo>
                  <a:pt x="9790" y="14751"/>
                  <a:pt x="9781" y="14742"/>
                  <a:pt x="9773" y="14734"/>
                </a:cubicBezTo>
                <a:cubicBezTo>
                  <a:pt x="9754" y="14728"/>
                  <a:pt x="9750" y="14684"/>
                  <a:pt x="9748" y="14759"/>
                </a:cubicBezTo>
                <a:cubicBezTo>
                  <a:pt x="9740" y="15124"/>
                  <a:pt x="9753" y="15487"/>
                  <a:pt x="9723" y="15850"/>
                </a:cubicBezTo>
                <a:cubicBezTo>
                  <a:pt x="9718" y="15913"/>
                  <a:pt x="9715" y="15954"/>
                  <a:pt x="9773" y="15925"/>
                </a:cubicBezTo>
                <a:cubicBezTo>
                  <a:pt x="9790" y="15917"/>
                  <a:pt x="9806" y="15908"/>
                  <a:pt x="9823" y="15900"/>
                </a:cubicBezTo>
              </a:path>
              <a:path w="3945" h="3474">
                <a:moveTo>
                  <a:pt x="10542" y="13990"/>
                </a:moveTo>
                <a:cubicBezTo>
                  <a:pt x="10486" y="14027"/>
                  <a:pt x="10556" y="13921"/>
                  <a:pt x="10616" y="13891"/>
                </a:cubicBezTo>
                <a:cubicBezTo>
                  <a:pt x="10707" y="13868"/>
                  <a:pt x="10730" y="13860"/>
                  <a:pt x="10790" y="13866"/>
                </a:cubicBezTo>
                <a:cubicBezTo>
                  <a:pt x="10777" y="13954"/>
                  <a:pt x="10737" y="14238"/>
                  <a:pt x="10592" y="14213"/>
                </a:cubicBezTo>
                <a:cubicBezTo>
                  <a:pt x="10592" y="14196"/>
                  <a:pt x="10592" y="14180"/>
                  <a:pt x="10592" y="14163"/>
                </a:cubicBezTo>
                <a:cubicBezTo>
                  <a:pt x="10712" y="14178"/>
                  <a:pt x="10917" y="14232"/>
                  <a:pt x="10790" y="14412"/>
                </a:cubicBezTo>
                <a:cubicBezTo>
                  <a:pt x="10711" y="14524"/>
                  <a:pt x="10582" y="14486"/>
                  <a:pt x="10468" y="14486"/>
                </a:cubicBezTo>
              </a:path>
              <a:path w="3945" h="3474">
                <a:moveTo>
                  <a:pt x="10294" y="14808"/>
                </a:moveTo>
                <a:cubicBezTo>
                  <a:pt x="10223" y="14774"/>
                  <a:pt x="10478" y="14736"/>
                  <a:pt x="10492" y="14734"/>
                </a:cubicBezTo>
                <a:cubicBezTo>
                  <a:pt x="10772" y="14694"/>
                  <a:pt x="11056" y="14670"/>
                  <a:pt x="11336" y="14635"/>
                </a:cubicBezTo>
                <a:cubicBezTo>
                  <a:pt x="11361" y="14635"/>
                  <a:pt x="11369" y="14635"/>
                  <a:pt x="11385" y="14635"/>
                </a:cubicBezTo>
              </a:path>
              <a:path w="3945" h="3474">
                <a:moveTo>
                  <a:pt x="10641" y="15056"/>
                </a:moveTo>
                <a:cubicBezTo>
                  <a:pt x="10593" y="15033"/>
                  <a:pt x="10703" y="14962"/>
                  <a:pt x="10740" y="14932"/>
                </a:cubicBezTo>
                <a:cubicBezTo>
                  <a:pt x="10870" y="15119"/>
                  <a:pt x="10822" y="15347"/>
                  <a:pt x="10641" y="15528"/>
                </a:cubicBezTo>
                <a:cubicBezTo>
                  <a:pt x="10543" y="15587"/>
                  <a:pt x="10528" y="15625"/>
                  <a:pt x="10468" y="15577"/>
                </a:cubicBezTo>
                <a:cubicBezTo>
                  <a:pt x="10529" y="15428"/>
                  <a:pt x="10620" y="15340"/>
                  <a:pt x="10790" y="15453"/>
                </a:cubicBezTo>
                <a:cubicBezTo>
                  <a:pt x="10828" y="15510"/>
                  <a:pt x="10845" y="15513"/>
                  <a:pt x="10840" y="15553"/>
                </a:cubicBezTo>
              </a:path>
              <a:path w="3945" h="3474">
                <a:moveTo>
                  <a:pt x="11261" y="14957"/>
                </a:moveTo>
                <a:cubicBezTo>
                  <a:pt x="11138" y="15030"/>
                  <a:pt x="11088" y="15056"/>
                  <a:pt x="10988" y="15156"/>
                </a:cubicBezTo>
                <a:cubicBezTo>
                  <a:pt x="11121" y="15253"/>
                  <a:pt x="11271" y="15280"/>
                  <a:pt x="11361" y="15404"/>
                </a:cubicBezTo>
                <a:cubicBezTo>
                  <a:pt x="11237" y="15470"/>
                  <a:pt x="11087" y="15508"/>
                  <a:pt x="11162" y="15280"/>
                </a:cubicBezTo>
                <a:cubicBezTo>
                  <a:pt x="11192" y="15190"/>
                  <a:pt x="11278" y="15095"/>
                  <a:pt x="11311" y="15007"/>
                </a:cubicBezTo>
              </a:path>
              <a:path w="3945" h="3474">
                <a:moveTo>
                  <a:pt x="9500" y="16396"/>
                </a:moveTo>
                <a:cubicBezTo>
                  <a:pt x="9648" y="16402"/>
                  <a:pt x="9833" y="16419"/>
                  <a:pt x="9996" y="16421"/>
                </a:cubicBezTo>
                <a:cubicBezTo>
                  <a:pt x="10363" y="16426"/>
                  <a:pt x="10776" y="16415"/>
                  <a:pt x="11137" y="16346"/>
                </a:cubicBezTo>
                <a:cubicBezTo>
                  <a:pt x="11385" y="16298"/>
                  <a:pt x="11799" y="16173"/>
                  <a:pt x="12005" y="16024"/>
                </a:cubicBezTo>
                <a:cubicBezTo>
                  <a:pt x="12248" y="15848"/>
                  <a:pt x="12377" y="15613"/>
                  <a:pt x="12452" y="15329"/>
                </a:cubicBezTo>
                <a:cubicBezTo>
                  <a:pt x="12533" y="15018"/>
                  <a:pt x="12574" y="14655"/>
                  <a:pt x="12526" y="14337"/>
                </a:cubicBezTo>
                <a:cubicBezTo>
                  <a:pt x="12493" y="14117"/>
                  <a:pt x="12439" y="13887"/>
                  <a:pt x="12328" y="13692"/>
                </a:cubicBezTo>
                <a:cubicBezTo>
                  <a:pt x="12222" y="13505"/>
                  <a:pt x="12089" y="13292"/>
                  <a:pt x="11931" y="13146"/>
                </a:cubicBezTo>
                <a:cubicBezTo>
                  <a:pt x="11748" y="12976"/>
                  <a:pt x="11453" y="12961"/>
                  <a:pt x="11212" y="12948"/>
                </a:cubicBezTo>
                <a:cubicBezTo>
                  <a:pt x="10897" y="12932"/>
                  <a:pt x="10546" y="12977"/>
                  <a:pt x="10244" y="13072"/>
                </a:cubicBezTo>
                <a:cubicBezTo>
                  <a:pt x="9864" y="13191"/>
                  <a:pt x="9516" y="13400"/>
                  <a:pt x="9203" y="13643"/>
                </a:cubicBezTo>
                <a:cubicBezTo>
                  <a:pt x="9010" y="13793"/>
                  <a:pt x="8861" y="14005"/>
                  <a:pt x="8781" y="14238"/>
                </a:cubicBezTo>
                <a:cubicBezTo>
                  <a:pt x="8685" y="14519"/>
                  <a:pt x="8634" y="14886"/>
                  <a:pt x="8607" y="15180"/>
                </a:cubicBezTo>
                <a:cubicBezTo>
                  <a:pt x="8590" y="15371"/>
                  <a:pt x="8643" y="15572"/>
                  <a:pt x="8706" y="15751"/>
                </a:cubicBezTo>
                <a:cubicBezTo>
                  <a:pt x="8763" y="15912"/>
                  <a:pt x="8855" y="16079"/>
                  <a:pt x="8979" y="16197"/>
                </a:cubicBezTo>
                <a:cubicBezTo>
                  <a:pt x="9057" y="16271"/>
                  <a:pt x="9251" y="16320"/>
                  <a:pt x="9351" y="16346"/>
                </a:cubicBezTo>
                <a:cubicBezTo>
                  <a:pt x="9389" y="16356"/>
                  <a:pt x="9599" y="16404"/>
                  <a:pt x="9624" y="16396"/>
                </a:cubicBezTo>
                <a:cubicBezTo>
                  <a:pt x="9765" y="16348"/>
                  <a:pt x="9566" y="16495"/>
                  <a:pt x="9773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49880" y="4133880"/>
            <a:ext cx="1501920" cy="982800"/>
          </a:xfrm>
          <a:custGeom>
            <a:avLst/>
            <a:gdLst/>
            <a:ahLst/>
            <a:rect l="l" t="t" r="r" b="b"/>
            <a:pathLst>
              <a:path w="4168" h="2729">
                <a:moveTo>
                  <a:pt x="14908" y="13444"/>
                </a:moveTo>
                <a:cubicBezTo>
                  <a:pt x="14908" y="13469"/>
                  <a:pt x="14908" y="13477"/>
                  <a:pt x="14908" y="13494"/>
                </a:cubicBezTo>
              </a:path>
              <a:path w="4168" h="2729">
                <a:moveTo>
                  <a:pt x="14982" y="13395"/>
                </a:moveTo>
                <a:cubicBezTo>
                  <a:pt x="15170" y="13357"/>
                  <a:pt x="15258" y="13391"/>
                  <a:pt x="15304" y="13618"/>
                </a:cubicBezTo>
                <a:cubicBezTo>
                  <a:pt x="15372" y="13956"/>
                  <a:pt x="15003" y="14094"/>
                  <a:pt x="14734" y="14114"/>
                </a:cubicBezTo>
                <a:cubicBezTo>
                  <a:pt x="14684" y="14106"/>
                  <a:pt x="14635" y="14097"/>
                  <a:pt x="14585" y="14089"/>
                </a:cubicBezTo>
                <a:cubicBezTo>
                  <a:pt x="14708" y="13905"/>
                  <a:pt x="14879" y="13870"/>
                  <a:pt x="15106" y="13915"/>
                </a:cubicBezTo>
                <a:cubicBezTo>
                  <a:pt x="15221" y="13938"/>
                  <a:pt x="15237" y="13951"/>
                  <a:pt x="15255" y="14039"/>
                </a:cubicBezTo>
              </a:path>
              <a:path w="4168" h="2729">
                <a:moveTo>
                  <a:pt x="15875" y="13345"/>
                </a:moveTo>
                <a:cubicBezTo>
                  <a:pt x="15797" y="13342"/>
                  <a:pt x="15434" y="13310"/>
                  <a:pt x="15453" y="13494"/>
                </a:cubicBezTo>
                <a:cubicBezTo>
                  <a:pt x="15472" y="13676"/>
                  <a:pt x="15804" y="13727"/>
                  <a:pt x="15875" y="13891"/>
                </a:cubicBezTo>
                <a:cubicBezTo>
                  <a:pt x="15724" y="13966"/>
                  <a:pt x="15672" y="13991"/>
                  <a:pt x="15553" y="13965"/>
                </a:cubicBezTo>
                <a:cubicBezTo>
                  <a:pt x="15492" y="13678"/>
                  <a:pt x="15663" y="13614"/>
                  <a:pt x="15801" y="13370"/>
                </a:cubicBezTo>
                <a:cubicBezTo>
                  <a:pt x="15768" y="13370"/>
                  <a:pt x="15751" y="13370"/>
                  <a:pt x="15726" y="13370"/>
                </a:cubicBezTo>
              </a:path>
              <a:path w="4168" h="2729">
                <a:moveTo>
                  <a:pt x="16123" y="14213"/>
                </a:moveTo>
                <a:cubicBezTo>
                  <a:pt x="16172" y="14028"/>
                  <a:pt x="16192" y="13889"/>
                  <a:pt x="16197" y="13692"/>
                </a:cubicBezTo>
                <a:cubicBezTo>
                  <a:pt x="16201" y="13527"/>
                  <a:pt x="16189" y="13379"/>
                  <a:pt x="16173" y="13221"/>
                </a:cubicBezTo>
                <a:cubicBezTo>
                  <a:pt x="16168" y="13170"/>
                  <a:pt x="16165" y="13141"/>
                  <a:pt x="16148" y="13097"/>
                </a:cubicBezTo>
                <a:cubicBezTo>
                  <a:pt x="16125" y="13074"/>
                  <a:pt x="16117" y="13070"/>
                  <a:pt x="16123" y="13047"/>
                </a:cubicBezTo>
                <a:cubicBezTo>
                  <a:pt x="16238" y="13078"/>
                  <a:pt x="16364" y="13072"/>
                  <a:pt x="16495" y="13072"/>
                </a:cubicBezTo>
                <a:cubicBezTo>
                  <a:pt x="16916" y="13072"/>
                  <a:pt x="17341" y="13034"/>
                  <a:pt x="17760" y="12998"/>
                </a:cubicBezTo>
                <a:cubicBezTo>
                  <a:pt x="17905" y="12985"/>
                  <a:pt x="18038" y="12973"/>
                  <a:pt x="18182" y="12973"/>
                </a:cubicBezTo>
              </a:path>
              <a:path w="4168" h="2729">
                <a:moveTo>
                  <a:pt x="16470" y="13469"/>
                </a:moveTo>
                <a:cubicBezTo>
                  <a:pt x="16660" y="13393"/>
                  <a:pt x="16862" y="13418"/>
                  <a:pt x="16867" y="13692"/>
                </a:cubicBezTo>
                <a:cubicBezTo>
                  <a:pt x="16871" y="13942"/>
                  <a:pt x="16637" y="14010"/>
                  <a:pt x="16470" y="13940"/>
                </a:cubicBezTo>
                <a:cubicBezTo>
                  <a:pt x="16602" y="13796"/>
                  <a:pt x="16686" y="13798"/>
                  <a:pt x="16867" y="13891"/>
                </a:cubicBezTo>
                <a:cubicBezTo>
                  <a:pt x="16890" y="13913"/>
                  <a:pt x="16898" y="13918"/>
                  <a:pt x="16892" y="13940"/>
                </a:cubicBezTo>
              </a:path>
              <a:path w="4168" h="2729">
                <a:moveTo>
                  <a:pt x="17388" y="13295"/>
                </a:moveTo>
                <a:cubicBezTo>
                  <a:pt x="17324" y="13307"/>
                  <a:pt x="17186" y="13302"/>
                  <a:pt x="17165" y="13345"/>
                </a:cubicBezTo>
                <a:cubicBezTo>
                  <a:pt x="17124" y="13429"/>
                  <a:pt x="17095" y="13505"/>
                  <a:pt x="17066" y="13593"/>
                </a:cubicBezTo>
                <a:cubicBezTo>
                  <a:pt x="17193" y="13593"/>
                  <a:pt x="17380" y="13567"/>
                  <a:pt x="17462" y="13692"/>
                </a:cubicBezTo>
                <a:cubicBezTo>
                  <a:pt x="17591" y="13888"/>
                  <a:pt x="17320" y="14017"/>
                  <a:pt x="17165" y="13990"/>
                </a:cubicBezTo>
                <a:cubicBezTo>
                  <a:pt x="17084" y="13949"/>
                  <a:pt x="17051" y="13953"/>
                  <a:pt x="17066" y="13891"/>
                </a:cubicBezTo>
              </a:path>
              <a:path w="4168" h="2729">
                <a:moveTo>
                  <a:pt x="18132" y="13271"/>
                </a:moveTo>
                <a:cubicBezTo>
                  <a:pt x="18023" y="13289"/>
                  <a:pt x="17923" y="13316"/>
                  <a:pt x="17810" y="13320"/>
                </a:cubicBezTo>
                <a:cubicBezTo>
                  <a:pt x="17677" y="13324"/>
                  <a:pt x="17703" y="13479"/>
                  <a:pt x="17661" y="13593"/>
                </a:cubicBezTo>
                <a:cubicBezTo>
                  <a:pt x="17789" y="13593"/>
                  <a:pt x="17876" y="13559"/>
                  <a:pt x="18008" y="13593"/>
                </a:cubicBezTo>
                <a:cubicBezTo>
                  <a:pt x="18187" y="13639"/>
                  <a:pt x="18296" y="13814"/>
                  <a:pt x="18083" y="13915"/>
                </a:cubicBezTo>
                <a:cubicBezTo>
                  <a:pt x="17975" y="13966"/>
                  <a:pt x="17825" y="13921"/>
                  <a:pt x="17711" y="13915"/>
                </a:cubicBezTo>
              </a:path>
              <a:path w="4168" h="2729">
                <a:moveTo>
                  <a:pt x="16619" y="12626"/>
                </a:moveTo>
                <a:cubicBezTo>
                  <a:pt x="16600" y="12568"/>
                  <a:pt x="16557" y="12651"/>
                  <a:pt x="16545" y="12700"/>
                </a:cubicBezTo>
                <a:cubicBezTo>
                  <a:pt x="16532" y="12754"/>
                  <a:pt x="16506" y="12901"/>
                  <a:pt x="16545" y="12948"/>
                </a:cubicBezTo>
                <a:cubicBezTo>
                  <a:pt x="16585" y="12996"/>
                  <a:pt x="16689" y="12970"/>
                  <a:pt x="16718" y="12923"/>
                </a:cubicBezTo>
                <a:cubicBezTo>
                  <a:pt x="16733" y="12899"/>
                  <a:pt x="16796" y="12763"/>
                  <a:pt x="16768" y="12725"/>
                </a:cubicBezTo>
                <a:cubicBezTo>
                  <a:pt x="16756" y="12708"/>
                  <a:pt x="16735" y="12664"/>
                  <a:pt x="16694" y="12650"/>
                </a:cubicBezTo>
                <a:cubicBezTo>
                  <a:pt x="16667" y="12641"/>
                  <a:pt x="16647" y="12633"/>
                  <a:pt x="16619" y="12626"/>
                </a:cubicBezTo>
              </a:path>
              <a:path w="4168" h="2729">
                <a:moveTo>
                  <a:pt x="17140" y="12626"/>
                </a:moveTo>
                <a:cubicBezTo>
                  <a:pt x="17052" y="12643"/>
                  <a:pt x="17041" y="12689"/>
                  <a:pt x="17016" y="12774"/>
                </a:cubicBezTo>
                <a:cubicBezTo>
                  <a:pt x="17001" y="12825"/>
                  <a:pt x="16951" y="12983"/>
                  <a:pt x="17016" y="13022"/>
                </a:cubicBezTo>
                <a:cubicBezTo>
                  <a:pt x="17087" y="13065"/>
                  <a:pt x="17132" y="13050"/>
                  <a:pt x="17190" y="12998"/>
                </a:cubicBezTo>
                <a:cubicBezTo>
                  <a:pt x="17231" y="12961"/>
                  <a:pt x="17279" y="12858"/>
                  <a:pt x="17264" y="12799"/>
                </a:cubicBezTo>
                <a:cubicBezTo>
                  <a:pt x="17253" y="12755"/>
                  <a:pt x="17215" y="12711"/>
                  <a:pt x="17190" y="12700"/>
                </a:cubicBezTo>
                <a:cubicBezTo>
                  <a:pt x="17136" y="12675"/>
                  <a:pt x="17124" y="12650"/>
                  <a:pt x="17066" y="12650"/>
                </a:cubicBezTo>
              </a:path>
              <a:path w="4168" h="2729">
                <a:moveTo>
                  <a:pt x="18033" y="12254"/>
                </a:moveTo>
                <a:cubicBezTo>
                  <a:pt x="18089" y="12335"/>
                  <a:pt x="17914" y="12188"/>
                  <a:pt x="17859" y="12179"/>
                </a:cubicBezTo>
                <a:cubicBezTo>
                  <a:pt x="17724" y="12158"/>
                  <a:pt x="17530" y="12245"/>
                  <a:pt x="17512" y="12402"/>
                </a:cubicBezTo>
                <a:cubicBezTo>
                  <a:pt x="17520" y="12435"/>
                  <a:pt x="17529" y="12469"/>
                  <a:pt x="17537" y="12502"/>
                </a:cubicBezTo>
                <a:cubicBezTo>
                  <a:pt x="17745" y="12591"/>
                  <a:pt x="17836" y="12520"/>
                  <a:pt x="17959" y="12328"/>
                </a:cubicBezTo>
                <a:cubicBezTo>
                  <a:pt x="17983" y="12290"/>
                  <a:pt x="18022" y="12223"/>
                  <a:pt x="18033" y="12179"/>
                </a:cubicBezTo>
                <a:cubicBezTo>
                  <a:pt x="18057" y="12345"/>
                  <a:pt x="18058" y="12506"/>
                  <a:pt x="18058" y="12675"/>
                </a:cubicBezTo>
                <a:cubicBezTo>
                  <a:pt x="18058" y="12733"/>
                  <a:pt x="18058" y="12741"/>
                  <a:pt x="18058" y="12774"/>
                </a:cubicBezTo>
              </a:path>
              <a:path w="4168" h="2729">
                <a:moveTo>
                  <a:pt x="18355" y="13047"/>
                </a:moveTo>
                <a:cubicBezTo>
                  <a:pt x="18424" y="12985"/>
                  <a:pt x="18517" y="12939"/>
                  <a:pt x="18579" y="12874"/>
                </a:cubicBezTo>
                <a:cubicBezTo>
                  <a:pt x="18673" y="12775"/>
                  <a:pt x="18755" y="12617"/>
                  <a:pt x="18752" y="12477"/>
                </a:cubicBezTo>
                <a:cubicBezTo>
                  <a:pt x="18748" y="12289"/>
                  <a:pt x="18676" y="12138"/>
                  <a:pt x="18554" y="12005"/>
                </a:cubicBezTo>
                <a:cubicBezTo>
                  <a:pt x="18372" y="11807"/>
                  <a:pt x="18169" y="11623"/>
                  <a:pt x="17909" y="11534"/>
                </a:cubicBezTo>
                <a:cubicBezTo>
                  <a:pt x="17635" y="11440"/>
                  <a:pt x="17363" y="11488"/>
                  <a:pt x="17090" y="11534"/>
                </a:cubicBezTo>
                <a:cubicBezTo>
                  <a:pt x="16885" y="11569"/>
                  <a:pt x="16659" y="11585"/>
                  <a:pt x="16470" y="11683"/>
                </a:cubicBezTo>
                <a:cubicBezTo>
                  <a:pt x="16237" y="11805"/>
                  <a:pt x="16178" y="12013"/>
                  <a:pt x="16173" y="12254"/>
                </a:cubicBezTo>
                <a:cubicBezTo>
                  <a:pt x="16170" y="12430"/>
                  <a:pt x="16191" y="12590"/>
                  <a:pt x="16247" y="12750"/>
                </a:cubicBezTo>
                <a:cubicBezTo>
                  <a:pt x="16290" y="12873"/>
                  <a:pt x="16354" y="12930"/>
                  <a:pt x="16446" y="13022"/>
                </a:cubicBezTo>
                <a:cubicBezTo>
                  <a:pt x="16534" y="13110"/>
                  <a:pt x="16651" y="13199"/>
                  <a:pt x="16768" y="13246"/>
                </a:cubicBezTo>
                <a:cubicBezTo>
                  <a:pt x="16884" y="13292"/>
                  <a:pt x="17044" y="13310"/>
                  <a:pt x="17165" y="13320"/>
                </a:cubicBezTo>
                <a:cubicBezTo>
                  <a:pt x="17355" y="13335"/>
                  <a:pt x="17575" y="13336"/>
                  <a:pt x="17760" y="13295"/>
                </a:cubicBezTo>
                <a:cubicBezTo>
                  <a:pt x="17928" y="13258"/>
                  <a:pt x="18079" y="13205"/>
                  <a:pt x="18231" y="13122"/>
                </a:cubicBezTo>
                <a:cubicBezTo>
                  <a:pt x="18300" y="13085"/>
                  <a:pt x="18401" y="13027"/>
                  <a:pt x="18455" y="12973"/>
                </a:cubicBezTo>
                <a:cubicBezTo>
                  <a:pt x="18455" y="12965"/>
                  <a:pt x="18455" y="12956"/>
                  <a:pt x="1845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8120" y="3732120"/>
            <a:ext cx="4429080" cy="1662120"/>
          </a:xfrm>
          <a:custGeom>
            <a:avLst/>
            <a:gdLst/>
            <a:ahLst/>
            <a:rect l="l" t="t" r="r" b="b"/>
            <a:pathLst>
              <a:path w="12304" h="4615">
                <a:moveTo>
                  <a:pt x="5904" y="13022"/>
                </a:moveTo>
                <a:cubicBezTo>
                  <a:pt x="5924" y="13084"/>
                  <a:pt x="6071" y="13228"/>
                  <a:pt x="6127" y="13295"/>
                </a:cubicBezTo>
                <a:cubicBezTo>
                  <a:pt x="6135" y="13303"/>
                  <a:pt x="6144" y="13312"/>
                  <a:pt x="6152" y="13320"/>
                </a:cubicBezTo>
              </a:path>
              <a:path w="12304" h="4615">
                <a:moveTo>
                  <a:pt x="6226" y="12973"/>
                </a:moveTo>
                <a:cubicBezTo>
                  <a:pt x="6136" y="13082"/>
                  <a:pt x="6033" y="13212"/>
                  <a:pt x="5978" y="13345"/>
                </a:cubicBezTo>
                <a:cubicBezTo>
                  <a:pt x="5978" y="13353"/>
                  <a:pt x="5978" y="13362"/>
                  <a:pt x="5978" y="13370"/>
                </a:cubicBezTo>
              </a:path>
              <a:path w="12304" h="4615">
                <a:moveTo>
                  <a:pt x="7913" y="12774"/>
                </a:moveTo>
                <a:cubicBezTo>
                  <a:pt x="7987" y="12774"/>
                  <a:pt x="8062" y="12774"/>
                  <a:pt x="8136" y="12774"/>
                </a:cubicBezTo>
              </a:path>
              <a:path w="12304" h="4615">
                <a:moveTo>
                  <a:pt x="7987" y="12526"/>
                </a:moveTo>
                <a:cubicBezTo>
                  <a:pt x="7987" y="12534"/>
                  <a:pt x="7987" y="12543"/>
                  <a:pt x="7987" y="12551"/>
                </a:cubicBezTo>
              </a:path>
              <a:path w="12304" h="4615">
                <a:moveTo>
                  <a:pt x="8037" y="12948"/>
                </a:moveTo>
                <a:lnTo>
                  <a:pt x="8037" y="12948"/>
                </a:lnTo>
              </a:path>
              <a:path w="12304" h="4615">
                <a:moveTo>
                  <a:pt x="8334" y="12502"/>
                </a:moveTo>
                <a:cubicBezTo>
                  <a:pt x="8334" y="12597"/>
                  <a:pt x="8348" y="12681"/>
                  <a:pt x="8359" y="12774"/>
                </a:cubicBezTo>
                <a:cubicBezTo>
                  <a:pt x="8370" y="12866"/>
                  <a:pt x="8495" y="12865"/>
                  <a:pt x="8582" y="12824"/>
                </a:cubicBezTo>
                <a:cubicBezTo>
                  <a:pt x="8677" y="12779"/>
                  <a:pt x="8710" y="12734"/>
                  <a:pt x="8731" y="12650"/>
                </a:cubicBezTo>
                <a:cubicBezTo>
                  <a:pt x="8654" y="12594"/>
                  <a:pt x="8642" y="12657"/>
                  <a:pt x="8607" y="12725"/>
                </a:cubicBezTo>
                <a:cubicBezTo>
                  <a:pt x="8583" y="12772"/>
                  <a:pt x="8582" y="12777"/>
                  <a:pt x="8582" y="12824"/>
                </a:cubicBezTo>
              </a:path>
              <a:path w="12304" h="4615">
                <a:moveTo>
                  <a:pt x="5581" y="13568"/>
                </a:moveTo>
                <a:cubicBezTo>
                  <a:pt x="5531" y="13568"/>
                  <a:pt x="5523" y="13593"/>
                  <a:pt x="5556" y="13667"/>
                </a:cubicBezTo>
              </a:path>
              <a:path w="12304" h="4615">
                <a:moveTo>
                  <a:pt x="5581" y="13866"/>
                </a:moveTo>
                <a:cubicBezTo>
                  <a:pt x="5573" y="13866"/>
                  <a:pt x="5564" y="13866"/>
                  <a:pt x="5556" y="13866"/>
                </a:cubicBezTo>
              </a:path>
              <a:path w="12304" h="4615">
                <a:moveTo>
                  <a:pt x="5556" y="13866"/>
                </a:moveTo>
                <a:lnTo>
                  <a:pt x="5556" y="13866"/>
                </a:lnTo>
              </a:path>
              <a:path w="12304" h="4615">
                <a:moveTo>
                  <a:pt x="5779" y="13593"/>
                </a:moveTo>
                <a:cubicBezTo>
                  <a:pt x="5779" y="13664"/>
                  <a:pt x="5792" y="13747"/>
                  <a:pt x="5804" y="13816"/>
                </a:cubicBezTo>
                <a:cubicBezTo>
                  <a:pt x="5827" y="13946"/>
                  <a:pt x="5895" y="13996"/>
                  <a:pt x="6028" y="13940"/>
                </a:cubicBezTo>
                <a:cubicBezTo>
                  <a:pt x="6116" y="13902"/>
                  <a:pt x="6129" y="13830"/>
                  <a:pt x="6176" y="13767"/>
                </a:cubicBezTo>
                <a:cubicBezTo>
                  <a:pt x="6090" y="13749"/>
                  <a:pt x="6047" y="13730"/>
                  <a:pt x="6003" y="13841"/>
                </a:cubicBezTo>
                <a:cubicBezTo>
                  <a:pt x="5991" y="13871"/>
                  <a:pt x="6003" y="13932"/>
                  <a:pt x="6003" y="13965"/>
                </a:cubicBezTo>
              </a:path>
              <a:path w="12304" h="4615">
                <a:moveTo>
                  <a:pt x="6796" y="13072"/>
                </a:moveTo>
                <a:cubicBezTo>
                  <a:pt x="6923" y="13002"/>
                  <a:pt x="7081" y="12974"/>
                  <a:pt x="7243" y="12923"/>
                </a:cubicBezTo>
                <a:cubicBezTo>
                  <a:pt x="7487" y="12846"/>
                  <a:pt x="7730" y="12750"/>
                  <a:pt x="7987" y="12725"/>
                </a:cubicBezTo>
                <a:cubicBezTo>
                  <a:pt x="8111" y="12713"/>
                  <a:pt x="8237" y="12701"/>
                  <a:pt x="8359" y="12675"/>
                </a:cubicBezTo>
                <a:cubicBezTo>
                  <a:pt x="8425" y="12661"/>
                  <a:pt x="8527" y="12629"/>
                  <a:pt x="8582" y="12601"/>
                </a:cubicBezTo>
                <a:cubicBezTo>
                  <a:pt x="8613" y="12585"/>
                  <a:pt x="8601" y="12592"/>
                  <a:pt x="8632" y="12576"/>
                </a:cubicBezTo>
              </a:path>
              <a:path w="12304" h="4615">
                <a:moveTo>
                  <a:pt x="7913" y="11906"/>
                </a:moveTo>
                <a:cubicBezTo>
                  <a:pt x="7814" y="11939"/>
                  <a:pt x="7691" y="11964"/>
                  <a:pt x="7590" y="12005"/>
                </a:cubicBezTo>
                <a:cubicBezTo>
                  <a:pt x="7521" y="12033"/>
                  <a:pt x="7581" y="12135"/>
                  <a:pt x="7590" y="12179"/>
                </a:cubicBezTo>
                <a:cubicBezTo>
                  <a:pt x="7691" y="12095"/>
                  <a:pt x="7759" y="12088"/>
                  <a:pt x="7888" y="12080"/>
                </a:cubicBezTo>
                <a:cubicBezTo>
                  <a:pt x="7922" y="12227"/>
                  <a:pt x="7917" y="12332"/>
                  <a:pt x="7739" y="12378"/>
                </a:cubicBezTo>
                <a:cubicBezTo>
                  <a:pt x="7668" y="12396"/>
                  <a:pt x="7629" y="12395"/>
                  <a:pt x="7615" y="12353"/>
                </a:cubicBezTo>
              </a:path>
              <a:path w="12304" h="4615">
                <a:moveTo>
                  <a:pt x="4490" y="13543"/>
                </a:moveTo>
                <a:cubicBezTo>
                  <a:pt x="4557" y="13543"/>
                  <a:pt x="4572" y="13556"/>
                  <a:pt x="4638" y="13568"/>
                </a:cubicBezTo>
                <a:cubicBezTo>
                  <a:pt x="4857" y="13608"/>
                  <a:pt x="5068" y="13683"/>
                  <a:pt x="5283" y="13742"/>
                </a:cubicBezTo>
                <a:cubicBezTo>
                  <a:pt x="5447" y="13787"/>
                  <a:pt x="5615" y="13818"/>
                  <a:pt x="5779" y="13866"/>
                </a:cubicBezTo>
                <a:cubicBezTo>
                  <a:pt x="5851" y="13887"/>
                  <a:pt x="5905" y="13928"/>
                  <a:pt x="5978" y="13940"/>
                </a:cubicBezTo>
                <a:cubicBezTo>
                  <a:pt x="6027" y="13948"/>
                  <a:pt x="6003" y="13949"/>
                  <a:pt x="6028" y="13965"/>
                </a:cubicBezTo>
              </a:path>
              <a:path w="12304" h="4615">
                <a:moveTo>
                  <a:pt x="5011" y="14362"/>
                </a:moveTo>
                <a:cubicBezTo>
                  <a:pt x="5168" y="14314"/>
                  <a:pt x="5294" y="14359"/>
                  <a:pt x="5283" y="14560"/>
                </a:cubicBezTo>
                <a:cubicBezTo>
                  <a:pt x="5271" y="14791"/>
                  <a:pt x="5114" y="14958"/>
                  <a:pt x="4911" y="14957"/>
                </a:cubicBezTo>
                <a:cubicBezTo>
                  <a:pt x="4900" y="14774"/>
                  <a:pt x="4997" y="14694"/>
                  <a:pt x="5209" y="14734"/>
                </a:cubicBezTo>
                <a:cubicBezTo>
                  <a:pt x="5288" y="14749"/>
                  <a:pt x="5326" y="14940"/>
                  <a:pt x="5383" y="14883"/>
                </a:cubicBezTo>
                <a:cubicBezTo>
                  <a:pt x="5383" y="14875"/>
                  <a:pt x="5383" y="14866"/>
                  <a:pt x="5383" y="14858"/>
                </a:cubicBezTo>
              </a:path>
              <a:path w="12304" h="4615">
                <a:moveTo>
                  <a:pt x="16470" y="10468"/>
                </a:moveTo>
                <a:cubicBezTo>
                  <a:pt x="16572" y="10423"/>
                  <a:pt x="16660" y="10395"/>
                  <a:pt x="16768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10080" y="3419640"/>
            <a:ext cx="1517760" cy="652320"/>
          </a:xfrm>
          <a:custGeom>
            <a:avLst/>
            <a:gdLst/>
            <a:ahLst/>
            <a:rect l="l" t="t" r="r" b="b"/>
            <a:pathLst>
              <a:path w="4218" h="1812">
                <a:moveTo>
                  <a:pt x="12849" y="9624"/>
                </a:moveTo>
                <a:cubicBezTo>
                  <a:pt x="12792" y="9738"/>
                  <a:pt x="12685" y="9756"/>
                  <a:pt x="12551" y="9773"/>
                </a:cubicBezTo>
                <a:cubicBezTo>
                  <a:pt x="12551" y="9850"/>
                  <a:pt x="12571" y="9920"/>
                  <a:pt x="12576" y="9996"/>
                </a:cubicBezTo>
                <a:cubicBezTo>
                  <a:pt x="12580" y="10053"/>
                  <a:pt x="12721" y="9984"/>
                  <a:pt x="12774" y="9996"/>
                </a:cubicBezTo>
                <a:cubicBezTo>
                  <a:pt x="13019" y="10052"/>
                  <a:pt x="12956" y="10295"/>
                  <a:pt x="12750" y="10368"/>
                </a:cubicBezTo>
                <a:cubicBezTo>
                  <a:pt x="12596" y="10422"/>
                  <a:pt x="12541" y="10376"/>
                  <a:pt x="12576" y="10294"/>
                </a:cubicBezTo>
              </a:path>
              <a:path w="4218" h="1812">
                <a:moveTo>
                  <a:pt x="13320" y="9624"/>
                </a:moveTo>
                <a:cubicBezTo>
                  <a:pt x="13413" y="9762"/>
                  <a:pt x="13408" y="9980"/>
                  <a:pt x="13419" y="10145"/>
                </a:cubicBezTo>
                <a:cubicBezTo>
                  <a:pt x="13419" y="10261"/>
                  <a:pt x="13419" y="10294"/>
                  <a:pt x="13419" y="10368"/>
                </a:cubicBezTo>
              </a:path>
              <a:path w="4218" h="1812">
                <a:moveTo>
                  <a:pt x="12551" y="10492"/>
                </a:moveTo>
                <a:cubicBezTo>
                  <a:pt x="12837" y="10428"/>
                  <a:pt x="13126" y="10396"/>
                  <a:pt x="13419" y="10368"/>
                </a:cubicBezTo>
                <a:cubicBezTo>
                  <a:pt x="13436" y="10368"/>
                  <a:pt x="13452" y="10368"/>
                  <a:pt x="13469" y="10368"/>
                </a:cubicBezTo>
              </a:path>
              <a:path w="4218" h="1812">
                <a:moveTo>
                  <a:pt x="12799" y="10864"/>
                </a:moveTo>
                <a:cubicBezTo>
                  <a:pt x="12943" y="10851"/>
                  <a:pt x="13126" y="10782"/>
                  <a:pt x="13171" y="10988"/>
                </a:cubicBezTo>
                <a:cubicBezTo>
                  <a:pt x="13207" y="11152"/>
                  <a:pt x="12892" y="11361"/>
                  <a:pt x="12750" y="11311"/>
                </a:cubicBezTo>
                <a:cubicBezTo>
                  <a:pt x="12733" y="11286"/>
                  <a:pt x="12717" y="11262"/>
                  <a:pt x="12700" y="11237"/>
                </a:cubicBezTo>
                <a:cubicBezTo>
                  <a:pt x="12831" y="11080"/>
                  <a:pt x="12916" y="11031"/>
                  <a:pt x="13122" y="11112"/>
                </a:cubicBezTo>
                <a:cubicBezTo>
                  <a:pt x="13195" y="11141"/>
                  <a:pt x="13208" y="11172"/>
                  <a:pt x="13221" y="11237"/>
                </a:cubicBezTo>
              </a:path>
              <a:path w="4218" h="1812">
                <a:moveTo>
                  <a:pt x="13841" y="10368"/>
                </a:moveTo>
                <a:cubicBezTo>
                  <a:pt x="13939" y="10502"/>
                  <a:pt x="14056" y="10634"/>
                  <a:pt x="14163" y="10765"/>
                </a:cubicBezTo>
                <a:cubicBezTo>
                  <a:pt x="14171" y="10773"/>
                  <a:pt x="14180" y="10782"/>
                  <a:pt x="14188" y="10790"/>
                </a:cubicBezTo>
              </a:path>
              <a:path w="4218" h="1812">
                <a:moveTo>
                  <a:pt x="14213" y="10368"/>
                </a:moveTo>
                <a:cubicBezTo>
                  <a:pt x="14102" y="10541"/>
                  <a:pt x="13886" y="11069"/>
                  <a:pt x="13866" y="10864"/>
                </a:cubicBezTo>
                <a:cubicBezTo>
                  <a:pt x="13874" y="10839"/>
                  <a:pt x="13883" y="10815"/>
                  <a:pt x="13891" y="10790"/>
                </a:cubicBezTo>
              </a:path>
              <a:path w="4218" h="1812">
                <a:moveTo>
                  <a:pt x="15478" y="9500"/>
                </a:moveTo>
                <a:cubicBezTo>
                  <a:pt x="15376" y="9526"/>
                  <a:pt x="15272" y="9546"/>
                  <a:pt x="15156" y="9550"/>
                </a:cubicBezTo>
                <a:cubicBezTo>
                  <a:pt x="15049" y="9553"/>
                  <a:pt x="15095" y="9683"/>
                  <a:pt x="15081" y="9773"/>
                </a:cubicBezTo>
                <a:cubicBezTo>
                  <a:pt x="15073" y="9806"/>
                  <a:pt x="15064" y="9839"/>
                  <a:pt x="15056" y="9872"/>
                </a:cubicBezTo>
                <a:cubicBezTo>
                  <a:pt x="15174" y="9872"/>
                  <a:pt x="15254" y="9784"/>
                  <a:pt x="15379" y="9798"/>
                </a:cubicBezTo>
                <a:cubicBezTo>
                  <a:pt x="15661" y="9831"/>
                  <a:pt x="15466" y="10087"/>
                  <a:pt x="15329" y="10145"/>
                </a:cubicBezTo>
                <a:cubicBezTo>
                  <a:pt x="15228" y="10165"/>
                  <a:pt x="15208" y="10163"/>
                  <a:pt x="15156" y="10195"/>
                </a:cubicBezTo>
              </a:path>
              <a:path w="4218" h="1812">
                <a:moveTo>
                  <a:pt x="14759" y="10393"/>
                </a:moveTo>
                <a:cubicBezTo>
                  <a:pt x="15053" y="10360"/>
                  <a:pt x="15333" y="10377"/>
                  <a:pt x="15627" y="10418"/>
                </a:cubicBezTo>
                <a:cubicBezTo>
                  <a:pt x="15721" y="10437"/>
                  <a:pt x="15741" y="10467"/>
                  <a:pt x="15776" y="10418"/>
                </a:cubicBezTo>
              </a:path>
              <a:path w="4218" h="1812">
                <a:moveTo>
                  <a:pt x="14908" y="10542"/>
                </a:moveTo>
                <a:cubicBezTo>
                  <a:pt x="14956" y="10725"/>
                  <a:pt x="14969" y="10878"/>
                  <a:pt x="14957" y="11063"/>
                </a:cubicBezTo>
                <a:cubicBezTo>
                  <a:pt x="14957" y="11112"/>
                  <a:pt x="14957" y="11128"/>
                  <a:pt x="14957" y="11063"/>
                </a:cubicBezTo>
              </a:path>
              <a:path w="4218" h="1812">
                <a:moveTo>
                  <a:pt x="15280" y="10691"/>
                </a:moveTo>
                <a:cubicBezTo>
                  <a:pt x="15280" y="10732"/>
                  <a:pt x="15280" y="10774"/>
                  <a:pt x="15280" y="10815"/>
                </a:cubicBezTo>
                <a:cubicBezTo>
                  <a:pt x="15357" y="10815"/>
                  <a:pt x="15605" y="10855"/>
                  <a:pt x="15627" y="10790"/>
                </a:cubicBezTo>
              </a:path>
              <a:path w="4218" h="1812">
                <a:moveTo>
                  <a:pt x="15503" y="10443"/>
                </a:moveTo>
                <a:cubicBezTo>
                  <a:pt x="15515" y="10640"/>
                  <a:pt x="15534" y="10845"/>
                  <a:pt x="15577" y="11038"/>
                </a:cubicBezTo>
                <a:cubicBezTo>
                  <a:pt x="15585" y="11063"/>
                  <a:pt x="15594" y="11087"/>
                  <a:pt x="15602" y="11112"/>
                </a:cubicBezTo>
              </a:path>
              <a:path w="4218" h="1812">
                <a:moveTo>
                  <a:pt x="16396" y="10393"/>
                </a:moveTo>
                <a:cubicBezTo>
                  <a:pt x="16491" y="10330"/>
                  <a:pt x="16581" y="10344"/>
                  <a:pt x="16694" y="10344"/>
                </a:cubicBezTo>
                <a:cubicBezTo>
                  <a:pt x="16710" y="10344"/>
                  <a:pt x="16727" y="10344"/>
                  <a:pt x="1674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3000" y="1741320"/>
            <a:ext cx="561960" cy="901800"/>
          </a:xfrm>
          <a:custGeom>
            <a:avLst/>
            <a:gdLst/>
            <a:ahLst/>
            <a:rect l="l" t="t" r="r" b="b"/>
            <a:pathLst>
              <a:path w="1564" h="2506">
                <a:moveTo>
                  <a:pt x="13370" y="5358"/>
                </a:moveTo>
                <a:cubicBezTo>
                  <a:pt x="13370" y="5445"/>
                  <a:pt x="13366" y="5503"/>
                  <a:pt x="13395" y="5581"/>
                </a:cubicBezTo>
                <a:cubicBezTo>
                  <a:pt x="13555" y="5545"/>
                  <a:pt x="13612" y="5525"/>
                  <a:pt x="13742" y="5432"/>
                </a:cubicBezTo>
              </a:path>
              <a:path w="1564" h="2506">
                <a:moveTo>
                  <a:pt x="13593" y="5035"/>
                </a:moveTo>
                <a:cubicBezTo>
                  <a:pt x="13625" y="5342"/>
                  <a:pt x="13614" y="5676"/>
                  <a:pt x="13667" y="5978"/>
                </a:cubicBezTo>
                <a:cubicBezTo>
                  <a:pt x="13675" y="5986"/>
                  <a:pt x="13684" y="5995"/>
                  <a:pt x="13692" y="6003"/>
                </a:cubicBezTo>
              </a:path>
              <a:path w="1564" h="2506">
                <a:moveTo>
                  <a:pt x="13395" y="6102"/>
                </a:moveTo>
                <a:cubicBezTo>
                  <a:pt x="13602" y="6072"/>
                  <a:pt x="13807" y="6008"/>
                  <a:pt x="14015" y="5978"/>
                </a:cubicBezTo>
                <a:cubicBezTo>
                  <a:pt x="14056" y="5978"/>
                  <a:pt x="14072" y="5970"/>
                  <a:pt x="14064" y="6003"/>
                </a:cubicBezTo>
              </a:path>
              <a:path w="1564" h="2506">
                <a:moveTo>
                  <a:pt x="13841" y="6573"/>
                </a:moveTo>
                <a:cubicBezTo>
                  <a:pt x="13895" y="6466"/>
                  <a:pt x="13891" y="6371"/>
                  <a:pt x="13767" y="6300"/>
                </a:cubicBezTo>
                <a:cubicBezTo>
                  <a:pt x="13554" y="6178"/>
                  <a:pt x="13459" y="6462"/>
                  <a:pt x="13395" y="6598"/>
                </a:cubicBezTo>
                <a:cubicBezTo>
                  <a:pt x="13484" y="6636"/>
                  <a:pt x="13690" y="6673"/>
                  <a:pt x="13742" y="6524"/>
                </a:cubicBezTo>
                <a:cubicBezTo>
                  <a:pt x="13742" y="6449"/>
                  <a:pt x="13742" y="6425"/>
                  <a:pt x="13742" y="6375"/>
                </a:cubicBezTo>
                <a:cubicBezTo>
                  <a:pt x="13643" y="6243"/>
                  <a:pt x="13787" y="6749"/>
                  <a:pt x="13791" y="6772"/>
                </a:cubicBezTo>
                <a:cubicBezTo>
                  <a:pt x="13806" y="6855"/>
                  <a:pt x="13827" y="6939"/>
                  <a:pt x="13841" y="7020"/>
                </a:cubicBezTo>
              </a:path>
              <a:path w="1564" h="2506">
                <a:moveTo>
                  <a:pt x="13469" y="7317"/>
                </a:moveTo>
                <a:cubicBezTo>
                  <a:pt x="13538" y="7332"/>
                  <a:pt x="13591" y="7351"/>
                  <a:pt x="13667" y="7342"/>
                </a:cubicBezTo>
                <a:cubicBezTo>
                  <a:pt x="13766" y="7330"/>
                  <a:pt x="13872" y="7293"/>
                  <a:pt x="13965" y="7268"/>
                </a:cubicBezTo>
                <a:cubicBezTo>
                  <a:pt x="14059" y="7242"/>
                  <a:pt x="14138" y="7201"/>
                  <a:pt x="14213" y="7144"/>
                </a:cubicBezTo>
                <a:cubicBezTo>
                  <a:pt x="14287" y="7088"/>
                  <a:pt x="14361" y="7049"/>
                  <a:pt x="14412" y="6970"/>
                </a:cubicBezTo>
                <a:cubicBezTo>
                  <a:pt x="14475" y="6874"/>
                  <a:pt x="14482" y="6707"/>
                  <a:pt x="14486" y="6598"/>
                </a:cubicBezTo>
                <a:cubicBezTo>
                  <a:pt x="14490" y="6477"/>
                  <a:pt x="14449" y="6393"/>
                  <a:pt x="14436" y="6276"/>
                </a:cubicBezTo>
                <a:cubicBezTo>
                  <a:pt x="14422" y="6156"/>
                  <a:pt x="14397" y="6045"/>
                  <a:pt x="14362" y="5928"/>
                </a:cubicBezTo>
                <a:cubicBezTo>
                  <a:pt x="14328" y="5814"/>
                  <a:pt x="14265" y="5684"/>
                  <a:pt x="14213" y="5581"/>
                </a:cubicBezTo>
                <a:cubicBezTo>
                  <a:pt x="14167" y="5490"/>
                  <a:pt x="14098" y="5392"/>
                  <a:pt x="14039" y="5308"/>
                </a:cubicBezTo>
                <a:cubicBezTo>
                  <a:pt x="13995" y="5245"/>
                  <a:pt x="13944" y="5191"/>
                  <a:pt x="13891" y="5135"/>
                </a:cubicBezTo>
                <a:cubicBezTo>
                  <a:pt x="13859" y="5102"/>
                  <a:pt x="13830" y="5027"/>
                  <a:pt x="13791" y="4986"/>
                </a:cubicBezTo>
                <a:cubicBezTo>
                  <a:pt x="13753" y="4946"/>
                  <a:pt x="13693" y="4911"/>
                  <a:pt x="13643" y="4887"/>
                </a:cubicBezTo>
                <a:cubicBezTo>
                  <a:pt x="13545" y="4840"/>
                  <a:pt x="13471" y="4827"/>
                  <a:pt x="13370" y="4862"/>
                </a:cubicBezTo>
                <a:cubicBezTo>
                  <a:pt x="13260" y="4901"/>
                  <a:pt x="13148" y="4972"/>
                  <a:pt x="13072" y="5060"/>
                </a:cubicBezTo>
                <a:cubicBezTo>
                  <a:pt x="13005" y="5138"/>
                  <a:pt x="12980" y="5212"/>
                  <a:pt x="12948" y="5308"/>
                </a:cubicBezTo>
                <a:cubicBezTo>
                  <a:pt x="12919" y="5395"/>
                  <a:pt x="12925" y="5465"/>
                  <a:pt x="12923" y="5556"/>
                </a:cubicBezTo>
                <a:cubicBezTo>
                  <a:pt x="12920" y="5683"/>
                  <a:pt x="12915" y="5805"/>
                  <a:pt x="12948" y="5928"/>
                </a:cubicBezTo>
                <a:cubicBezTo>
                  <a:pt x="12975" y="6027"/>
                  <a:pt x="12996" y="6125"/>
                  <a:pt x="13022" y="6226"/>
                </a:cubicBezTo>
                <a:cubicBezTo>
                  <a:pt x="13047" y="6324"/>
                  <a:pt x="13071" y="6429"/>
                  <a:pt x="13097" y="6524"/>
                </a:cubicBezTo>
                <a:cubicBezTo>
                  <a:pt x="13127" y="6633"/>
                  <a:pt x="13192" y="6746"/>
                  <a:pt x="13221" y="6846"/>
                </a:cubicBezTo>
                <a:cubicBezTo>
                  <a:pt x="13250" y="6948"/>
                  <a:pt x="13246" y="7027"/>
                  <a:pt x="13295" y="7119"/>
                </a:cubicBezTo>
                <a:cubicBezTo>
                  <a:pt x="13326" y="7178"/>
                  <a:pt x="13377" y="7235"/>
                  <a:pt x="13419" y="7268"/>
                </a:cubicBezTo>
                <a:cubicBezTo>
                  <a:pt x="13434" y="7280"/>
                  <a:pt x="13525" y="7341"/>
                  <a:pt x="13543" y="7342"/>
                </a:cubicBezTo>
                <a:cubicBezTo>
                  <a:pt x="13604" y="7346"/>
                  <a:pt x="13654" y="7319"/>
                  <a:pt x="13717" y="7317"/>
                </a:cubicBezTo>
                <a:cubicBezTo>
                  <a:pt x="13750" y="7317"/>
                  <a:pt x="13766" y="7317"/>
                  <a:pt x="13791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554280"/>
            <a:ext cx="527040" cy="1517760"/>
          </a:xfrm>
          <a:custGeom>
            <a:avLst/>
            <a:gdLst/>
            <a:ahLst/>
            <a:rect l="l" t="t" r="r" b="b"/>
            <a:pathLst>
              <a:path w="1464" h="4218">
                <a:moveTo>
                  <a:pt x="6921" y="11162"/>
                </a:moveTo>
                <a:cubicBezTo>
                  <a:pt x="6929" y="11154"/>
                  <a:pt x="6937" y="11145"/>
                  <a:pt x="6945" y="11137"/>
                </a:cubicBezTo>
                <a:cubicBezTo>
                  <a:pt x="6963" y="11218"/>
                  <a:pt x="7017" y="11284"/>
                  <a:pt x="7045" y="11361"/>
                </a:cubicBezTo>
                <a:cubicBezTo>
                  <a:pt x="7045" y="11369"/>
                  <a:pt x="7045" y="11377"/>
                  <a:pt x="7045" y="11385"/>
                </a:cubicBezTo>
              </a:path>
              <a:path w="1464" h="4218">
                <a:moveTo>
                  <a:pt x="7069" y="11112"/>
                </a:moveTo>
                <a:cubicBezTo>
                  <a:pt x="6989" y="11173"/>
                  <a:pt x="6919" y="11272"/>
                  <a:pt x="6871" y="11361"/>
                </a:cubicBezTo>
                <a:cubicBezTo>
                  <a:pt x="6871" y="11385"/>
                  <a:pt x="6871" y="11393"/>
                  <a:pt x="6896" y="11385"/>
                </a:cubicBezTo>
              </a:path>
              <a:path w="1464" h="4218">
                <a:moveTo>
                  <a:pt x="6524" y="11584"/>
                </a:moveTo>
                <a:cubicBezTo>
                  <a:pt x="6499" y="11584"/>
                  <a:pt x="6491" y="11584"/>
                  <a:pt x="6474" y="11584"/>
                </a:cubicBezTo>
                <a:cubicBezTo>
                  <a:pt x="6571" y="11560"/>
                  <a:pt x="6578" y="11706"/>
                  <a:pt x="6548" y="11807"/>
                </a:cubicBezTo>
                <a:cubicBezTo>
                  <a:pt x="6515" y="11919"/>
                  <a:pt x="6464" y="11958"/>
                  <a:pt x="6375" y="11981"/>
                </a:cubicBezTo>
                <a:cubicBezTo>
                  <a:pt x="6339" y="11884"/>
                  <a:pt x="6316" y="11846"/>
                  <a:pt x="6449" y="11832"/>
                </a:cubicBezTo>
                <a:cubicBezTo>
                  <a:pt x="6602" y="11815"/>
                  <a:pt x="6623" y="11852"/>
                  <a:pt x="6623" y="11981"/>
                </a:cubicBezTo>
              </a:path>
              <a:path w="1464" h="4218">
                <a:moveTo>
                  <a:pt x="6970" y="11584"/>
                </a:moveTo>
                <a:cubicBezTo>
                  <a:pt x="6886" y="11584"/>
                  <a:pt x="6846" y="11579"/>
                  <a:pt x="6772" y="11633"/>
                </a:cubicBezTo>
                <a:cubicBezTo>
                  <a:pt x="6722" y="11669"/>
                  <a:pt x="6708" y="11703"/>
                  <a:pt x="6697" y="11757"/>
                </a:cubicBezTo>
                <a:cubicBezTo>
                  <a:pt x="6771" y="11784"/>
                  <a:pt x="6986" y="11798"/>
                  <a:pt x="6995" y="11906"/>
                </a:cubicBezTo>
                <a:cubicBezTo>
                  <a:pt x="7006" y="12031"/>
                  <a:pt x="6895" y="12020"/>
                  <a:pt x="6821" y="12030"/>
                </a:cubicBezTo>
                <a:cubicBezTo>
                  <a:pt x="6802" y="11927"/>
                  <a:pt x="6811" y="11808"/>
                  <a:pt x="6871" y="11708"/>
                </a:cubicBezTo>
                <a:cubicBezTo>
                  <a:pt x="6894" y="11685"/>
                  <a:pt x="6902" y="11681"/>
                  <a:pt x="6896" y="11658"/>
                </a:cubicBezTo>
              </a:path>
              <a:path w="1464" h="4218">
                <a:moveTo>
                  <a:pt x="6648" y="11336"/>
                </a:moveTo>
                <a:cubicBezTo>
                  <a:pt x="6552" y="11304"/>
                  <a:pt x="6472" y="11294"/>
                  <a:pt x="6424" y="11187"/>
                </a:cubicBezTo>
                <a:cubicBezTo>
                  <a:pt x="6372" y="11071"/>
                  <a:pt x="6351" y="10933"/>
                  <a:pt x="6375" y="10815"/>
                </a:cubicBezTo>
                <a:cubicBezTo>
                  <a:pt x="6399" y="10698"/>
                  <a:pt x="6426" y="10582"/>
                  <a:pt x="6449" y="10468"/>
                </a:cubicBezTo>
                <a:cubicBezTo>
                  <a:pt x="6470" y="10363"/>
                  <a:pt x="6514" y="10326"/>
                  <a:pt x="6598" y="10269"/>
                </a:cubicBezTo>
                <a:cubicBezTo>
                  <a:pt x="6701" y="10199"/>
                  <a:pt x="6761" y="10176"/>
                  <a:pt x="6871" y="10145"/>
                </a:cubicBezTo>
                <a:cubicBezTo>
                  <a:pt x="6924" y="10130"/>
                  <a:pt x="6969" y="10165"/>
                  <a:pt x="7020" y="10145"/>
                </a:cubicBezTo>
                <a:cubicBezTo>
                  <a:pt x="7020" y="10137"/>
                  <a:pt x="7020" y="10128"/>
                  <a:pt x="7020" y="10120"/>
                </a:cubicBezTo>
              </a:path>
              <a:path w="1464" h="4218">
                <a:moveTo>
                  <a:pt x="7094" y="9872"/>
                </a:moveTo>
                <a:cubicBezTo>
                  <a:pt x="7124" y="9977"/>
                  <a:pt x="7170" y="10083"/>
                  <a:pt x="7193" y="10195"/>
                </a:cubicBezTo>
                <a:cubicBezTo>
                  <a:pt x="7193" y="10203"/>
                  <a:pt x="7193" y="10212"/>
                  <a:pt x="7193" y="10220"/>
                </a:cubicBezTo>
              </a:path>
              <a:path w="1464" h="4218">
                <a:moveTo>
                  <a:pt x="6995" y="10071"/>
                </a:moveTo>
                <a:cubicBezTo>
                  <a:pt x="7127" y="10071"/>
                  <a:pt x="7260" y="10071"/>
                  <a:pt x="7392" y="10071"/>
                </a:cubicBezTo>
              </a:path>
              <a:path w="1464" h="4218">
                <a:moveTo>
                  <a:pt x="6921" y="12526"/>
                </a:moveTo>
                <a:cubicBezTo>
                  <a:pt x="6962" y="12485"/>
                  <a:pt x="6970" y="12477"/>
                  <a:pt x="6995" y="12452"/>
                </a:cubicBezTo>
                <a:cubicBezTo>
                  <a:pt x="7078" y="12575"/>
                  <a:pt x="7023" y="12624"/>
                  <a:pt x="6945" y="12750"/>
                </a:cubicBezTo>
                <a:cubicBezTo>
                  <a:pt x="7103" y="12738"/>
                  <a:pt x="7173" y="12833"/>
                  <a:pt x="7020" y="12973"/>
                </a:cubicBezTo>
                <a:cubicBezTo>
                  <a:pt x="6921" y="13063"/>
                  <a:pt x="6764" y="13110"/>
                  <a:pt x="6846" y="12948"/>
                </a:cubicBezTo>
              </a:path>
              <a:path w="1464" h="4218">
                <a:moveTo>
                  <a:pt x="7466" y="12502"/>
                </a:moveTo>
                <a:cubicBezTo>
                  <a:pt x="7356" y="12557"/>
                  <a:pt x="7306" y="12733"/>
                  <a:pt x="7342" y="12874"/>
                </a:cubicBezTo>
                <a:cubicBezTo>
                  <a:pt x="7359" y="12899"/>
                  <a:pt x="7375" y="12923"/>
                  <a:pt x="7392" y="12948"/>
                </a:cubicBezTo>
                <a:cubicBezTo>
                  <a:pt x="7564" y="12926"/>
                  <a:pt x="7707" y="12846"/>
                  <a:pt x="7640" y="12626"/>
                </a:cubicBezTo>
                <a:cubicBezTo>
                  <a:pt x="7605" y="12511"/>
                  <a:pt x="7532" y="12512"/>
                  <a:pt x="7441" y="12502"/>
                </a:cubicBezTo>
              </a:path>
              <a:path w="1464" h="4218">
                <a:moveTo>
                  <a:pt x="6821" y="13171"/>
                </a:moveTo>
                <a:cubicBezTo>
                  <a:pt x="7029" y="13171"/>
                  <a:pt x="7234" y="13155"/>
                  <a:pt x="7441" y="13146"/>
                </a:cubicBezTo>
                <a:cubicBezTo>
                  <a:pt x="7564" y="13141"/>
                  <a:pt x="7689" y="13146"/>
                  <a:pt x="7813" y="13146"/>
                </a:cubicBezTo>
              </a:path>
              <a:path w="1464" h="4218">
                <a:moveTo>
                  <a:pt x="7069" y="13370"/>
                </a:moveTo>
                <a:cubicBezTo>
                  <a:pt x="7069" y="13537"/>
                  <a:pt x="7077" y="13701"/>
                  <a:pt x="7045" y="13866"/>
                </a:cubicBezTo>
                <a:cubicBezTo>
                  <a:pt x="7042" y="13883"/>
                  <a:pt x="6938" y="14204"/>
                  <a:pt x="7020" y="14015"/>
                </a:cubicBezTo>
              </a:path>
              <a:path w="1464" h="4218">
                <a:moveTo>
                  <a:pt x="7367" y="13444"/>
                </a:moveTo>
                <a:cubicBezTo>
                  <a:pt x="7367" y="13527"/>
                  <a:pt x="7358" y="13590"/>
                  <a:pt x="7342" y="13667"/>
                </a:cubicBezTo>
                <a:cubicBezTo>
                  <a:pt x="7454" y="13667"/>
                  <a:pt x="7536" y="13624"/>
                  <a:pt x="7640" y="13593"/>
                </a:cubicBezTo>
                <a:cubicBezTo>
                  <a:pt x="7648" y="13593"/>
                  <a:pt x="7657" y="13593"/>
                  <a:pt x="7665" y="13593"/>
                </a:cubicBezTo>
              </a:path>
              <a:path w="1464" h="4218">
                <a:moveTo>
                  <a:pt x="7665" y="13246"/>
                </a:moveTo>
                <a:cubicBezTo>
                  <a:pt x="7653" y="13454"/>
                  <a:pt x="7607" y="13658"/>
                  <a:pt x="7590" y="13866"/>
                </a:cubicBezTo>
                <a:cubicBezTo>
                  <a:pt x="7590" y="13940"/>
                  <a:pt x="7590" y="13949"/>
                  <a:pt x="7590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35040" y="2116080"/>
            <a:ext cx="393840" cy="2662200"/>
          </a:xfrm>
          <a:custGeom>
            <a:avLst/>
            <a:gdLst/>
            <a:ahLst/>
            <a:rect l="l" t="t" r="r" b="b"/>
            <a:pathLst>
              <a:path w="1093" h="7393">
                <a:moveTo>
                  <a:pt x="4266" y="5879"/>
                </a:moveTo>
                <a:cubicBezTo>
                  <a:pt x="4266" y="5887"/>
                  <a:pt x="4266" y="5896"/>
                  <a:pt x="4266" y="5904"/>
                </a:cubicBezTo>
              </a:path>
              <a:path w="1093" h="7393">
                <a:moveTo>
                  <a:pt x="4291" y="6350"/>
                </a:moveTo>
                <a:lnTo>
                  <a:pt x="4291" y="6350"/>
                </a:lnTo>
              </a:path>
              <a:path w="1093" h="7393">
                <a:moveTo>
                  <a:pt x="4514" y="11162"/>
                </a:moveTo>
                <a:cubicBezTo>
                  <a:pt x="4450" y="11235"/>
                  <a:pt x="4374" y="11317"/>
                  <a:pt x="4341" y="11410"/>
                </a:cubicBezTo>
                <a:cubicBezTo>
                  <a:pt x="4341" y="11418"/>
                  <a:pt x="4341" y="11427"/>
                  <a:pt x="4341" y="11435"/>
                </a:cubicBezTo>
              </a:path>
              <a:path w="1093" h="7393">
                <a:moveTo>
                  <a:pt x="4366" y="13271"/>
                </a:moveTo>
                <a:cubicBezTo>
                  <a:pt x="4539" y="13246"/>
                  <a:pt x="4712" y="13241"/>
                  <a:pt x="4887" y="13221"/>
                </a:cubicBezTo>
                <a:cubicBezTo>
                  <a:pt x="5046" y="13203"/>
                  <a:pt x="5201" y="13169"/>
                  <a:pt x="535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17760" y="2108160"/>
            <a:ext cx="179280" cy="13356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4242" y="6152"/>
                </a:moveTo>
                <a:cubicBezTo>
                  <a:pt x="4234" y="6152"/>
                  <a:pt x="4225" y="6152"/>
                  <a:pt x="4217" y="6152"/>
                </a:cubicBezTo>
                <a:cubicBezTo>
                  <a:pt x="4231" y="6110"/>
                  <a:pt x="4265" y="6127"/>
                  <a:pt x="4316" y="6127"/>
                </a:cubicBezTo>
                <a:cubicBezTo>
                  <a:pt x="4360" y="6127"/>
                  <a:pt x="4355" y="6129"/>
                  <a:pt x="4390" y="6102"/>
                </a:cubicBezTo>
              </a:path>
              <a:path w="497" h="373">
                <a:moveTo>
                  <a:pt x="4638" y="5854"/>
                </a:moveTo>
                <a:cubicBezTo>
                  <a:pt x="4596" y="5871"/>
                  <a:pt x="4527" y="5902"/>
                  <a:pt x="4514" y="5953"/>
                </a:cubicBezTo>
                <a:cubicBezTo>
                  <a:pt x="4514" y="6003"/>
                  <a:pt x="4514" y="6019"/>
                  <a:pt x="4514" y="6052"/>
                </a:cubicBezTo>
                <a:cubicBezTo>
                  <a:pt x="4569" y="6043"/>
                  <a:pt x="4679" y="5996"/>
                  <a:pt x="4713" y="6077"/>
                </a:cubicBezTo>
                <a:cubicBezTo>
                  <a:pt x="4759" y="6184"/>
                  <a:pt x="4598" y="6213"/>
                  <a:pt x="4539" y="6226"/>
                </a:cubicBezTo>
                <a:cubicBezTo>
                  <a:pt x="4531" y="6226"/>
                  <a:pt x="4522" y="6226"/>
                  <a:pt x="4514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4760" y="269712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4291" y="7565"/>
                </a:moveTo>
                <a:cubicBezTo>
                  <a:pt x="4335" y="7540"/>
                  <a:pt x="4371" y="7517"/>
                  <a:pt x="4415" y="7491"/>
                </a:cubicBezTo>
                <a:cubicBezTo>
                  <a:pt x="4407" y="7596"/>
                  <a:pt x="4375" y="7654"/>
                  <a:pt x="4341" y="7739"/>
                </a:cubicBezTo>
                <a:cubicBezTo>
                  <a:pt x="4428" y="7721"/>
                  <a:pt x="4501" y="7676"/>
                  <a:pt x="4589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4280" y="3473280"/>
            <a:ext cx="500400" cy="795600"/>
          </a:xfrm>
          <a:custGeom>
            <a:avLst/>
            <a:gdLst/>
            <a:ahLst/>
            <a:rect l="l" t="t" r="r" b="b"/>
            <a:pathLst>
              <a:path w="1390" h="2209">
                <a:moveTo>
                  <a:pt x="4291" y="11237"/>
                </a:moveTo>
                <a:cubicBezTo>
                  <a:pt x="4364" y="11266"/>
                  <a:pt x="4408" y="11338"/>
                  <a:pt x="4465" y="11385"/>
                </a:cubicBezTo>
                <a:cubicBezTo>
                  <a:pt x="4499" y="11413"/>
                  <a:pt x="4549" y="11427"/>
                  <a:pt x="4589" y="11435"/>
                </a:cubicBezTo>
              </a:path>
              <a:path w="1390" h="2209">
                <a:moveTo>
                  <a:pt x="3398" y="11485"/>
                </a:moveTo>
                <a:cubicBezTo>
                  <a:pt x="3388" y="11545"/>
                  <a:pt x="3378" y="11596"/>
                  <a:pt x="3373" y="11658"/>
                </a:cubicBezTo>
                <a:cubicBezTo>
                  <a:pt x="3474" y="11701"/>
                  <a:pt x="3525" y="11665"/>
                  <a:pt x="3621" y="11633"/>
                </a:cubicBezTo>
                <a:cubicBezTo>
                  <a:pt x="3629" y="11633"/>
                  <a:pt x="3638" y="11633"/>
                  <a:pt x="3646" y="11633"/>
                </a:cubicBezTo>
              </a:path>
              <a:path w="1390" h="2209">
                <a:moveTo>
                  <a:pt x="3646" y="11311"/>
                </a:moveTo>
                <a:cubicBezTo>
                  <a:pt x="3646" y="11487"/>
                  <a:pt x="3629" y="11657"/>
                  <a:pt x="3621" y="11832"/>
                </a:cubicBezTo>
                <a:cubicBezTo>
                  <a:pt x="3621" y="11867"/>
                  <a:pt x="3626" y="11866"/>
                  <a:pt x="3646" y="11807"/>
                </a:cubicBezTo>
              </a:path>
              <a:path w="1390" h="2209">
                <a:moveTo>
                  <a:pt x="3994" y="11286"/>
                </a:moveTo>
                <a:cubicBezTo>
                  <a:pt x="3928" y="11326"/>
                  <a:pt x="3865" y="11422"/>
                  <a:pt x="3845" y="11509"/>
                </a:cubicBezTo>
                <a:cubicBezTo>
                  <a:pt x="3819" y="11622"/>
                  <a:pt x="3993" y="11625"/>
                  <a:pt x="4043" y="11708"/>
                </a:cubicBezTo>
                <a:cubicBezTo>
                  <a:pt x="4101" y="11805"/>
                  <a:pt x="4033" y="11804"/>
                  <a:pt x="3969" y="11857"/>
                </a:cubicBezTo>
                <a:cubicBezTo>
                  <a:pt x="3885" y="11703"/>
                  <a:pt x="3959" y="11608"/>
                  <a:pt x="3994" y="11435"/>
                </a:cubicBezTo>
                <a:cubicBezTo>
                  <a:pt x="4002" y="11396"/>
                  <a:pt x="3991" y="11389"/>
                  <a:pt x="3969" y="11361"/>
                </a:cubicBezTo>
              </a:path>
              <a:path w="1390" h="2209">
                <a:moveTo>
                  <a:pt x="3721" y="10988"/>
                </a:moveTo>
                <a:cubicBezTo>
                  <a:pt x="3651" y="10903"/>
                  <a:pt x="3630" y="10775"/>
                  <a:pt x="3621" y="10666"/>
                </a:cubicBezTo>
                <a:cubicBezTo>
                  <a:pt x="3605" y="10467"/>
                  <a:pt x="3649" y="10370"/>
                  <a:pt x="3795" y="10244"/>
                </a:cubicBezTo>
                <a:cubicBezTo>
                  <a:pt x="3863" y="10185"/>
                  <a:pt x="4070" y="10007"/>
                  <a:pt x="4167" y="10021"/>
                </a:cubicBezTo>
                <a:cubicBezTo>
                  <a:pt x="4167" y="10029"/>
                  <a:pt x="4167" y="10038"/>
                  <a:pt x="4167" y="10046"/>
                </a:cubicBezTo>
              </a:path>
              <a:path w="1390" h="2209">
                <a:moveTo>
                  <a:pt x="4539" y="9649"/>
                </a:moveTo>
                <a:cubicBezTo>
                  <a:pt x="4539" y="9765"/>
                  <a:pt x="4539" y="9880"/>
                  <a:pt x="4539" y="9996"/>
                </a:cubicBezTo>
              </a:path>
              <a:path w="1390" h="2209">
                <a:moveTo>
                  <a:pt x="4341" y="9872"/>
                </a:moveTo>
                <a:cubicBezTo>
                  <a:pt x="4461" y="9848"/>
                  <a:pt x="4592" y="9805"/>
                  <a:pt x="4713" y="9798"/>
                </a:cubicBezTo>
                <a:cubicBezTo>
                  <a:pt x="4729" y="9798"/>
                  <a:pt x="4746" y="9798"/>
                  <a:pt x="4762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3040" y="4473720"/>
            <a:ext cx="241200" cy="20628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4911" y="12427"/>
                </a:moveTo>
                <a:cubicBezTo>
                  <a:pt x="4880" y="12474"/>
                  <a:pt x="4736" y="12477"/>
                  <a:pt x="4663" y="12502"/>
                </a:cubicBezTo>
                <a:cubicBezTo>
                  <a:pt x="4555" y="12539"/>
                  <a:pt x="4589" y="12658"/>
                  <a:pt x="4589" y="12750"/>
                </a:cubicBezTo>
                <a:cubicBezTo>
                  <a:pt x="4676" y="12730"/>
                  <a:pt x="4785" y="12659"/>
                  <a:pt x="4887" y="12700"/>
                </a:cubicBezTo>
                <a:cubicBezTo>
                  <a:pt x="5046" y="12764"/>
                  <a:pt x="4869" y="12942"/>
                  <a:pt x="4787" y="12973"/>
                </a:cubicBezTo>
                <a:cubicBezTo>
                  <a:pt x="4672" y="12996"/>
                  <a:pt x="4640" y="13005"/>
                  <a:pt x="4564" y="12998"/>
                </a:cubicBezTo>
              </a:path>
              <a:path w="671" h="572">
                <a:moveTo>
                  <a:pt x="5135" y="12452"/>
                </a:moveTo>
                <a:cubicBezTo>
                  <a:pt x="5185" y="12538"/>
                  <a:pt x="5199" y="12693"/>
                  <a:pt x="5209" y="12799"/>
                </a:cubicBezTo>
                <a:cubicBezTo>
                  <a:pt x="5209" y="12884"/>
                  <a:pt x="5203" y="12904"/>
                  <a:pt x="5234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0040" y="484020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4638" y="13519"/>
                </a:moveTo>
                <a:cubicBezTo>
                  <a:pt x="4664" y="13675"/>
                  <a:pt x="4650" y="13807"/>
                  <a:pt x="4638" y="13965"/>
                </a:cubicBezTo>
                <a:cubicBezTo>
                  <a:pt x="4638" y="14023"/>
                  <a:pt x="4638" y="14031"/>
                  <a:pt x="4638" y="14064"/>
                </a:cubicBezTo>
              </a:path>
              <a:path w="1018" h="621">
                <a:moveTo>
                  <a:pt x="4936" y="13568"/>
                </a:moveTo>
                <a:cubicBezTo>
                  <a:pt x="4970" y="13531"/>
                  <a:pt x="5093" y="13383"/>
                  <a:pt x="5159" y="13469"/>
                </a:cubicBezTo>
                <a:cubicBezTo>
                  <a:pt x="5274" y="13619"/>
                  <a:pt x="5094" y="13830"/>
                  <a:pt x="5011" y="13940"/>
                </a:cubicBezTo>
                <a:cubicBezTo>
                  <a:pt x="4975" y="13988"/>
                  <a:pt x="4944" y="14021"/>
                  <a:pt x="4911" y="14064"/>
                </a:cubicBezTo>
                <a:cubicBezTo>
                  <a:pt x="5012" y="14064"/>
                  <a:pt x="5063" y="14044"/>
                  <a:pt x="5159" y="14015"/>
                </a:cubicBezTo>
                <a:cubicBezTo>
                  <a:pt x="5227" y="13994"/>
                  <a:pt x="5250" y="13990"/>
                  <a:pt x="5308" y="13990"/>
                </a:cubicBezTo>
              </a:path>
              <a:path w="1018" h="621">
                <a:moveTo>
                  <a:pt x="5457" y="13717"/>
                </a:moveTo>
                <a:cubicBezTo>
                  <a:pt x="5533" y="13698"/>
                  <a:pt x="5592" y="13668"/>
                  <a:pt x="5655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57200" y="2678040"/>
            <a:ext cx="169920" cy="1090800"/>
          </a:xfrm>
          <a:custGeom>
            <a:avLst/>
            <a:gdLst/>
            <a:ahLst/>
            <a:rect l="l" t="t" r="r" b="b"/>
            <a:pathLst>
              <a:path w="473" h="3028">
                <a:moveTo>
                  <a:pt x="3770" y="10468"/>
                </a:moveTo>
                <a:cubicBezTo>
                  <a:pt x="3778" y="10468"/>
                  <a:pt x="3787" y="10468"/>
                  <a:pt x="3795" y="10468"/>
                </a:cubicBezTo>
              </a:path>
              <a:path w="473" h="3028">
                <a:moveTo>
                  <a:pt x="4068" y="7590"/>
                </a:moveTo>
                <a:cubicBezTo>
                  <a:pt x="4126" y="7571"/>
                  <a:pt x="4182" y="7551"/>
                  <a:pt x="4242" y="7541"/>
                </a:cubicBezTo>
              </a:path>
              <a:path w="473" h="3028">
                <a:moveTo>
                  <a:pt x="4093" y="7441"/>
                </a:moveTo>
                <a:cubicBezTo>
                  <a:pt x="4093" y="7449"/>
                  <a:pt x="4093" y="7458"/>
                  <a:pt x="4093" y="7466"/>
                </a:cubicBezTo>
              </a:path>
              <a:path w="473" h="3028">
                <a:moveTo>
                  <a:pt x="4118" y="7764"/>
                </a:moveTo>
                <a:lnTo>
                  <a:pt x="4118" y="7764"/>
                </a:lnTo>
                <a:lnTo>
                  <a:pt x="4118" y="7764"/>
                </a:lnTo>
              </a:path>
              <a:path w="473" h="3028">
                <a:moveTo>
                  <a:pt x="4118" y="7764"/>
                </a:moveTo>
                <a:lnTo>
                  <a:pt x="4118" y="77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1840" y="2027160"/>
            <a:ext cx="115920" cy="160560"/>
          </a:xfrm>
          <a:custGeom>
            <a:avLst/>
            <a:gdLst/>
            <a:ahLst/>
            <a:rect l="l" t="t" r="r" b="b"/>
            <a:pathLst>
              <a:path w="324" h="447">
                <a:moveTo>
                  <a:pt x="10393" y="5631"/>
                </a:moveTo>
                <a:cubicBezTo>
                  <a:pt x="10512" y="5772"/>
                  <a:pt x="10616" y="5921"/>
                  <a:pt x="10716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80080" y="5089680"/>
            <a:ext cx="955800" cy="652320"/>
          </a:xfrm>
          <a:custGeom>
            <a:avLst/>
            <a:gdLst/>
            <a:ahLst/>
            <a:rect l="l" t="t" r="r" b="b"/>
            <a:pathLst>
              <a:path w="2655" h="1811">
                <a:moveTo>
                  <a:pt x="16644" y="14238"/>
                </a:moveTo>
                <a:cubicBezTo>
                  <a:pt x="16588" y="14219"/>
                  <a:pt x="16671" y="14182"/>
                  <a:pt x="16718" y="14139"/>
                </a:cubicBezTo>
                <a:cubicBezTo>
                  <a:pt x="16896" y="14315"/>
                  <a:pt x="16856" y="14559"/>
                  <a:pt x="16619" y="14734"/>
                </a:cubicBezTo>
                <a:cubicBezTo>
                  <a:pt x="16578" y="14742"/>
                  <a:pt x="16536" y="14751"/>
                  <a:pt x="16495" y="14759"/>
                </a:cubicBezTo>
                <a:cubicBezTo>
                  <a:pt x="16459" y="14641"/>
                  <a:pt x="16481" y="14472"/>
                  <a:pt x="16669" y="14511"/>
                </a:cubicBezTo>
                <a:cubicBezTo>
                  <a:pt x="16781" y="14534"/>
                  <a:pt x="16838" y="14623"/>
                  <a:pt x="16867" y="14709"/>
                </a:cubicBezTo>
              </a:path>
              <a:path w="2655" h="1811">
                <a:moveTo>
                  <a:pt x="17438" y="14163"/>
                </a:moveTo>
                <a:cubicBezTo>
                  <a:pt x="17386" y="14194"/>
                  <a:pt x="17286" y="14182"/>
                  <a:pt x="17239" y="14213"/>
                </a:cubicBezTo>
                <a:cubicBezTo>
                  <a:pt x="17183" y="14251"/>
                  <a:pt x="17259" y="14344"/>
                  <a:pt x="17264" y="14412"/>
                </a:cubicBezTo>
                <a:cubicBezTo>
                  <a:pt x="17264" y="14428"/>
                  <a:pt x="17264" y="14445"/>
                  <a:pt x="17264" y="14461"/>
                </a:cubicBezTo>
                <a:cubicBezTo>
                  <a:pt x="17351" y="14418"/>
                  <a:pt x="17463" y="14293"/>
                  <a:pt x="17587" y="14387"/>
                </a:cubicBezTo>
                <a:cubicBezTo>
                  <a:pt x="17790" y="14541"/>
                  <a:pt x="17446" y="14696"/>
                  <a:pt x="17338" y="14709"/>
                </a:cubicBezTo>
                <a:cubicBezTo>
                  <a:pt x="17291" y="14685"/>
                  <a:pt x="17274" y="14679"/>
                  <a:pt x="17289" y="14635"/>
                </a:cubicBezTo>
              </a:path>
              <a:path w="2655" h="1811">
                <a:moveTo>
                  <a:pt x="17934" y="14188"/>
                </a:moveTo>
                <a:cubicBezTo>
                  <a:pt x="17857" y="14239"/>
                  <a:pt x="17947" y="14152"/>
                  <a:pt x="17959" y="14139"/>
                </a:cubicBezTo>
                <a:cubicBezTo>
                  <a:pt x="18182" y="14181"/>
                  <a:pt x="18264" y="14340"/>
                  <a:pt x="18107" y="14560"/>
                </a:cubicBezTo>
                <a:cubicBezTo>
                  <a:pt x="17983" y="14664"/>
                  <a:pt x="17964" y="14705"/>
                  <a:pt x="17859" y="14684"/>
                </a:cubicBezTo>
                <a:cubicBezTo>
                  <a:pt x="17885" y="14545"/>
                  <a:pt x="17956" y="14369"/>
                  <a:pt x="18132" y="14511"/>
                </a:cubicBezTo>
                <a:cubicBezTo>
                  <a:pt x="18193" y="14592"/>
                  <a:pt x="18208" y="14604"/>
                  <a:pt x="18231" y="14660"/>
                </a:cubicBezTo>
              </a:path>
              <a:path w="2655" h="1811">
                <a:moveTo>
                  <a:pt x="15925" y="14560"/>
                </a:moveTo>
                <a:cubicBezTo>
                  <a:pt x="15983" y="14560"/>
                  <a:pt x="16154" y="14528"/>
                  <a:pt x="16173" y="14585"/>
                </a:cubicBezTo>
              </a:path>
              <a:path w="2655" h="1811">
                <a:moveTo>
                  <a:pt x="15776" y="15180"/>
                </a:moveTo>
                <a:cubicBezTo>
                  <a:pt x="16046" y="15127"/>
                  <a:pt x="16317" y="15095"/>
                  <a:pt x="16594" y="15106"/>
                </a:cubicBezTo>
                <a:cubicBezTo>
                  <a:pt x="16954" y="15121"/>
                  <a:pt x="17299" y="15200"/>
                  <a:pt x="17661" y="15205"/>
                </a:cubicBezTo>
                <a:cubicBezTo>
                  <a:pt x="17808" y="15207"/>
                  <a:pt x="17919" y="15176"/>
                  <a:pt x="18058" y="15156"/>
                </a:cubicBezTo>
                <a:cubicBezTo>
                  <a:pt x="18123" y="15147"/>
                  <a:pt x="18193" y="15145"/>
                  <a:pt x="18256" y="15131"/>
                </a:cubicBezTo>
                <a:cubicBezTo>
                  <a:pt x="18281" y="15123"/>
                  <a:pt x="18306" y="15114"/>
                  <a:pt x="18331" y="15106"/>
                </a:cubicBezTo>
              </a:path>
              <a:path w="2655" h="1811">
                <a:moveTo>
                  <a:pt x="18231" y="15379"/>
                </a:moveTo>
                <a:cubicBezTo>
                  <a:pt x="18223" y="15387"/>
                  <a:pt x="18215" y="15396"/>
                  <a:pt x="18207" y="15404"/>
                </a:cubicBezTo>
                <a:cubicBezTo>
                  <a:pt x="18185" y="15371"/>
                  <a:pt x="18220" y="15300"/>
                  <a:pt x="18281" y="15255"/>
                </a:cubicBezTo>
                <a:cubicBezTo>
                  <a:pt x="18392" y="15173"/>
                  <a:pt x="18280" y="15573"/>
                  <a:pt x="18256" y="15602"/>
                </a:cubicBezTo>
                <a:cubicBezTo>
                  <a:pt x="18200" y="15640"/>
                  <a:pt x="18175" y="15678"/>
                  <a:pt x="18182" y="15627"/>
                </a:cubicBezTo>
                <a:cubicBezTo>
                  <a:pt x="18315" y="15573"/>
                  <a:pt x="18475" y="15539"/>
                  <a:pt x="18405" y="15751"/>
                </a:cubicBezTo>
                <a:cubicBezTo>
                  <a:pt x="18354" y="15903"/>
                  <a:pt x="18258" y="15924"/>
                  <a:pt x="18132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1040" y="3456000"/>
            <a:ext cx="152280" cy="250920"/>
          </a:xfrm>
          <a:custGeom>
            <a:avLst/>
            <a:gdLst/>
            <a:ahLst/>
            <a:rect l="l" t="t" r="r" b="b"/>
            <a:pathLst>
              <a:path w="423" h="696">
                <a:moveTo>
                  <a:pt x="17239" y="9599"/>
                </a:moveTo>
                <a:cubicBezTo>
                  <a:pt x="17481" y="9699"/>
                  <a:pt x="17548" y="9814"/>
                  <a:pt x="17413" y="10071"/>
                </a:cubicBezTo>
                <a:cubicBezTo>
                  <a:pt x="17340" y="10211"/>
                  <a:pt x="17269" y="10231"/>
                  <a:pt x="17140" y="10220"/>
                </a:cubicBezTo>
                <a:cubicBezTo>
                  <a:pt x="17115" y="10045"/>
                  <a:pt x="17203" y="10001"/>
                  <a:pt x="17388" y="10071"/>
                </a:cubicBezTo>
                <a:cubicBezTo>
                  <a:pt x="17458" y="10097"/>
                  <a:pt x="17620" y="10270"/>
                  <a:pt x="17512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30960" y="3490920"/>
            <a:ext cx="162000" cy="19692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18033" y="9699"/>
                </a:moveTo>
                <a:cubicBezTo>
                  <a:pt x="17947" y="9699"/>
                  <a:pt x="17742" y="9664"/>
                  <a:pt x="17711" y="9723"/>
                </a:cubicBezTo>
                <a:cubicBezTo>
                  <a:pt x="17674" y="9794"/>
                  <a:pt x="17649" y="9846"/>
                  <a:pt x="17636" y="9922"/>
                </a:cubicBezTo>
                <a:cubicBezTo>
                  <a:pt x="17771" y="9899"/>
                  <a:pt x="17835" y="9868"/>
                  <a:pt x="17959" y="9971"/>
                </a:cubicBezTo>
                <a:cubicBezTo>
                  <a:pt x="18150" y="10130"/>
                  <a:pt x="17890" y="10241"/>
                  <a:pt x="17760" y="10244"/>
                </a:cubicBezTo>
                <a:cubicBezTo>
                  <a:pt x="17653" y="10227"/>
                  <a:pt x="17645" y="10219"/>
                  <a:pt x="17587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81880" y="3446640"/>
            <a:ext cx="160200" cy="233280"/>
          </a:xfrm>
          <a:custGeom>
            <a:avLst/>
            <a:gdLst/>
            <a:ahLst/>
            <a:rect l="l" t="t" r="r" b="b"/>
            <a:pathLst>
              <a:path w="448" h="646">
                <a:moveTo>
                  <a:pt x="18604" y="9575"/>
                </a:moveTo>
                <a:cubicBezTo>
                  <a:pt x="18551" y="9586"/>
                  <a:pt x="18360" y="9570"/>
                  <a:pt x="18331" y="9599"/>
                </a:cubicBezTo>
                <a:cubicBezTo>
                  <a:pt x="18311" y="9619"/>
                  <a:pt x="18286" y="9825"/>
                  <a:pt x="18281" y="9847"/>
                </a:cubicBezTo>
                <a:cubicBezTo>
                  <a:pt x="18281" y="9872"/>
                  <a:pt x="18281" y="9897"/>
                  <a:pt x="18281" y="9922"/>
                </a:cubicBezTo>
                <a:cubicBezTo>
                  <a:pt x="18398" y="9850"/>
                  <a:pt x="18548" y="9748"/>
                  <a:pt x="18678" y="9872"/>
                </a:cubicBezTo>
                <a:cubicBezTo>
                  <a:pt x="18857" y="10044"/>
                  <a:pt x="18601" y="10197"/>
                  <a:pt x="18455" y="10220"/>
                </a:cubicBezTo>
                <a:cubicBezTo>
                  <a:pt x="18364" y="10220"/>
                  <a:pt x="18323" y="10253"/>
                  <a:pt x="18331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9760" y="3741840"/>
            <a:ext cx="617400" cy="63360"/>
          </a:xfrm>
          <a:custGeom>
            <a:avLst/>
            <a:gdLst/>
            <a:ahLst/>
            <a:rect l="l" t="t" r="r" b="b"/>
            <a:pathLst>
              <a:path w="1712" h="175">
                <a:moveTo>
                  <a:pt x="16917" y="10418"/>
                </a:moveTo>
                <a:cubicBezTo>
                  <a:pt x="17085" y="10402"/>
                  <a:pt x="17215" y="10426"/>
                  <a:pt x="17388" y="10443"/>
                </a:cubicBezTo>
                <a:cubicBezTo>
                  <a:pt x="17743" y="10479"/>
                  <a:pt x="18102" y="10493"/>
                  <a:pt x="18455" y="10542"/>
                </a:cubicBezTo>
                <a:cubicBezTo>
                  <a:pt x="18528" y="10552"/>
                  <a:pt x="18565" y="10561"/>
                  <a:pt x="18628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5040" y="3821040"/>
            <a:ext cx="187200" cy="17136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7413" y="10616"/>
                </a:moveTo>
                <a:cubicBezTo>
                  <a:pt x="17413" y="10664"/>
                  <a:pt x="17411" y="10678"/>
                  <a:pt x="17388" y="10716"/>
                </a:cubicBezTo>
                <a:cubicBezTo>
                  <a:pt x="17417" y="10673"/>
                  <a:pt x="17498" y="10570"/>
                  <a:pt x="17562" y="10641"/>
                </a:cubicBezTo>
                <a:cubicBezTo>
                  <a:pt x="17754" y="10854"/>
                  <a:pt x="17414" y="10991"/>
                  <a:pt x="17289" y="11063"/>
                </a:cubicBezTo>
                <a:cubicBezTo>
                  <a:pt x="17281" y="11071"/>
                  <a:pt x="17272" y="11080"/>
                  <a:pt x="17264" y="11088"/>
                </a:cubicBezTo>
                <a:cubicBezTo>
                  <a:pt x="17308" y="10956"/>
                  <a:pt x="17429" y="10861"/>
                  <a:pt x="17587" y="10889"/>
                </a:cubicBezTo>
                <a:cubicBezTo>
                  <a:pt x="17667" y="10903"/>
                  <a:pt x="17766" y="10989"/>
                  <a:pt x="17785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3880" y="3813120"/>
            <a:ext cx="117360" cy="196920"/>
          </a:xfrm>
          <a:custGeom>
            <a:avLst/>
            <a:gdLst/>
            <a:ahLst/>
            <a:rect l="l" t="t" r="r" b="b"/>
            <a:pathLst>
              <a:path w="324" h="546">
                <a:moveTo>
                  <a:pt x="18306" y="10592"/>
                </a:moveTo>
                <a:cubicBezTo>
                  <a:pt x="18201" y="10592"/>
                  <a:pt x="18129" y="10584"/>
                  <a:pt x="18033" y="10641"/>
                </a:cubicBezTo>
                <a:cubicBezTo>
                  <a:pt x="18016" y="10658"/>
                  <a:pt x="18000" y="10674"/>
                  <a:pt x="17983" y="10691"/>
                </a:cubicBezTo>
                <a:cubicBezTo>
                  <a:pt x="18015" y="10819"/>
                  <a:pt x="18150" y="10854"/>
                  <a:pt x="18231" y="10964"/>
                </a:cubicBezTo>
                <a:cubicBezTo>
                  <a:pt x="18278" y="11057"/>
                  <a:pt x="18298" y="11084"/>
                  <a:pt x="18231" y="11137"/>
                </a:cubicBezTo>
                <a:cubicBezTo>
                  <a:pt x="18086" y="11125"/>
                  <a:pt x="18024" y="11097"/>
                  <a:pt x="18058" y="10939"/>
                </a:cubicBezTo>
                <a:cubicBezTo>
                  <a:pt x="18084" y="10817"/>
                  <a:pt x="18202" y="10791"/>
                  <a:pt x="18256" y="10691"/>
                </a:cubicBezTo>
                <a:cubicBezTo>
                  <a:pt x="18256" y="10666"/>
                  <a:pt x="18256" y="10658"/>
                  <a:pt x="1825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/8 x 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/2 x 4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4 x 6 8/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473200"/>
            <a:ext cx="1831680" cy="500040"/>
          </a:xfrm>
          <a:custGeom>
            <a:avLst/>
            <a:gdLst/>
            <a:ahLst/>
            <a:rect l="l" t="t" r="r" b="b"/>
            <a:pathLst>
              <a:path w="5086" h="1390">
                <a:moveTo>
                  <a:pt x="15751" y="6970"/>
                </a:moveTo>
                <a:cubicBezTo>
                  <a:pt x="16017" y="6932"/>
                  <a:pt x="16277" y="6883"/>
                  <a:pt x="16545" y="6871"/>
                </a:cubicBezTo>
              </a:path>
              <a:path w="5086" h="1390">
                <a:moveTo>
                  <a:pt x="17066" y="6970"/>
                </a:moveTo>
                <a:cubicBezTo>
                  <a:pt x="17166" y="6964"/>
                  <a:pt x="17263" y="6952"/>
                  <a:pt x="17363" y="6945"/>
                </a:cubicBezTo>
              </a:path>
              <a:path w="5086" h="1390">
                <a:moveTo>
                  <a:pt x="12278" y="8260"/>
                </a:moveTo>
                <a:lnTo>
                  <a:pt x="12278" y="826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49800" y="1990800"/>
            <a:ext cx="2903400" cy="938160"/>
          </a:xfrm>
          <a:custGeom>
            <a:avLst/>
            <a:gdLst/>
            <a:ahLst/>
            <a:rect l="l" t="t" r="r" b="b"/>
            <a:pathLst>
              <a:path w="8063" h="2606">
                <a:moveTo>
                  <a:pt x="12477" y="5904"/>
                </a:moveTo>
                <a:cubicBezTo>
                  <a:pt x="12477" y="6089"/>
                  <a:pt x="12499" y="6265"/>
                  <a:pt x="12502" y="6449"/>
                </a:cubicBezTo>
                <a:cubicBezTo>
                  <a:pt x="12502" y="6565"/>
                  <a:pt x="12502" y="6582"/>
                  <a:pt x="12502" y="6648"/>
                </a:cubicBezTo>
              </a:path>
              <a:path w="8063" h="2606">
                <a:moveTo>
                  <a:pt x="11981" y="6623"/>
                </a:moveTo>
                <a:cubicBezTo>
                  <a:pt x="12019" y="6724"/>
                  <a:pt x="12073" y="6742"/>
                  <a:pt x="12204" y="6772"/>
                </a:cubicBezTo>
                <a:cubicBezTo>
                  <a:pt x="12472" y="6834"/>
                  <a:pt x="12681" y="6806"/>
                  <a:pt x="12898" y="6648"/>
                </a:cubicBezTo>
                <a:cubicBezTo>
                  <a:pt x="13099" y="6502"/>
                  <a:pt x="13130" y="6365"/>
                  <a:pt x="13072" y="6127"/>
                </a:cubicBezTo>
                <a:cubicBezTo>
                  <a:pt x="13020" y="5911"/>
                  <a:pt x="12878" y="5746"/>
                  <a:pt x="12675" y="5655"/>
                </a:cubicBezTo>
                <a:cubicBezTo>
                  <a:pt x="12530" y="5590"/>
                  <a:pt x="12371" y="5589"/>
                  <a:pt x="12229" y="5655"/>
                </a:cubicBezTo>
                <a:cubicBezTo>
                  <a:pt x="12003" y="5761"/>
                  <a:pt x="11832" y="6028"/>
                  <a:pt x="11807" y="6276"/>
                </a:cubicBezTo>
                <a:cubicBezTo>
                  <a:pt x="11789" y="6458"/>
                  <a:pt x="11872" y="6735"/>
                  <a:pt x="12030" y="6846"/>
                </a:cubicBezTo>
                <a:cubicBezTo>
                  <a:pt x="12081" y="6882"/>
                  <a:pt x="12147" y="6871"/>
                  <a:pt x="12204" y="6871"/>
                </a:cubicBezTo>
              </a:path>
              <a:path w="8063" h="2606">
                <a:moveTo>
                  <a:pt x="14064" y="5904"/>
                </a:moveTo>
                <a:cubicBezTo>
                  <a:pt x="14215" y="5904"/>
                  <a:pt x="14363" y="5888"/>
                  <a:pt x="14511" y="5854"/>
                </a:cubicBezTo>
                <a:cubicBezTo>
                  <a:pt x="14571" y="5834"/>
                  <a:pt x="14586" y="5815"/>
                  <a:pt x="14610" y="5854"/>
                </a:cubicBezTo>
                <a:cubicBezTo>
                  <a:pt x="14507" y="6058"/>
                  <a:pt x="14391" y="6298"/>
                  <a:pt x="14337" y="6524"/>
                </a:cubicBezTo>
                <a:cubicBezTo>
                  <a:pt x="14330" y="6554"/>
                  <a:pt x="14337" y="6612"/>
                  <a:pt x="14337" y="6648"/>
                </a:cubicBezTo>
              </a:path>
              <a:path w="8063" h="2606">
                <a:moveTo>
                  <a:pt x="13767" y="6796"/>
                </a:moveTo>
                <a:cubicBezTo>
                  <a:pt x="14049" y="6789"/>
                  <a:pt x="14328" y="6772"/>
                  <a:pt x="14610" y="6772"/>
                </a:cubicBezTo>
                <a:cubicBezTo>
                  <a:pt x="14627" y="6772"/>
                  <a:pt x="14643" y="6772"/>
                  <a:pt x="14660" y="6772"/>
                </a:cubicBezTo>
              </a:path>
              <a:path w="8063" h="2606">
                <a:moveTo>
                  <a:pt x="14362" y="7218"/>
                </a:moveTo>
                <a:cubicBezTo>
                  <a:pt x="14276" y="7201"/>
                  <a:pt x="14107" y="7208"/>
                  <a:pt x="14039" y="7293"/>
                </a:cubicBezTo>
                <a:cubicBezTo>
                  <a:pt x="13927" y="7433"/>
                  <a:pt x="14212" y="7512"/>
                  <a:pt x="14263" y="7590"/>
                </a:cubicBezTo>
                <a:cubicBezTo>
                  <a:pt x="14271" y="7623"/>
                  <a:pt x="14280" y="7656"/>
                  <a:pt x="14288" y="7689"/>
                </a:cubicBezTo>
                <a:cubicBezTo>
                  <a:pt x="14188" y="7767"/>
                  <a:pt x="14186" y="7789"/>
                  <a:pt x="14064" y="7764"/>
                </a:cubicBezTo>
                <a:cubicBezTo>
                  <a:pt x="14105" y="7577"/>
                  <a:pt x="14225" y="7467"/>
                  <a:pt x="14312" y="7293"/>
                </a:cubicBezTo>
                <a:cubicBezTo>
                  <a:pt x="14312" y="7268"/>
                  <a:pt x="14312" y="7260"/>
                  <a:pt x="14288" y="7268"/>
                </a:cubicBezTo>
              </a:path>
              <a:path w="8063" h="2606">
                <a:moveTo>
                  <a:pt x="15056" y="6796"/>
                </a:moveTo>
                <a:cubicBezTo>
                  <a:pt x="15154" y="6861"/>
                  <a:pt x="15225" y="6994"/>
                  <a:pt x="15304" y="7094"/>
                </a:cubicBezTo>
                <a:cubicBezTo>
                  <a:pt x="15312" y="7102"/>
                  <a:pt x="15321" y="7111"/>
                  <a:pt x="15329" y="7119"/>
                </a:cubicBezTo>
              </a:path>
              <a:path w="8063" h="2606">
                <a:moveTo>
                  <a:pt x="15379" y="6722"/>
                </a:moveTo>
                <a:cubicBezTo>
                  <a:pt x="15312" y="6904"/>
                  <a:pt x="15230" y="7098"/>
                  <a:pt x="15131" y="7268"/>
                </a:cubicBezTo>
                <a:cubicBezTo>
                  <a:pt x="15072" y="7327"/>
                  <a:pt x="15090" y="7295"/>
                  <a:pt x="15205" y="7144"/>
                </a:cubicBezTo>
              </a:path>
              <a:path w="8063" h="2606">
                <a:moveTo>
                  <a:pt x="15875" y="6201"/>
                </a:moveTo>
                <a:cubicBezTo>
                  <a:pt x="15922" y="6083"/>
                  <a:pt x="16035" y="6090"/>
                  <a:pt x="16148" y="6077"/>
                </a:cubicBezTo>
                <a:cubicBezTo>
                  <a:pt x="16212" y="6245"/>
                  <a:pt x="16153" y="6270"/>
                  <a:pt x="16024" y="6400"/>
                </a:cubicBezTo>
                <a:cubicBezTo>
                  <a:pt x="16094" y="6382"/>
                  <a:pt x="16337" y="6413"/>
                  <a:pt x="16247" y="6573"/>
                </a:cubicBezTo>
                <a:cubicBezTo>
                  <a:pt x="16176" y="6699"/>
                  <a:pt x="16032" y="6660"/>
                  <a:pt x="15925" y="6648"/>
                </a:cubicBezTo>
              </a:path>
              <a:path w="8063" h="2606">
                <a:moveTo>
                  <a:pt x="15974" y="7193"/>
                </a:moveTo>
                <a:cubicBezTo>
                  <a:pt x="15960" y="7242"/>
                  <a:pt x="15939" y="7293"/>
                  <a:pt x="15925" y="7342"/>
                </a:cubicBezTo>
                <a:cubicBezTo>
                  <a:pt x="16038" y="7351"/>
                  <a:pt x="16297" y="7399"/>
                  <a:pt x="16396" y="7317"/>
                </a:cubicBezTo>
                <a:cubicBezTo>
                  <a:pt x="16404" y="7301"/>
                  <a:pt x="16413" y="7284"/>
                  <a:pt x="16421" y="7268"/>
                </a:cubicBezTo>
              </a:path>
              <a:path w="8063" h="2606">
                <a:moveTo>
                  <a:pt x="16346" y="7045"/>
                </a:moveTo>
                <a:cubicBezTo>
                  <a:pt x="16296" y="7285"/>
                  <a:pt x="16289" y="7528"/>
                  <a:pt x="16247" y="7764"/>
                </a:cubicBezTo>
                <a:cubicBezTo>
                  <a:pt x="16224" y="7787"/>
                  <a:pt x="16213" y="7795"/>
                  <a:pt x="16247" y="7789"/>
                </a:cubicBezTo>
              </a:path>
              <a:path w="8063" h="2606">
                <a:moveTo>
                  <a:pt x="17066" y="6747"/>
                </a:moveTo>
                <a:cubicBezTo>
                  <a:pt x="17150" y="6747"/>
                  <a:pt x="17228" y="6725"/>
                  <a:pt x="17314" y="6722"/>
                </a:cubicBezTo>
                <a:cubicBezTo>
                  <a:pt x="17372" y="6722"/>
                  <a:pt x="17396" y="6706"/>
                  <a:pt x="17388" y="6747"/>
                </a:cubicBezTo>
              </a:path>
              <a:path w="8063" h="2606">
                <a:moveTo>
                  <a:pt x="18132" y="7169"/>
                </a:moveTo>
                <a:cubicBezTo>
                  <a:pt x="18176" y="7080"/>
                  <a:pt x="18266" y="7087"/>
                  <a:pt x="18355" y="7094"/>
                </a:cubicBezTo>
                <a:cubicBezTo>
                  <a:pt x="18401" y="7286"/>
                  <a:pt x="18369" y="7329"/>
                  <a:pt x="18182" y="7417"/>
                </a:cubicBezTo>
                <a:cubicBezTo>
                  <a:pt x="18271" y="7339"/>
                  <a:pt x="18489" y="7295"/>
                  <a:pt x="18455" y="7516"/>
                </a:cubicBezTo>
                <a:cubicBezTo>
                  <a:pt x="18418" y="7755"/>
                  <a:pt x="18169" y="7859"/>
                  <a:pt x="18033" y="7739"/>
                </a:cubicBezTo>
              </a:path>
              <a:path w="8063" h="2606">
                <a:moveTo>
                  <a:pt x="18653" y="7193"/>
                </a:moveTo>
                <a:cubicBezTo>
                  <a:pt x="18818" y="7123"/>
                  <a:pt x="19020" y="7144"/>
                  <a:pt x="19025" y="7392"/>
                </a:cubicBezTo>
                <a:cubicBezTo>
                  <a:pt x="19030" y="7652"/>
                  <a:pt x="18835" y="7700"/>
                  <a:pt x="18653" y="7640"/>
                </a:cubicBezTo>
                <a:cubicBezTo>
                  <a:pt x="18749" y="7497"/>
                  <a:pt x="18878" y="7377"/>
                  <a:pt x="19050" y="7541"/>
                </a:cubicBezTo>
                <a:cubicBezTo>
                  <a:pt x="19095" y="7584"/>
                  <a:pt x="19107" y="7668"/>
                  <a:pt x="19075" y="7689"/>
                </a:cubicBezTo>
              </a:path>
              <a:path w="8063" h="2606">
                <a:moveTo>
                  <a:pt x="17711" y="7020"/>
                </a:moveTo>
                <a:cubicBezTo>
                  <a:pt x="17740" y="6899"/>
                  <a:pt x="17943" y="6907"/>
                  <a:pt x="18033" y="6896"/>
                </a:cubicBezTo>
                <a:cubicBezTo>
                  <a:pt x="18368" y="6856"/>
                  <a:pt x="18713" y="6854"/>
                  <a:pt x="19050" y="6846"/>
                </a:cubicBezTo>
                <a:cubicBezTo>
                  <a:pt x="19108" y="6846"/>
                  <a:pt x="19116" y="6846"/>
                  <a:pt x="19149" y="6846"/>
                </a:cubicBezTo>
              </a:path>
              <a:path w="8063" h="2606">
                <a:moveTo>
                  <a:pt x="18182" y="6077"/>
                </a:moveTo>
                <a:cubicBezTo>
                  <a:pt x="18182" y="6085"/>
                  <a:pt x="18182" y="6094"/>
                  <a:pt x="18182" y="6102"/>
                </a:cubicBezTo>
                <a:cubicBezTo>
                  <a:pt x="18113" y="6171"/>
                  <a:pt x="18108" y="6120"/>
                  <a:pt x="18182" y="6077"/>
                </a:cubicBezTo>
                <a:cubicBezTo>
                  <a:pt x="18427" y="5936"/>
                  <a:pt x="18332" y="6452"/>
                  <a:pt x="18281" y="6524"/>
                </a:cubicBezTo>
                <a:cubicBezTo>
                  <a:pt x="18175" y="6675"/>
                  <a:pt x="18035" y="6641"/>
                  <a:pt x="17909" y="6598"/>
                </a:cubicBezTo>
                <a:cubicBezTo>
                  <a:pt x="17963" y="6470"/>
                  <a:pt x="18131" y="6520"/>
                  <a:pt x="18256" y="6573"/>
                </a:cubicBezTo>
                <a:cubicBezTo>
                  <a:pt x="18334" y="6606"/>
                  <a:pt x="18331" y="6661"/>
                  <a:pt x="18331" y="6623"/>
                </a:cubicBezTo>
              </a:path>
              <a:path w="8063" h="2606">
                <a:moveTo>
                  <a:pt x="18703" y="5978"/>
                </a:moveTo>
                <a:cubicBezTo>
                  <a:pt x="18703" y="5820"/>
                  <a:pt x="18726" y="6242"/>
                  <a:pt x="18728" y="6400"/>
                </a:cubicBezTo>
                <a:cubicBezTo>
                  <a:pt x="18728" y="6524"/>
                  <a:pt x="18728" y="6549"/>
                  <a:pt x="18728" y="6623"/>
                </a:cubicBezTo>
              </a:path>
              <a:path w="8063" h="2606">
                <a:moveTo>
                  <a:pt x="17462" y="6524"/>
                </a:moveTo>
                <a:cubicBezTo>
                  <a:pt x="17455" y="6634"/>
                  <a:pt x="17440" y="6735"/>
                  <a:pt x="17438" y="6846"/>
                </a:cubicBezTo>
                <a:cubicBezTo>
                  <a:pt x="17434" y="7046"/>
                  <a:pt x="17473" y="7242"/>
                  <a:pt x="17487" y="7441"/>
                </a:cubicBezTo>
                <a:cubicBezTo>
                  <a:pt x="17499" y="7612"/>
                  <a:pt x="17567" y="7670"/>
                  <a:pt x="17686" y="7789"/>
                </a:cubicBezTo>
                <a:cubicBezTo>
                  <a:pt x="17847" y="7950"/>
                  <a:pt x="18012" y="8008"/>
                  <a:pt x="18231" y="8062"/>
                </a:cubicBezTo>
                <a:cubicBezTo>
                  <a:pt x="18410" y="8107"/>
                  <a:pt x="18572" y="8092"/>
                  <a:pt x="18752" y="8111"/>
                </a:cubicBezTo>
                <a:cubicBezTo>
                  <a:pt x="18894" y="8126"/>
                  <a:pt x="19085" y="8164"/>
                  <a:pt x="19224" y="8111"/>
                </a:cubicBezTo>
                <a:cubicBezTo>
                  <a:pt x="19392" y="8048"/>
                  <a:pt x="19602" y="7922"/>
                  <a:pt x="19695" y="7764"/>
                </a:cubicBezTo>
                <a:cubicBezTo>
                  <a:pt x="19828" y="7538"/>
                  <a:pt x="19869" y="7276"/>
                  <a:pt x="19869" y="7020"/>
                </a:cubicBezTo>
                <a:cubicBezTo>
                  <a:pt x="19869" y="6841"/>
                  <a:pt x="19817" y="6670"/>
                  <a:pt x="19769" y="6499"/>
                </a:cubicBezTo>
                <a:cubicBezTo>
                  <a:pt x="19722" y="6331"/>
                  <a:pt x="19631" y="6139"/>
                  <a:pt x="19521" y="6003"/>
                </a:cubicBezTo>
                <a:cubicBezTo>
                  <a:pt x="19435" y="5897"/>
                  <a:pt x="19327" y="5767"/>
                  <a:pt x="19224" y="5680"/>
                </a:cubicBezTo>
                <a:cubicBezTo>
                  <a:pt x="19149" y="5616"/>
                  <a:pt x="18998" y="5543"/>
                  <a:pt x="18901" y="5531"/>
                </a:cubicBezTo>
                <a:cubicBezTo>
                  <a:pt x="18715" y="5508"/>
                  <a:pt x="18556" y="5563"/>
                  <a:pt x="18380" y="5606"/>
                </a:cubicBezTo>
                <a:cubicBezTo>
                  <a:pt x="18222" y="5645"/>
                  <a:pt x="18086" y="5697"/>
                  <a:pt x="17959" y="5804"/>
                </a:cubicBezTo>
                <a:cubicBezTo>
                  <a:pt x="17852" y="5894"/>
                  <a:pt x="17756" y="6031"/>
                  <a:pt x="17686" y="6152"/>
                </a:cubicBezTo>
                <a:cubicBezTo>
                  <a:pt x="17619" y="6268"/>
                  <a:pt x="17528" y="6371"/>
                  <a:pt x="17487" y="6499"/>
                </a:cubicBezTo>
                <a:cubicBezTo>
                  <a:pt x="17453" y="6606"/>
                  <a:pt x="17377" y="6732"/>
                  <a:pt x="17363" y="6846"/>
                </a:cubicBezTo>
                <a:cubicBezTo>
                  <a:pt x="17350" y="6948"/>
                  <a:pt x="17361" y="7072"/>
                  <a:pt x="17388" y="7169"/>
                </a:cubicBezTo>
                <a:cubicBezTo>
                  <a:pt x="17411" y="7191"/>
                  <a:pt x="17419" y="7196"/>
                  <a:pt x="17413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3071880"/>
            <a:ext cx="652680" cy="652320"/>
          </a:xfrm>
          <a:custGeom>
            <a:avLst/>
            <a:gdLst/>
            <a:ahLst/>
            <a:rect l="l" t="t" r="r" b="b"/>
            <a:pathLst>
              <a:path w="1812" h="1812">
                <a:moveTo>
                  <a:pt x="12030" y="9128"/>
                </a:moveTo>
                <a:cubicBezTo>
                  <a:pt x="12134" y="8997"/>
                  <a:pt x="12350" y="9019"/>
                  <a:pt x="12452" y="9178"/>
                </a:cubicBezTo>
                <a:cubicBezTo>
                  <a:pt x="12668" y="9516"/>
                  <a:pt x="12221" y="9925"/>
                  <a:pt x="11906" y="9947"/>
                </a:cubicBezTo>
                <a:cubicBezTo>
                  <a:pt x="11856" y="9922"/>
                  <a:pt x="11807" y="9897"/>
                  <a:pt x="11757" y="9872"/>
                </a:cubicBezTo>
                <a:cubicBezTo>
                  <a:pt x="11910" y="9643"/>
                  <a:pt x="12121" y="9561"/>
                  <a:pt x="12402" y="9748"/>
                </a:cubicBezTo>
                <a:cubicBezTo>
                  <a:pt x="12463" y="9829"/>
                  <a:pt x="12478" y="9841"/>
                  <a:pt x="12502" y="9897"/>
                </a:cubicBezTo>
              </a:path>
              <a:path w="1812" h="1812">
                <a:moveTo>
                  <a:pt x="11658" y="10269"/>
                </a:moveTo>
                <a:cubicBezTo>
                  <a:pt x="12037" y="10351"/>
                  <a:pt x="12426" y="10353"/>
                  <a:pt x="12750" y="10071"/>
                </a:cubicBezTo>
                <a:cubicBezTo>
                  <a:pt x="13041" y="9818"/>
                  <a:pt x="13236" y="9164"/>
                  <a:pt x="12923" y="8855"/>
                </a:cubicBezTo>
                <a:cubicBezTo>
                  <a:pt x="12589" y="8525"/>
                  <a:pt x="11953" y="8381"/>
                  <a:pt x="11609" y="8756"/>
                </a:cubicBezTo>
                <a:cubicBezTo>
                  <a:pt x="11356" y="9032"/>
                  <a:pt x="11057" y="9820"/>
                  <a:pt x="11410" y="10120"/>
                </a:cubicBezTo>
                <a:cubicBezTo>
                  <a:pt x="11685" y="10353"/>
                  <a:pt x="12068" y="10168"/>
                  <a:pt x="12353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70320" y="3321000"/>
            <a:ext cx="1089360" cy="600120"/>
          </a:xfrm>
          <a:custGeom>
            <a:avLst/>
            <a:gdLst/>
            <a:ahLst/>
            <a:rect l="l" t="t" r="r" b="b"/>
            <a:pathLst>
              <a:path w="3027" h="1663">
                <a:moveTo>
                  <a:pt x="14908" y="10071"/>
                </a:moveTo>
                <a:cubicBezTo>
                  <a:pt x="15070" y="10037"/>
                  <a:pt x="15215" y="10006"/>
                  <a:pt x="15379" y="9996"/>
                </a:cubicBezTo>
              </a:path>
              <a:path w="3027" h="1663">
                <a:moveTo>
                  <a:pt x="14660" y="10641"/>
                </a:moveTo>
                <a:cubicBezTo>
                  <a:pt x="14603" y="10720"/>
                  <a:pt x="14560" y="10802"/>
                  <a:pt x="14511" y="10889"/>
                </a:cubicBezTo>
              </a:path>
              <a:path w="3027" h="1663">
                <a:moveTo>
                  <a:pt x="14362" y="9674"/>
                </a:moveTo>
                <a:cubicBezTo>
                  <a:pt x="14431" y="9658"/>
                  <a:pt x="14503" y="9649"/>
                  <a:pt x="14560" y="9624"/>
                </a:cubicBezTo>
              </a:path>
              <a:path w="3027" h="1663">
                <a:moveTo>
                  <a:pt x="17338" y="9227"/>
                </a:moveTo>
                <a:cubicBezTo>
                  <a:pt x="17353" y="9301"/>
                  <a:pt x="17380" y="9372"/>
                  <a:pt x="17388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4920" y="3313080"/>
            <a:ext cx="2019240" cy="822240"/>
          </a:xfrm>
          <a:custGeom>
            <a:avLst/>
            <a:gdLst/>
            <a:ahLst/>
            <a:rect l="l" t="t" r="r" b="b"/>
            <a:pathLst>
              <a:path w="5607" h="2283">
                <a:moveTo>
                  <a:pt x="13767" y="9971"/>
                </a:moveTo>
                <a:cubicBezTo>
                  <a:pt x="13744" y="9994"/>
                  <a:pt x="13736" y="10005"/>
                  <a:pt x="13742" y="9971"/>
                </a:cubicBezTo>
                <a:cubicBezTo>
                  <a:pt x="13835" y="9787"/>
                  <a:pt x="14070" y="9747"/>
                  <a:pt x="14188" y="9996"/>
                </a:cubicBezTo>
                <a:cubicBezTo>
                  <a:pt x="14399" y="10442"/>
                  <a:pt x="13968" y="10804"/>
                  <a:pt x="13593" y="10939"/>
                </a:cubicBezTo>
                <a:cubicBezTo>
                  <a:pt x="13396" y="10961"/>
                  <a:pt x="13336" y="10992"/>
                  <a:pt x="13295" y="10840"/>
                </a:cubicBezTo>
                <a:cubicBezTo>
                  <a:pt x="13490" y="10587"/>
                  <a:pt x="13720" y="10385"/>
                  <a:pt x="14064" y="10592"/>
                </a:cubicBezTo>
                <a:cubicBezTo>
                  <a:pt x="14187" y="10666"/>
                  <a:pt x="14160" y="10892"/>
                  <a:pt x="14188" y="10864"/>
                </a:cubicBezTo>
              </a:path>
              <a:path w="5607" h="2283">
                <a:moveTo>
                  <a:pt x="14808" y="9277"/>
                </a:moveTo>
                <a:cubicBezTo>
                  <a:pt x="14841" y="9408"/>
                  <a:pt x="14914" y="9536"/>
                  <a:pt x="14932" y="9674"/>
                </a:cubicBezTo>
                <a:cubicBezTo>
                  <a:pt x="14932" y="9707"/>
                  <a:pt x="14932" y="9740"/>
                  <a:pt x="14932" y="9773"/>
                </a:cubicBezTo>
              </a:path>
              <a:path w="5607" h="2283">
                <a:moveTo>
                  <a:pt x="14932" y="10319"/>
                </a:moveTo>
                <a:cubicBezTo>
                  <a:pt x="15110" y="10355"/>
                  <a:pt x="15448" y="10382"/>
                  <a:pt x="15354" y="10666"/>
                </a:cubicBezTo>
                <a:cubicBezTo>
                  <a:pt x="15273" y="10909"/>
                  <a:pt x="15007" y="10918"/>
                  <a:pt x="14858" y="10815"/>
                </a:cubicBezTo>
                <a:cubicBezTo>
                  <a:pt x="15038" y="10714"/>
                  <a:pt x="15225" y="10570"/>
                  <a:pt x="15404" y="10740"/>
                </a:cubicBezTo>
                <a:cubicBezTo>
                  <a:pt x="15424" y="10781"/>
                  <a:pt x="15433" y="10787"/>
                  <a:pt x="15429" y="10815"/>
                </a:cubicBezTo>
              </a:path>
              <a:path w="5607" h="2283">
                <a:moveTo>
                  <a:pt x="15949" y="10096"/>
                </a:moveTo>
                <a:cubicBezTo>
                  <a:pt x="16082" y="10212"/>
                  <a:pt x="16236" y="10366"/>
                  <a:pt x="16396" y="10443"/>
                </a:cubicBezTo>
                <a:cubicBezTo>
                  <a:pt x="16456" y="10443"/>
                  <a:pt x="16469" y="10434"/>
                  <a:pt x="16421" y="10368"/>
                </a:cubicBezTo>
              </a:path>
              <a:path w="5607" h="2283">
                <a:moveTo>
                  <a:pt x="16346" y="9897"/>
                </a:moveTo>
                <a:cubicBezTo>
                  <a:pt x="16297" y="10090"/>
                  <a:pt x="16220" y="10278"/>
                  <a:pt x="16173" y="10468"/>
                </a:cubicBezTo>
              </a:path>
              <a:path w="5607" h="2283">
                <a:moveTo>
                  <a:pt x="16793" y="9922"/>
                </a:moveTo>
                <a:cubicBezTo>
                  <a:pt x="16771" y="10030"/>
                  <a:pt x="16768" y="10056"/>
                  <a:pt x="16743" y="10120"/>
                </a:cubicBezTo>
                <a:cubicBezTo>
                  <a:pt x="16789" y="10122"/>
                  <a:pt x="17206" y="10182"/>
                  <a:pt x="17214" y="10170"/>
                </a:cubicBezTo>
                <a:cubicBezTo>
                  <a:pt x="17222" y="10137"/>
                  <a:pt x="17231" y="10104"/>
                  <a:pt x="17239" y="10071"/>
                </a:cubicBezTo>
              </a:path>
              <a:path w="5607" h="2283">
                <a:moveTo>
                  <a:pt x="17115" y="9500"/>
                </a:moveTo>
                <a:cubicBezTo>
                  <a:pt x="17136" y="9824"/>
                  <a:pt x="17184" y="10142"/>
                  <a:pt x="17190" y="10468"/>
                </a:cubicBezTo>
                <a:cubicBezTo>
                  <a:pt x="17190" y="10526"/>
                  <a:pt x="17190" y="10567"/>
                  <a:pt x="17190" y="10517"/>
                </a:cubicBezTo>
              </a:path>
              <a:path w="5607" h="2283">
                <a:moveTo>
                  <a:pt x="17686" y="9203"/>
                </a:moveTo>
                <a:cubicBezTo>
                  <a:pt x="17878" y="9211"/>
                  <a:pt x="18265" y="9214"/>
                  <a:pt x="18207" y="9525"/>
                </a:cubicBezTo>
                <a:cubicBezTo>
                  <a:pt x="18164" y="9755"/>
                  <a:pt x="17977" y="9704"/>
                  <a:pt x="17835" y="9674"/>
                </a:cubicBezTo>
                <a:cubicBezTo>
                  <a:pt x="17971" y="9510"/>
                  <a:pt x="18126" y="9578"/>
                  <a:pt x="18331" y="9699"/>
                </a:cubicBezTo>
                <a:cubicBezTo>
                  <a:pt x="18339" y="9707"/>
                  <a:pt x="18347" y="9715"/>
                  <a:pt x="18355" y="9723"/>
                </a:cubicBezTo>
              </a:path>
              <a:path w="5607" h="2283">
                <a:moveTo>
                  <a:pt x="17934" y="9996"/>
                </a:moveTo>
                <a:cubicBezTo>
                  <a:pt x="18199" y="9973"/>
                  <a:pt x="18440" y="9952"/>
                  <a:pt x="18703" y="9971"/>
                </a:cubicBezTo>
              </a:path>
              <a:path w="5607" h="2283">
                <a:moveTo>
                  <a:pt x="17983" y="10269"/>
                </a:moveTo>
                <a:cubicBezTo>
                  <a:pt x="18051" y="10263"/>
                  <a:pt x="18693" y="10189"/>
                  <a:pt x="18554" y="10344"/>
                </a:cubicBezTo>
                <a:cubicBezTo>
                  <a:pt x="18462" y="10446"/>
                  <a:pt x="18331" y="10471"/>
                  <a:pt x="18207" y="10492"/>
                </a:cubicBezTo>
                <a:cubicBezTo>
                  <a:pt x="18370" y="10481"/>
                  <a:pt x="18450" y="10488"/>
                  <a:pt x="18604" y="10517"/>
                </a:cubicBezTo>
                <a:cubicBezTo>
                  <a:pt x="18555" y="10710"/>
                  <a:pt x="18386" y="10822"/>
                  <a:pt x="18157" y="10790"/>
                </a:cubicBezTo>
                <a:cubicBezTo>
                  <a:pt x="18140" y="10773"/>
                  <a:pt x="18124" y="10757"/>
                  <a:pt x="18107" y="10740"/>
                </a:cubicBezTo>
              </a:path>
              <a:path w="5607" h="2283">
                <a:moveTo>
                  <a:pt x="14461" y="10666"/>
                </a:moveTo>
                <a:cubicBezTo>
                  <a:pt x="14495" y="10745"/>
                  <a:pt x="14574" y="10816"/>
                  <a:pt x="14610" y="10889"/>
                </a:cubicBezTo>
              </a:path>
              <a:path w="5607" h="2283">
                <a:moveTo>
                  <a:pt x="13816" y="11237"/>
                </a:moveTo>
                <a:cubicBezTo>
                  <a:pt x="13877" y="11296"/>
                  <a:pt x="14020" y="11215"/>
                  <a:pt x="14114" y="11187"/>
                </a:cubicBezTo>
              </a:path>
              <a:path w="5607" h="2283">
                <a:moveTo>
                  <a:pt x="14064" y="11112"/>
                </a:moveTo>
                <a:cubicBezTo>
                  <a:pt x="14070" y="11244"/>
                  <a:pt x="14078" y="11357"/>
                  <a:pt x="14064" y="11485"/>
                </a:cubicBezTo>
              </a:path>
              <a:path w="5607" h="2283">
                <a:moveTo>
                  <a:pt x="13543" y="11311"/>
                </a:moveTo>
                <a:cubicBezTo>
                  <a:pt x="13336" y="11263"/>
                  <a:pt x="13219" y="11069"/>
                  <a:pt x="13146" y="10864"/>
                </a:cubicBezTo>
                <a:cubicBezTo>
                  <a:pt x="13018" y="10504"/>
                  <a:pt x="13112" y="10203"/>
                  <a:pt x="13345" y="9922"/>
                </a:cubicBezTo>
                <a:cubicBezTo>
                  <a:pt x="13533" y="9695"/>
                  <a:pt x="13786" y="9535"/>
                  <a:pt x="14089" y="9624"/>
                </a:cubicBezTo>
                <a:cubicBezTo>
                  <a:pt x="14133" y="9637"/>
                  <a:pt x="14191" y="9683"/>
                  <a:pt x="14213" y="9699"/>
                </a:cubicBezTo>
              </a:path>
              <a:path w="5607" h="2283">
                <a:moveTo>
                  <a:pt x="14362" y="9426"/>
                </a:moveTo>
                <a:cubicBezTo>
                  <a:pt x="14409" y="9534"/>
                  <a:pt x="14479" y="9637"/>
                  <a:pt x="14511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67760" y="3062160"/>
            <a:ext cx="820440" cy="554040"/>
          </a:xfrm>
          <a:custGeom>
            <a:avLst/>
            <a:gdLst/>
            <a:ahLst/>
            <a:rect l="l" t="t" r="r" b="b"/>
            <a:pathLst>
              <a:path w="2283" h="1539">
                <a:moveTo>
                  <a:pt x="21580" y="9203"/>
                </a:moveTo>
                <a:cubicBezTo>
                  <a:pt x="21480" y="9136"/>
                  <a:pt x="21716" y="9055"/>
                  <a:pt x="21754" y="9079"/>
                </a:cubicBezTo>
                <a:cubicBezTo>
                  <a:pt x="21829" y="9126"/>
                  <a:pt x="21685" y="9265"/>
                  <a:pt x="21654" y="9277"/>
                </a:cubicBezTo>
                <a:cubicBezTo>
                  <a:pt x="21715" y="9277"/>
                  <a:pt x="21748" y="9283"/>
                  <a:pt x="21803" y="9302"/>
                </a:cubicBezTo>
                <a:cubicBezTo>
                  <a:pt x="21790" y="9410"/>
                  <a:pt x="21712" y="9678"/>
                  <a:pt x="21530" y="9525"/>
                </a:cubicBezTo>
                <a:cubicBezTo>
                  <a:pt x="21530" y="9500"/>
                  <a:pt x="21530" y="9476"/>
                  <a:pt x="21530" y="9451"/>
                </a:cubicBezTo>
              </a:path>
              <a:path w="2283" h="1539">
                <a:moveTo>
                  <a:pt x="22200" y="8954"/>
                </a:moveTo>
                <a:cubicBezTo>
                  <a:pt x="22139" y="8962"/>
                  <a:pt x="22022" y="8991"/>
                  <a:pt x="22002" y="9029"/>
                </a:cubicBezTo>
                <a:cubicBezTo>
                  <a:pt x="21976" y="9077"/>
                  <a:pt x="21977" y="9101"/>
                  <a:pt x="21977" y="9153"/>
                </a:cubicBezTo>
                <a:cubicBezTo>
                  <a:pt x="22052" y="9198"/>
                  <a:pt x="22218" y="9106"/>
                  <a:pt x="22299" y="9178"/>
                </a:cubicBezTo>
                <a:cubicBezTo>
                  <a:pt x="22445" y="9308"/>
                  <a:pt x="22161" y="9456"/>
                  <a:pt x="22076" y="9475"/>
                </a:cubicBezTo>
                <a:cubicBezTo>
                  <a:pt x="22043" y="9475"/>
                  <a:pt x="22010" y="9475"/>
                  <a:pt x="21977" y="9475"/>
                </a:cubicBezTo>
              </a:path>
              <a:path w="2283" h="1539">
                <a:moveTo>
                  <a:pt x="21258" y="9897"/>
                </a:moveTo>
                <a:cubicBezTo>
                  <a:pt x="21187" y="9673"/>
                  <a:pt x="21091" y="9435"/>
                  <a:pt x="21059" y="9203"/>
                </a:cubicBezTo>
                <a:cubicBezTo>
                  <a:pt x="21041" y="9075"/>
                  <a:pt x="21111" y="9066"/>
                  <a:pt x="21233" y="9029"/>
                </a:cubicBezTo>
                <a:cubicBezTo>
                  <a:pt x="21702" y="8888"/>
                  <a:pt x="22235" y="8810"/>
                  <a:pt x="22721" y="8781"/>
                </a:cubicBezTo>
                <a:cubicBezTo>
                  <a:pt x="22729" y="8781"/>
                  <a:pt x="22738" y="8781"/>
                  <a:pt x="22746" y="8781"/>
                </a:cubicBezTo>
              </a:path>
              <a:path w="2283" h="1539">
                <a:moveTo>
                  <a:pt x="20464" y="9376"/>
                </a:moveTo>
                <a:cubicBezTo>
                  <a:pt x="20576" y="9357"/>
                  <a:pt x="20671" y="9311"/>
                  <a:pt x="20786" y="9351"/>
                </a:cubicBezTo>
                <a:cubicBezTo>
                  <a:pt x="20896" y="9390"/>
                  <a:pt x="20706" y="9508"/>
                  <a:pt x="20687" y="9525"/>
                </a:cubicBezTo>
                <a:cubicBezTo>
                  <a:pt x="20679" y="9533"/>
                  <a:pt x="20670" y="9542"/>
                  <a:pt x="20662" y="9550"/>
                </a:cubicBezTo>
                <a:cubicBezTo>
                  <a:pt x="20765" y="9538"/>
                  <a:pt x="20814" y="9519"/>
                  <a:pt x="20910" y="9575"/>
                </a:cubicBezTo>
                <a:cubicBezTo>
                  <a:pt x="20857" y="9699"/>
                  <a:pt x="20864" y="9695"/>
                  <a:pt x="20737" y="9748"/>
                </a:cubicBezTo>
              </a:path>
              <a:path w="2283" h="1539">
                <a:moveTo>
                  <a:pt x="21530" y="8607"/>
                </a:moveTo>
                <a:cubicBezTo>
                  <a:pt x="21530" y="8606"/>
                  <a:pt x="21479" y="8468"/>
                  <a:pt x="21506" y="8533"/>
                </a:cubicBezTo>
                <a:cubicBezTo>
                  <a:pt x="21538" y="8611"/>
                  <a:pt x="21566" y="8709"/>
                  <a:pt x="21580" y="8781"/>
                </a:cubicBezTo>
                <a:cubicBezTo>
                  <a:pt x="21580" y="8822"/>
                  <a:pt x="21580" y="8830"/>
                  <a:pt x="21580" y="8855"/>
                </a:cubicBezTo>
              </a:path>
              <a:path w="2283" h="1539">
                <a:moveTo>
                  <a:pt x="21605" y="9798"/>
                </a:moveTo>
                <a:cubicBezTo>
                  <a:pt x="21663" y="9759"/>
                  <a:pt x="21716" y="9720"/>
                  <a:pt x="21779" y="9699"/>
                </a:cubicBezTo>
                <a:cubicBezTo>
                  <a:pt x="21797" y="9754"/>
                  <a:pt x="21702" y="9824"/>
                  <a:pt x="21754" y="9847"/>
                </a:cubicBezTo>
                <a:cubicBezTo>
                  <a:pt x="21881" y="9903"/>
                  <a:pt x="21792" y="9944"/>
                  <a:pt x="21704" y="10021"/>
                </a:cubicBezTo>
                <a:cubicBezTo>
                  <a:pt x="21674" y="10051"/>
                  <a:pt x="21663" y="10053"/>
                  <a:pt x="21654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200" y="3562200"/>
            <a:ext cx="7599600" cy="2367000"/>
          </a:xfrm>
          <a:custGeom>
            <a:avLst/>
            <a:gdLst/>
            <a:ahLst/>
            <a:rect l="l" t="t" r="r" b="b"/>
            <a:pathLst>
              <a:path w="21110" h="6574">
                <a:moveTo>
                  <a:pt x="15553" y="12700"/>
                </a:moveTo>
                <a:cubicBezTo>
                  <a:pt x="15553" y="12708"/>
                  <a:pt x="15553" y="12717"/>
                  <a:pt x="15553" y="12725"/>
                </a:cubicBezTo>
              </a:path>
              <a:path w="21110" h="6574">
                <a:moveTo>
                  <a:pt x="15577" y="12973"/>
                </a:moveTo>
                <a:cubicBezTo>
                  <a:pt x="15585" y="12973"/>
                  <a:pt x="15594" y="12973"/>
                  <a:pt x="15602" y="12973"/>
                </a:cubicBezTo>
              </a:path>
              <a:path w="21110" h="6574">
                <a:moveTo>
                  <a:pt x="17363" y="11931"/>
                </a:moveTo>
                <a:cubicBezTo>
                  <a:pt x="17421" y="11912"/>
                  <a:pt x="17478" y="11891"/>
                  <a:pt x="17537" y="11881"/>
                </a:cubicBezTo>
              </a:path>
              <a:path w="21110" h="6574">
                <a:moveTo>
                  <a:pt x="17388" y="11683"/>
                </a:moveTo>
                <a:cubicBezTo>
                  <a:pt x="17388" y="11691"/>
                  <a:pt x="17388" y="11700"/>
                  <a:pt x="17388" y="11708"/>
                </a:cubicBezTo>
              </a:path>
              <a:path w="21110" h="6574">
                <a:moveTo>
                  <a:pt x="17462" y="12055"/>
                </a:moveTo>
                <a:lnTo>
                  <a:pt x="17462" y="12055"/>
                </a:lnTo>
                <a:lnTo>
                  <a:pt x="17462" y="12055"/>
                </a:lnTo>
              </a:path>
              <a:path w="21110" h="6574">
                <a:moveTo>
                  <a:pt x="17462" y="12055"/>
                </a:moveTo>
                <a:lnTo>
                  <a:pt x="17462" y="12055"/>
                </a:lnTo>
              </a:path>
              <a:path w="21110" h="6574">
                <a:moveTo>
                  <a:pt x="21382" y="9971"/>
                </a:moveTo>
                <a:cubicBezTo>
                  <a:pt x="21463" y="9939"/>
                  <a:pt x="21544" y="9918"/>
                  <a:pt x="21630" y="9897"/>
                </a:cubicBezTo>
              </a:path>
              <a:path w="21110" h="6574">
                <a:moveTo>
                  <a:pt x="21357" y="10195"/>
                </a:moveTo>
                <a:cubicBezTo>
                  <a:pt x="21523" y="10162"/>
                  <a:pt x="21685" y="10111"/>
                  <a:pt x="21853" y="10096"/>
                </a:cubicBezTo>
              </a:path>
              <a:path w="21110" h="6574">
                <a:moveTo>
                  <a:pt x="1215" y="13915"/>
                </a:moveTo>
                <a:cubicBezTo>
                  <a:pt x="1298" y="13792"/>
                  <a:pt x="1294" y="13815"/>
                  <a:pt x="1439" y="13791"/>
                </a:cubicBezTo>
                <a:cubicBezTo>
                  <a:pt x="1545" y="13953"/>
                  <a:pt x="1481" y="13997"/>
                  <a:pt x="1339" y="14139"/>
                </a:cubicBezTo>
                <a:cubicBezTo>
                  <a:pt x="1450" y="14055"/>
                  <a:pt x="1657" y="14126"/>
                  <a:pt x="1538" y="14312"/>
                </a:cubicBezTo>
                <a:cubicBezTo>
                  <a:pt x="1419" y="14498"/>
                  <a:pt x="1320" y="14438"/>
                  <a:pt x="1265" y="14337"/>
                </a:cubicBezTo>
              </a:path>
              <a:path w="21110" h="6574">
                <a:moveTo>
                  <a:pt x="992" y="14585"/>
                </a:moveTo>
                <a:cubicBezTo>
                  <a:pt x="1216" y="14836"/>
                  <a:pt x="1426" y="14806"/>
                  <a:pt x="1736" y="14635"/>
                </a:cubicBezTo>
                <a:cubicBezTo>
                  <a:pt x="2097" y="14437"/>
                  <a:pt x="2083" y="13976"/>
                  <a:pt x="1761" y="13717"/>
                </a:cubicBezTo>
                <a:cubicBezTo>
                  <a:pt x="1361" y="13396"/>
                  <a:pt x="835" y="13574"/>
                  <a:pt x="744" y="14064"/>
                </a:cubicBezTo>
                <a:cubicBezTo>
                  <a:pt x="667" y="14478"/>
                  <a:pt x="792" y="14575"/>
                  <a:pt x="1067" y="14784"/>
                </a:cubicBezTo>
              </a:path>
              <a:path w="21110" h="6574">
                <a:moveTo>
                  <a:pt x="3249" y="14709"/>
                </a:moveTo>
                <a:cubicBezTo>
                  <a:pt x="3085" y="14736"/>
                  <a:pt x="2919" y="14766"/>
                  <a:pt x="2753" y="14784"/>
                </a:cubicBezTo>
                <a:cubicBezTo>
                  <a:pt x="2636" y="14796"/>
                  <a:pt x="2666" y="14871"/>
                  <a:pt x="2679" y="15007"/>
                </a:cubicBezTo>
                <a:cubicBezTo>
                  <a:pt x="2687" y="15057"/>
                  <a:pt x="2696" y="15106"/>
                  <a:pt x="2704" y="15156"/>
                </a:cubicBezTo>
                <a:cubicBezTo>
                  <a:pt x="2704" y="15181"/>
                  <a:pt x="2704" y="15205"/>
                  <a:pt x="2704" y="15230"/>
                </a:cubicBezTo>
                <a:cubicBezTo>
                  <a:pt x="2838" y="15130"/>
                  <a:pt x="3025" y="15020"/>
                  <a:pt x="3200" y="15106"/>
                </a:cubicBezTo>
                <a:cubicBezTo>
                  <a:pt x="3508" y="15257"/>
                  <a:pt x="3286" y="15561"/>
                  <a:pt x="3101" y="15677"/>
                </a:cubicBezTo>
                <a:cubicBezTo>
                  <a:pt x="2937" y="15780"/>
                  <a:pt x="2848" y="15744"/>
                  <a:pt x="2679" y="15701"/>
                </a:cubicBezTo>
              </a:path>
              <a:path w="21110" h="6574">
                <a:moveTo>
                  <a:pt x="4093" y="14312"/>
                </a:moveTo>
                <a:cubicBezTo>
                  <a:pt x="4137" y="14181"/>
                  <a:pt x="4216" y="14181"/>
                  <a:pt x="4341" y="14163"/>
                </a:cubicBezTo>
                <a:cubicBezTo>
                  <a:pt x="4350" y="14322"/>
                  <a:pt x="4337" y="14432"/>
                  <a:pt x="4167" y="14511"/>
                </a:cubicBezTo>
                <a:cubicBezTo>
                  <a:pt x="4139" y="14511"/>
                  <a:pt x="4133" y="14509"/>
                  <a:pt x="4167" y="14486"/>
                </a:cubicBezTo>
                <a:cubicBezTo>
                  <a:pt x="4296" y="14479"/>
                  <a:pt x="4572" y="14521"/>
                  <a:pt x="4390" y="14734"/>
                </a:cubicBezTo>
                <a:cubicBezTo>
                  <a:pt x="4299" y="14841"/>
                  <a:pt x="4201" y="14813"/>
                  <a:pt x="4093" y="14784"/>
                </a:cubicBezTo>
              </a:path>
              <a:path w="21110" h="6574">
                <a:moveTo>
                  <a:pt x="3870" y="15056"/>
                </a:moveTo>
                <a:cubicBezTo>
                  <a:pt x="4112" y="15022"/>
                  <a:pt x="4345" y="15007"/>
                  <a:pt x="4589" y="15007"/>
                </a:cubicBezTo>
                <a:cubicBezTo>
                  <a:pt x="4597" y="15007"/>
                  <a:pt x="4606" y="15007"/>
                  <a:pt x="4614" y="15007"/>
                </a:cubicBezTo>
              </a:path>
              <a:path w="21110" h="6574">
                <a:moveTo>
                  <a:pt x="4043" y="15280"/>
                </a:moveTo>
                <a:cubicBezTo>
                  <a:pt x="4043" y="15348"/>
                  <a:pt x="4023" y="15410"/>
                  <a:pt x="4018" y="15478"/>
                </a:cubicBezTo>
                <a:cubicBezTo>
                  <a:pt x="4018" y="15486"/>
                  <a:pt x="4018" y="15495"/>
                  <a:pt x="4018" y="15503"/>
                </a:cubicBezTo>
                <a:cubicBezTo>
                  <a:pt x="4149" y="15519"/>
                  <a:pt x="4289" y="15542"/>
                  <a:pt x="4415" y="15478"/>
                </a:cubicBezTo>
                <a:cubicBezTo>
                  <a:pt x="4415" y="15470"/>
                  <a:pt x="4415" y="15461"/>
                  <a:pt x="4415" y="15453"/>
                </a:cubicBezTo>
              </a:path>
              <a:path w="21110" h="6574">
                <a:moveTo>
                  <a:pt x="4291" y="15230"/>
                </a:moveTo>
                <a:cubicBezTo>
                  <a:pt x="4252" y="15373"/>
                  <a:pt x="4252" y="15549"/>
                  <a:pt x="4242" y="15701"/>
                </a:cubicBezTo>
                <a:cubicBezTo>
                  <a:pt x="4237" y="15780"/>
                  <a:pt x="4220" y="15814"/>
                  <a:pt x="4242" y="15825"/>
                </a:cubicBezTo>
              </a:path>
              <a:path w="21110" h="6574">
                <a:moveTo>
                  <a:pt x="5308" y="15007"/>
                </a:moveTo>
                <a:cubicBezTo>
                  <a:pt x="5357" y="15120"/>
                  <a:pt x="5417" y="15238"/>
                  <a:pt x="5507" y="15329"/>
                </a:cubicBezTo>
                <a:cubicBezTo>
                  <a:pt x="5548" y="15370"/>
                  <a:pt x="5556" y="15380"/>
                  <a:pt x="5556" y="15354"/>
                </a:cubicBezTo>
              </a:path>
              <a:path w="21110" h="6574">
                <a:moveTo>
                  <a:pt x="5556" y="14908"/>
                </a:moveTo>
                <a:cubicBezTo>
                  <a:pt x="5472" y="15040"/>
                  <a:pt x="5376" y="15186"/>
                  <a:pt x="5333" y="15329"/>
                </a:cubicBezTo>
              </a:path>
              <a:path w="21110" h="6574">
                <a:moveTo>
                  <a:pt x="6276" y="14684"/>
                </a:moveTo>
                <a:cubicBezTo>
                  <a:pt x="6276" y="14799"/>
                  <a:pt x="6236" y="14899"/>
                  <a:pt x="6201" y="15007"/>
                </a:cubicBezTo>
                <a:cubicBezTo>
                  <a:pt x="6171" y="15101"/>
                  <a:pt x="6045" y="15405"/>
                  <a:pt x="6102" y="15503"/>
                </a:cubicBezTo>
                <a:cubicBezTo>
                  <a:pt x="6182" y="15642"/>
                  <a:pt x="6446" y="15566"/>
                  <a:pt x="6548" y="15528"/>
                </a:cubicBezTo>
                <a:cubicBezTo>
                  <a:pt x="6721" y="15464"/>
                  <a:pt x="6737" y="15371"/>
                  <a:pt x="6747" y="15205"/>
                </a:cubicBezTo>
                <a:cubicBezTo>
                  <a:pt x="6602" y="15157"/>
                  <a:pt x="6514" y="15201"/>
                  <a:pt x="6424" y="15329"/>
                </a:cubicBezTo>
                <a:cubicBezTo>
                  <a:pt x="6414" y="15343"/>
                  <a:pt x="6340" y="15602"/>
                  <a:pt x="6375" y="15602"/>
                </a:cubicBezTo>
                <a:cubicBezTo>
                  <a:pt x="6403" y="15574"/>
                  <a:pt x="6412" y="15561"/>
                  <a:pt x="6400" y="15528"/>
                </a:cubicBezTo>
              </a:path>
              <a:path w="21110" h="6574">
                <a:moveTo>
                  <a:pt x="7441" y="14089"/>
                </a:moveTo>
                <a:cubicBezTo>
                  <a:pt x="7281" y="14077"/>
                  <a:pt x="7179" y="14137"/>
                  <a:pt x="7045" y="14238"/>
                </a:cubicBezTo>
                <a:cubicBezTo>
                  <a:pt x="7159" y="14391"/>
                  <a:pt x="7312" y="14446"/>
                  <a:pt x="7367" y="14610"/>
                </a:cubicBezTo>
                <a:cubicBezTo>
                  <a:pt x="7221" y="14667"/>
                  <a:pt x="7114" y="14636"/>
                  <a:pt x="7193" y="14436"/>
                </a:cubicBezTo>
                <a:cubicBezTo>
                  <a:pt x="7237" y="14326"/>
                  <a:pt x="7365" y="14245"/>
                  <a:pt x="7392" y="14139"/>
                </a:cubicBezTo>
              </a:path>
              <a:path w="21110" h="6574">
                <a:moveTo>
                  <a:pt x="7020" y="14883"/>
                </a:moveTo>
                <a:cubicBezTo>
                  <a:pt x="7127" y="14883"/>
                  <a:pt x="7638" y="14826"/>
                  <a:pt x="7665" y="14908"/>
                </a:cubicBezTo>
              </a:path>
              <a:path w="21110" h="6574">
                <a:moveTo>
                  <a:pt x="7516" y="15354"/>
                </a:moveTo>
                <a:cubicBezTo>
                  <a:pt x="7503" y="15253"/>
                  <a:pt x="7453" y="15197"/>
                  <a:pt x="7342" y="15180"/>
                </a:cubicBezTo>
                <a:cubicBezTo>
                  <a:pt x="7139" y="15148"/>
                  <a:pt x="7135" y="15308"/>
                  <a:pt x="7144" y="15453"/>
                </a:cubicBezTo>
                <a:cubicBezTo>
                  <a:pt x="7331" y="15520"/>
                  <a:pt x="7371" y="15480"/>
                  <a:pt x="7466" y="15329"/>
                </a:cubicBezTo>
                <a:cubicBezTo>
                  <a:pt x="7488" y="15307"/>
                  <a:pt x="7497" y="15302"/>
                  <a:pt x="7491" y="15280"/>
                </a:cubicBezTo>
                <a:cubicBezTo>
                  <a:pt x="7491" y="15421"/>
                  <a:pt x="7469" y="15559"/>
                  <a:pt x="7466" y="15701"/>
                </a:cubicBezTo>
                <a:cubicBezTo>
                  <a:pt x="7466" y="15776"/>
                  <a:pt x="7466" y="15784"/>
                  <a:pt x="7466" y="15825"/>
                </a:cubicBezTo>
              </a:path>
              <a:path w="21110" h="6574">
                <a:moveTo>
                  <a:pt x="3423" y="15701"/>
                </a:moveTo>
                <a:cubicBezTo>
                  <a:pt x="3423" y="15649"/>
                  <a:pt x="3486" y="15832"/>
                  <a:pt x="3497" y="15850"/>
                </a:cubicBezTo>
                <a:cubicBezTo>
                  <a:pt x="3505" y="15858"/>
                  <a:pt x="3514" y="15867"/>
                  <a:pt x="3522" y="15875"/>
                </a:cubicBezTo>
              </a:path>
              <a:path w="21110" h="6574">
                <a:moveTo>
                  <a:pt x="3572" y="15627"/>
                </a:moveTo>
                <a:cubicBezTo>
                  <a:pt x="3527" y="15684"/>
                  <a:pt x="3400" y="15857"/>
                  <a:pt x="3349" y="15900"/>
                </a:cubicBezTo>
              </a:path>
              <a:path w="21110" h="6574">
                <a:moveTo>
                  <a:pt x="2282" y="15974"/>
                </a:moveTo>
                <a:cubicBezTo>
                  <a:pt x="2356" y="16004"/>
                  <a:pt x="2465" y="16071"/>
                  <a:pt x="2456" y="16173"/>
                </a:cubicBezTo>
                <a:cubicBezTo>
                  <a:pt x="2436" y="16387"/>
                  <a:pt x="2266" y="16454"/>
                  <a:pt x="2084" y="16470"/>
                </a:cubicBezTo>
                <a:cubicBezTo>
                  <a:pt x="2157" y="16331"/>
                  <a:pt x="2294" y="16209"/>
                  <a:pt x="2456" y="16371"/>
                </a:cubicBezTo>
                <a:cubicBezTo>
                  <a:pt x="2497" y="16412"/>
                  <a:pt x="2424" y="16462"/>
                  <a:pt x="2505" y="16421"/>
                </a:cubicBezTo>
              </a:path>
              <a:path w="21110" h="6574">
                <a:moveTo>
                  <a:pt x="2753" y="15999"/>
                </a:moveTo>
                <a:cubicBezTo>
                  <a:pt x="2626" y="16101"/>
                  <a:pt x="2626" y="16213"/>
                  <a:pt x="2679" y="16371"/>
                </a:cubicBezTo>
                <a:cubicBezTo>
                  <a:pt x="2806" y="16349"/>
                  <a:pt x="3060" y="16272"/>
                  <a:pt x="2927" y="16073"/>
                </a:cubicBezTo>
                <a:cubicBezTo>
                  <a:pt x="2860" y="16051"/>
                  <a:pt x="2842" y="16047"/>
                  <a:pt x="2803" y="16024"/>
                </a:cubicBezTo>
              </a:path>
              <a:path w="21110" h="6574">
                <a:moveTo>
                  <a:pt x="2406" y="15726"/>
                </a:moveTo>
                <a:cubicBezTo>
                  <a:pt x="2356" y="15669"/>
                  <a:pt x="2355" y="15645"/>
                  <a:pt x="2332" y="15577"/>
                </a:cubicBezTo>
                <a:cubicBezTo>
                  <a:pt x="2288" y="15447"/>
                  <a:pt x="2266" y="15350"/>
                  <a:pt x="2282" y="15205"/>
                </a:cubicBezTo>
                <a:cubicBezTo>
                  <a:pt x="2306" y="14983"/>
                  <a:pt x="2420" y="14765"/>
                  <a:pt x="2580" y="14610"/>
                </a:cubicBezTo>
                <a:cubicBezTo>
                  <a:pt x="2748" y="14447"/>
                  <a:pt x="2985" y="14362"/>
                  <a:pt x="3200" y="14288"/>
                </a:cubicBezTo>
                <a:cubicBezTo>
                  <a:pt x="3397" y="14220"/>
                  <a:pt x="3588" y="14238"/>
                  <a:pt x="3795" y="14238"/>
                </a:cubicBezTo>
                <a:cubicBezTo>
                  <a:pt x="3845" y="14238"/>
                  <a:pt x="3894" y="14238"/>
                  <a:pt x="3944" y="14238"/>
                </a:cubicBezTo>
              </a:path>
              <a:path w="21110" h="6574">
                <a:moveTo>
                  <a:pt x="3870" y="13940"/>
                </a:moveTo>
                <a:cubicBezTo>
                  <a:pt x="3870" y="14049"/>
                  <a:pt x="3861" y="14182"/>
                  <a:pt x="3845" y="14288"/>
                </a:cubicBezTo>
                <a:cubicBezTo>
                  <a:pt x="3826" y="14345"/>
                  <a:pt x="3817" y="14352"/>
                  <a:pt x="3820" y="14387"/>
                </a:cubicBezTo>
              </a:path>
              <a:path w="21110" h="6574">
                <a:moveTo>
                  <a:pt x="3696" y="14213"/>
                </a:moveTo>
                <a:cubicBezTo>
                  <a:pt x="3712" y="14165"/>
                  <a:pt x="3859" y="14147"/>
                  <a:pt x="3919" y="14139"/>
                </a:cubicBezTo>
                <a:cubicBezTo>
                  <a:pt x="3977" y="14139"/>
                  <a:pt x="3985" y="14139"/>
                  <a:pt x="4018" y="14139"/>
                </a:cubicBezTo>
              </a:path>
              <a:path w="21110" h="6574">
                <a:moveTo>
                  <a:pt x="6648" y="15577"/>
                </a:moveTo>
                <a:cubicBezTo>
                  <a:pt x="6648" y="15585"/>
                  <a:pt x="6648" y="15594"/>
                  <a:pt x="6648" y="15602"/>
                </a:cubicBezTo>
                <a:cubicBezTo>
                  <a:pt x="6696" y="15632"/>
                  <a:pt x="6724" y="15702"/>
                  <a:pt x="6772" y="15726"/>
                </a:cubicBezTo>
              </a:path>
              <a:path w="21110" h="6574">
                <a:moveTo>
                  <a:pt x="6846" y="15453"/>
                </a:moveTo>
                <a:cubicBezTo>
                  <a:pt x="6757" y="15550"/>
                  <a:pt x="6689" y="15638"/>
                  <a:pt x="6623" y="15751"/>
                </a:cubicBezTo>
              </a:path>
              <a:path w="21110" h="6574">
                <a:moveTo>
                  <a:pt x="5705" y="15677"/>
                </a:moveTo>
                <a:cubicBezTo>
                  <a:pt x="5639" y="15686"/>
                  <a:pt x="5533" y="15696"/>
                  <a:pt x="5507" y="15776"/>
                </a:cubicBezTo>
                <a:cubicBezTo>
                  <a:pt x="5488" y="15834"/>
                  <a:pt x="5488" y="15912"/>
                  <a:pt x="5482" y="15974"/>
                </a:cubicBezTo>
                <a:cubicBezTo>
                  <a:pt x="5537" y="15947"/>
                  <a:pt x="5575" y="15847"/>
                  <a:pt x="5631" y="15949"/>
                </a:cubicBezTo>
                <a:cubicBezTo>
                  <a:pt x="5684" y="16047"/>
                  <a:pt x="5555" y="16257"/>
                  <a:pt x="5457" y="16148"/>
                </a:cubicBezTo>
                <a:cubicBezTo>
                  <a:pt x="5457" y="16131"/>
                  <a:pt x="5457" y="16115"/>
                  <a:pt x="5457" y="16098"/>
                </a:cubicBezTo>
              </a:path>
              <a:path w="21110" h="6574">
                <a:moveTo>
                  <a:pt x="5705" y="15801"/>
                </a:moveTo>
                <a:cubicBezTo>
                  <a:pt x="5716" y="15853"/>
                  <a:pt x="5746" y="15947"/>
                  <a:pt x="5829" y="15900"/>
                </a:cubicBezTo>
                <a:cubicBezTo>
                  <a:pt x="5854" y="15875"/>
                  <a:pt x="5879" y="15850"/>
                  <a:pt x="5904" y="15825"/>
                </a:cubicBezTo>
              </a:path>
              <a:path w="21110" h="6574">
                <a:moveTo>
                  <a:pt x="5953" y="15701"/>
                </a:moveTo>
                <a:cubicBezTo>
                  <a:pt x="5883" y="15724"/>
                  <a:pt x="5937" y="15952"/>
                  <a:pt x="5928" y="16024"/>
                </a:cubicBezTo>
                <a:cubicBezTo>
                  <a:pt x="5909" y="16081"/>
                  <a:pt x="5901" y="16088"/>
                  <a:pt x="5904" y="16123"/>
                </a:cubicBezTo>
              </a:path>
              <a:path w="21110" h="6574">
                <a:moveTo>
                  <a:pt x="5779" y="15304"/>
                </a:moveTo>
                <a:cubicBezTo>
                  <a:pt x="5704" y="15229"/>
                  <a:pt x="5692" y="15152"/>
                  <a:pt x="5655" y="15056"/>
                </a:cubicBezTo>
                <a:cubicBezTo>
                  <a:pt x="5610" y="14937"/>
                  <a:pt x="5686" y="14752"/>
                  <a:pt x="5730" y="14635"/>
                </a:cubicBezTo>
                <a:cubicBezTo>
                  <a:pt x="5819" y="14399"/>
                  <a:pt x="6036" y="14108"/>
                  <a:pt x="6325" y="14139"/>
                </a:cubicBezTo>
                <a:cubicBezTo>
                  <a:pt x="6353" y="14142"/>
                  <a:pt x="6391" y="14159"/>
                  <a:pt x="6424" y="14163"/>
                </a:cubicBezTo>
              </a:path>
              <a:path w="21110" h="6574">
                <a:moveTo>
                  <a:pt x="6747" y="14089"/>
                </a:moveTo>
                <a:cubicBezTo>
                  <a:pt x="6732" y="14179"/>
                  <a:pt x="6730" y="14276"/>
                  <a:pt x="6697" y="14362"/>
                </a:cubicBezTo>
                <a:cubicBezTo>
                  <a:pt x="6697" y="14354"/>
                  <a:pt x="6697" y="14345"/>
                  <a:pt x="6697" y="14337"/>
                </a:cubicBezTo>
              </a:path>
              <a:path w="21110" h="6574">
                <a:moveTo>
                  <a:pt x="6548" y="14263"/>
                </a:moveTo>
                <a:cubicBezTo>
                  <a:pt x="6634" y="14246"/>
                  <a:pt x="6788" y="14184"/>
                  <a:pt x="6846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0040" y="3367080"/>
            <a:ext cx="1320840" cy="1446120"/>
          </a:xfrm>
          <a:custGeom>
            <a:avLst/>
            <a:gdLst/>
            <a:ahLst/>
            <a:rect l="l" t="t" r="r" b="b"/>
            <a:pathLst>
              <a:path w="3672" h="4020">
                <a:moveTo>
                  <a:pt x="15056" y="11782"/>
                </a:moveTo>
                <a:cubicBezTo>
                  <a:pt x="15002" y="11814"/>
                  <a:pt x="14844" y="11847"/>
                  <a:pt x="14833" y="11906"/>
                </a:cubicBezTo>
                <a:cubicBezTo>
                  <a:pt x="14833" y="11980"/>
                  <a:pt x="14833" y="11989"/>
                  <a:pt x="14833" y="12030"/>
                </a:cubicBezTo>
                <a:cubicBezTo>
                  <a:pt x="14975" y="12010"/>
                  <a:pt x="15109" y="11925"/>
                  <a:pt x="15230" y="12055"/>
                </a:cubicBezTo>
                <a:cubicBezTo>
                  <a:pt x="15383" y="12219"/>
                  <a:pt x="15077" y="12318"/>
                  <a:pt x="14982" y="12328"/>
                </a:cubicBezTo>
                <a:cubicBezTo>
                  <a:pt x="14965" y="12328"/>
                  <a:pt x="14949" y="12328"/>
                  <a:pt x="14932" y="12328"/>
                </a:cubicBezTo>
              </a:path>
              <a:path w="3672" h="4020">
                <a:moveTo>
                  <a:pt x="14759" y="12576"/>
                </a:moveTo>
                <a:cubicBezTo>
                  <a:pt x="14934" y="12475"/>
                  <a:pt x="15158" y="12493"/>
                  <a:pt x="15354" y="12452"/>
                </a:cubicBezTo>
                <a:cubicBezTo>
                  <a:pt x="15494" y="12412"/>
                  <a:pt x="15516" y="12395"/>
                  <a:pt x="15602" y="12402"/>
                </a:cubicBezTo>
              </a:path>
              <a:path w="3672" h="4020">
                <a:moveTo>
                  <a:pt x="15106" y="12675"/>
                </a:moveTo>
                <a:cubicBezTo>
                  <a:pt x="15260" y="12637"/>
                  <a:pt x="15214" y="12642"/>
                  <a:pt x="15354" y="12675"/>
                </a:cubicBezTo>
                <a:cubicBezTo>
                  <a:pt x="15330" y="12847"/>
                  <a:pt x="15275" y="13114"/>
                  <a:pt x="15032" y="13097"/>
                </a:cubicBezTo>
                <a:cubicBezTo>
                  <a:pt x="15015" y="13080"/>
                  <a:pt x="14999" y="13064"/>
                  <a:pt x="14982" y="13047"/>
                </a:cubicBezTo>
                <a:cubicBezTo>
                  <a:pt x="15070" y="12924"/>
                  <a:pt x="15160" y="12838"/>
                  <a:pt x="15329" y="12923"/>
                </a:cubicBezTo>
                <a:cubicBezTo>
                  <a:pt x="15333" y="12925"/>
                  <a:pt x="15384" y="12982"/>
                  <a:pt x="15404" y="12998"/>
                </a:cubicBezTo>
              </a:path>
              <a:path w="3672" h="4020">
                <a:moveTo>
                  <a:pt x="15900" y="12254"/>
                </a:moveTo>
                <a:cubicBezTo>
                  <a:pt x="16003" y="12305"/>
                  <a:pt x="16061" y="12341"/>
                  <a:pt x="16123" y="12427"/>
                </a:cubicBezTo>
                <a:cubicBezTo>
                  <a:pt x="16131" y="12435"/>
                  <a:pt x="16140" y="12444"/>
                  <a:pt x="16148" y="12452"/>
                </a:cubicBezTo>
              </a:path>
              <a:path w="3672" h="4020">
                <a:moveTo>
                  <a:pt x="16173" y="12129"/>
                </a:moveTo>
                <a:cubicBezTo>
                  <a:pt x="16103" y="12242"/>
                  <a:pt x="16046" y="12353"/>
                  <a:pt x="15999" y="12477"/>
                </a:cubicBezTo>
              </a:path>
              <a:path w="3672" h="4020">
                <a:moveTo>
                  <a:pt x="17562" y="10542"/>
                </a:moveTo>
                <a:cubicBezTo>
                  <a:pt x="17603" y="10567"/>
                  <a:pt x="17646" y="10622"/>
                  <a:pt x="17686" y="10666"/>
                </a:cubicBezTo>
              </a:path>
              <a:path w="3672" h="4020">
                <a:moveTo>
                  <a:pt x="17760" y="10443"/>
                </a:moveTo>
                <a:cubicBezTo>
                  <a:pt x="17692" y="10536"/>
                  <a:pt x="17654" y="10645"/>
                  <a:pt x="17587" y="10740"/>
                </a:cubicBezTo>
              </a:path>
              <a:path w="3672" h="4020">
                <a:moveTo>
                  <a:pt x="17016" y="10790"/>
                </a:moveTo>
                <a:cubicBezTo>
                  <a:pt x="17043" y="10905"/>
                  <a:pt x="17074" y="11021"/>
                  <a:pt x="17090" y="11137"/>
                </a:cubicBezTo>
              </a:path>
              <a:path w="3672" h="4020">
                <a:moveTo>
                  <a:pt x="17140" y="10815"/>
                </a:moveTo>
                <a:cubicBezTo>
                  <a:pt x="17288" y="10807"/>
                  <a:pt x="17501" y="10820"/>
                  <a:pt x="17363" y="11038"/>
                </a:cubicBezTo>
                <a:cubicBezTo>
                  <a:pt x="17274" y="11127"/>
                  <a:pt x="17254" y="11160"/>
                  <a:pt x="17165" y="11137"/>
                </a:cubicBezTo>
                <a:cubicBezTo>
                  <a:pt x="17232" y="11002"/>
                  <a:pt x="17295" y="11027"/>
                  <a:pt x="17388" y="11063"/>
                </a:cubicBezTo>
                <a:cubicBezTo>
                  <a:pt x="17396" y="11063"/>
                  <a:pt x="17405" y="11063"/>
                  <a:pt x="17413" y="11063"/>
                </a:cubicBezTo>
              </a:path>
              <a:path w="3672" h="4020">
                <a:moveTo>
                  <a:pt x="16942" y="10567"/>
                </a:moveTo>
                <a:cubicBezTo>
                  <a:pt x="16867" y="10613"/>
                  <a:pt x="16848" y="10626"/>
                  <a:pt x="16743" y="10517"/>
                </a:cubicBezTo>
                <a:cubicBezTo>
                  <a:pt x="16539" y="10306"/>
                  <a:pt x="16504" y="10106"/>
                  <a:pt x="16495" y="9823"/>
                </a:cubicBezTo>
                <a:cubicBezTo>
                  <a:pt x="16487" y="9585"/>
                  <a:pt x="16572" y="9487"/>
                  <a:pt x="16793" y="9401"/>
                </a:cubicBezTo>
                <a:cubicBezTo>
                  <a:pt x="16961" y="9336"/>
                  <a:pt x="17014" y="9332"/>
                  <a:pt x="17140" y="9401"/>
                </a:cubicBezTo>
              </a:path>
              <a:path w="3672" h="4020">
                <a:moveTo>
                  <a:pt x="17289" y="9401"/>
                </a:moveTo>
                <a:cubicBezTo>
                  <a:pt x="17319" y="9378"/>
                  <a:pt x="17416" y="9347"/>
                  <a:pt x="17438" y="9351"/>
                </a:cubicBezTo>
                <a:cubicBezTo>
                  <a:pt x="17446" y="9359"/>
                  <a:pt x="17454" y="9368"/>
                  <a:pt x="17462" y="9376"/>
                </a:cubicBezTo>
              </a:path>
              <a:path w="3672" h="4020">
                <a:moveTo>
                  <a:pt x="16570" y="11906"/>
                </a:moveTo>
                <a:cubicBezTo>
                  <a:pt x="16587" y="12026"/>
                  <a:pt x="16588" y="12110"/>
                  <a:pt x="16570" y="12229"/>
                </a:cubicBezTo>
                <a:cubicBezTo>
                  <a:pt x="16558" y="12305"/>
                  <a:pt x="16594" y="12181"/>
                  <a:pt x="16594" y="12179"/>
                </a:cubicBezTo>
              </a:path>
              <a:path w="3672" h="4020">
                <a:moveTo>
                  <a:pt x="16768" y="11807"/>
                </a:moveTo>
                <a:cubicBezTo>
                  <a:pt x="16793" y="11857"/>
                  <a:pt x="16801" y="11873"/>
                  <a:pt x="16768" y="11906"/>
                </a:cubicBezTo>
                <a:cubicBezTo>
                  <a:pt x="16857" y="11933"/>
                  <a:pt x="16935" y="11947"/>
                  <a:pt x="17016" y="11906"/>
                </a:cubicBezTo>
              </a:path>
              <a:path w="3672" h="4020">
                <a:moveTo>
                  <a:pt x="17016" y="11633"/>
                </a:moveTo>
                <a:cubicBezTo>
                  <a:pt x="17016" y="11766"/>
                  <a:pt x="17038" y="11896"/>
                  <a:pt x="17041" y="12030"/>
                </a:cubicBezTo>
                <a:cubicBezTo>
                  <a:pt x="17041" y="12104"/>
                  <a:pt x="17041" y="12113"/>
                  <a:pt x="17041" y="12154"/>
                </a:cubicBezTo>
              </a:path>
              <a:path w="3672" h="4020">
                <a:moveTo>
                  <a:pt x="16396" y="12328"/>
                </a:moveTo>
                <a:cubicBezTo>
                  <a:pt x="16607" y="12328"/>
                  <a:pt x="16804" y="12285"/>
                  <a:pt x="17016" y="12278"/>
                </a:cubicBezTo>
                <a:cubicBezTo>
                  <a:pt x="17130" y="12274"/>
                  <a:pt x="17130" y="12303"/>
                  <a:pt x="17214" y="12303"/>
                </a:cubicBezTo>
              </a:path>
              <a:path w="3672" h="4020">
                <a:moveTo>
                  <a:pt x="16594" y="12551"/>
                </a:moveTo>
                <a:cubicBezTo>
                  <a:pt x="16609" y="12533"/>
                  <a:pt x="16811" y="12370"/>
                  <a:pt x="16842" y="12477"/>
                </a:cubicBezTo>
                <a:cubicBezTo>
                  <a:pt x="16842" y="12608"/>
                  <a:pt x="16839" y="12655"/>
                  <a:pt x="16768" y="12725"/>
                </a:cubicBezTo>
                <a:cubicBezTo>
                  <a:pt x="16751" y="12733"/>
                  <a:pt x="16735" y="12742"/>
                  <a:pt x="16718" y="12750"/>
                </a:cubicBezTo>
                <a:cubicBezTo>
                  <a:pt x="16775" y="12712"/>
                  <a:pt x="16948" y="12646"/>
                  <a:pt x="16867" y="12799"/>
                </a:cubicBezTo>
                <a:cubicBezTo>
                  <a:pt x="16804" y="12918"/>
                  <a:pt x="16652" y="13029"/>
                  <a:pt x="16619" y="12898"/>
                </a:cubicBezTo>
              </a:path>
              <a:path w="3672" h="4020">
                <a:moveTo>
                  <a:pt x="15528" y="12824"/>
                </a:moveTo>
                <a:cubicBezTo>
                  <a:pt x="15584" y="12813"/>
                  <a:pt x="15618" y="12799"/>
                  <a:pt x="15677" y="12799"/>
                </a:cubicBezTo>
              </a:path>
              <a:path w="3672" h="4020">
                <a:moveTo>
                  <a:pt x="15850" y="12700"/>
                </a:moveTo>
                <a:cubicBezTo>
                  <a:pt x="15875" y="12700"/>
                  <a:pt x="15900" y="12700"/>
                  <a:pt x="15925" y="12700"/>
                </a:cubicBezTo>
                <a:cubicBezTo>
                  <a:pt x="15955" y="12793"/>
                  <a:pt x="15894" y="12843"/>
                  <a:pt x="15825" y="12923"/>
                </a:cubicBezTo>
                <a:cubicBezTo>
                  <a:pt x="15897" y="12939"/>
                  <a:pt x="15947" y="12923"/>
                  <a:pt x="16024" y="12923"/>
                </a:cubicBezTo>
              </a:path>
              <a:path w="3672" h="4020">
                <a:moveTo>
                  <a:pt x="17785" y="11733"/>
                </a:moveTo>
                <a:cubicBezTo>
                  <a:pt x="17836" y="11733"/>
                  <a:pt x="17869" y="11727"/>
                  <a:pt x="17909" y="11708"/>
                </a:cubicBezTo>
                <a:cubicBezTo>
                  <a:pt x="17909" y="11856"/>
                  <a:pt x="17878" y="11895"/>
                  <a:pt x="17785" y="12005"/>
                </a:cubicBezTo>
                <a:cubicBezTo>
                  <a:pt x="17881" y="11994"/>
                  <a:pt x="17964" y="11973"/>
                  <a:pt x="18058" y="11956"/>
                </a:cubicBezTo>
              </a:path>
              <a:path w="3672" h="4020">
                <a:moveTo>
                  <a:pt x="14610" y="12923"/>
                </a:moveTo>
                <a:cubicBezTo>
                  <a:pt x="14819" y="12923"/>
                  <a:pt x="15023" y="12908"/>
                  <a:pt x="15230" y="12898"/>
                </a:cubicBezTo>
                <a:cubicBezTo>
                  <a:pt x="15438" y="12888"/>
                  <a:pt x="15684" y="12935"/>
                  <a:pt x="15875" y="12874"/>
                </a:cubicBezTo>
                <a:cubicBezTo>
                  <a:pt x="15900" y="12874"/>
                  <a:pt x="15908" y="12874"/>
                  <a:pt x="15875" y="12874"/>
                </a:cubicBezTo>
              </a:path>
              <a:path w="3672" h="4020">
                <a:moveTo>
                  <a:pt x="14412" y="12849"/>
                </a:moveTo>
                <a:cubicBezTo>
                  <a:pt x="14351" y="12869"/>
                  <a:pt x="14387" y="13086"/>
                  <a:pt x="14387" y="13146"/>
                </a:cubicBezTo>
                <a:cubicBezTo>
                  <a:pt x="14387" y="13232"/>
                  <a:pt x="14373" y="13422"/>
                  <a:pt x="14412" y="13345"/>
                </a:cubicBezTo>
              </a:path>
              <a:path w="3672" h="4020">
                <a:moveTo>
                  <a:pt x="16346" y="11981"/>
                </a:moveTo>
                <a:cubicBezTo>
                  <a:pt x="16464" y="11934"/>
                  <a:pt x="16581" y="11930"/>
                  <a:pt x="16718" y="11906"/>
                </a:cubicBezTo>
                <a:cubicBezTo>
                  <a:pt x="17013" y="11855"/>
                  <a:pt x="17312" y="11806"/>
                  <a:pt x="17611" y="11782"/>
                </a:cubicBezTo>
                <a:cubicBezTo>
                  <a:pt x="17725" y="11773"/>
                  <a:pt x="17844" y="11782"/>
                  <a:pt x="17959" y="11782"/>
                </a:cubicBezTo>
              </a:path>
              <a:path w="3672" h="4020">
                <a:moveTo>
                  <a:pt x="16446" y="11336"/>
                </a:moveTo>
                <a:cubicBezTo>
                  <a:pt x="16487" y="11315"/>
                  <a:pt x="16595" y="11301"/>
                  <a:pt x="16669" y="11286"/>
                </a:cubicBezTo>
                <a:cubicBezTo>
                  <a:pt x="16677" y="11286"/>
                  <a:pt x="16686" y="11286"/>
                  <a:pt x="16694" y="11286"/>
                </a:cubicBezTo>
                <a:cubicBezTo>
                  <a:pt x="16694" y="11413"/>
                  <a:pt x="16642" y="11511"/>
                  <a:pt x="16619" y="11633"/>
                </a:cubicBezTo>
                <a:cubicBezTo>
                  <a:pt x="16619" y="11691"/>
                  <a:pt x="16619" y="11700"/>
                  <a:pt x="16619" y="11733"/>
                </a:cubicBezTo>
              </a:path>
              <a:path w="3672" h="4020">
                <a:moveTo>
                  <a:pt x="17413" y="12229"/>
                </a:moveTo>
                <a:cubicBezTo>
                  <a:pt x="17474" y="12229"/>
                  <a:pt x="17500" y="12221"/>
                  <a:pt x="17562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62840" y="3036960"/>
            <a:ext cx="1098360" cy="1562040"/>
          </a:xfrm>
          <a:custGeom>
            <a:avLst/>
            <a:gdLst/>
            <a:ahLst/>
            <a:rect l="l" t="t" r="r" b="b"/>
            <a:pathLst>
              <a:path w="3051" h="4341">
                <a:moveTo>
                  <a:pt x="20117" y="11361"/>
                </a:moveTo>
                <a:cubicBezTo>
                  <a:pt x="20010" y="11387"/>
                  <a:pt x="19914" y="11426"/>
                  <a:pt x="19794" y="11435"/>
                </a:cubicBezTo>
                <a:cubicBezTo>
                  <a:pt x="19718" y="11441"/>
                  <a:pt x="19763" y="11581"/>
                  <a:pt x="19769" y="11633"/>
                </a:cubicBezTo>
                <a:cubicBezTo>
                  <a:pt x="19769" y="11641"/>
                  <a:pt x="19769" y="11650"/>
                  <a:pt x="19769" y="11658"/>
                </a:cubicBezTo>
                <a:cubicBezTo>
                  <a:pt x="19886" y="11622"/>
                  <a:pt x="20067" y="11518"/>
                  <a:pt x="20166" y="11658"/>
                </a:cubicBezTo>
                <a:cubicBezTo>
                  <a:pt x="20253" y="11781"/>
                  <a:pt x="20081" y="11923"/>
                  <a:pt x="19968" y="11931"/>
                </a:cubicBezTo>
                <a:cubicBezTo>
                  <a:pt x="19968" y="11923"/>
                  <a:pt x="19968" y="11914"/>
                  <a:pt x="19968" y="11906"/>
                </a:cubicBezTo>
              </a:path>
              <a:path w="3051" h="4341">
                <a:moveTo>
                  <a:pt x="19621" y="12055"/>
                </a:moveTo>
                <a:cubicBezTo>
                  <a:pt x="19844" y="12025"/>
                  <a:pt x="20066" y="11992"/>
                  <a:pt x="20290" y="11981"/>
                </a:cubicBezTo>
              </a:path>
              <a:path w="3051" h="4341">
                <a:moveTo>
                  <a:pt x="20017" y="12179"/>
                </a:moveTo>
                <a:cubicBezTo>
                  <a:pt x="20036" y="12293"/>
                  <a:pt x="20056" y="12410"/>
                  <a:pt x="20067" y="12526"/>
                </a:cubicBezTo>
                <a:cubicBezTo>
                  <a:pt x="20077" y="12634"/>
                  <a:pt x="20054" y="12665"/>
                  <a:pt x="20141" y="12551"/>
                </a:cubicBezTo>
              </a:path>
              <a:path w="3051" h="4341">
                <a:moveTo>
                  <a:pt x="20737" y="11807"/>
                </a:moveTo>
                <a:cubicBezTo>
                  <a:pt x="20782" y="11929"/>
                  <a:pt x="20869" y="11997"/>
                  <a:pt x="20935" y="12105"/>
                </a:cubicBezTo>
                <a:cubicBezTo>
                  <a:pt x="20955" y="12145"/>
                  <a:pt x="20964" y="12171"/>
                  <a:pt x="20960" y="12129"/>
                </a:cubicBezTo>
              </a:path>
              <a:path w="3051" h="4341">
                <a:moveTo>
                  <a:pt x="20985" y="11733"/>
                </a:moveTo>
                <a:cubicBezTo>
                  <a:pt x="20909" y="11904"/>
                  <a:pt x="20849" y="12077"/>
                  <a:pt x="20786" y="12254"/>
                </a:cubicBezTo>
              </a:path>
              <a:path w="3051" h="4341">
                <a:moveTo>
                  <a:pt x="21258" y="11361"/>
                </a:moveTo>
                <a:cubicBezTo>
                  <a:pt x="21362" y="11378"/>
                  <a:pt x="21471" y="11402"/>
                  <a:pt x="21580" y="11385"/>
                </a:cubicBezTo>
                <a:cubicBezTo>
                  <a:pt x="21605" y="11377"/>
                  <a:pt x="21629" y="11369"/>
                  <a:pt x="21654" y="11361"/>
                </a:cubicBezTo>
                <a:cubicBezTo>
                  <a:pt x="21654" y="11529"/>
                  <a:pt x="21643" y="11691"/>
                  <a:pt x="21630" y="11857"/>
                </a:cubicBezTo>
                <a:cubicBezTo>
                  <a:pt x="21630" y="11882"/>
                  <a:pt x="21630" y="11906"/>
                  <a:pt x="21630" y="11931"/>
                </a:cubicBezTo>
              </a:path>
              <a:path w="3051" h="4341">
                <a:moveTo>
                  <a:pt x="21357" y="12129"/>
                </a:moveTo>
                <a:cubicBezTo>
                  <a:pt x="21567" y="12115"/>
                  <a:pt x="21766" y="12063"/>
                  <a:pt x="21977" y="12055"/>
                </a:cubicBezTo>
                <a:cubicBezTo>
                  <a:pt x="22022" y="12055"/>
                  <a:pt x="22035" y="12051"/>
                  <a:pt x="22051" y="12080"/>
                </a:cubicBezTo>
              </a:path>
              <a:path w="3051" h="4341">
                <a:moveTo>
                  <a:pt x="21729" y="12278"/>
                </a:moveTo>
                <a:cubicBezTo>
                  <a:pt x="21801" y="12271"/>
                  <a:pt x="22086" y="12218"/>
                  <a:pt x="22002" y="12402"/>
                </a:cubicBezTo>
                <a:cubicBezTo>
                  <a:pt x="21934" y="12492"/>
                  <a:pt x="21919" y="12519"/>
                  <a:pt x="21853" y="12551"/>
                </a:cubicBezTo>
                <a:cubicBezTo>
                  <a:pt x="21853" y="12559"/>
                  <a:pt x="21853" y="12568"/>
                  <a:pt x="21853" y="12576"/>
                </a:cubicBezTo>
                <a:cubicBezTo>
                  <a:pt x="21889" y="12555"/>
                  <a:pt x="22002" y="12509"/>
                  <a:pt x="22002" y="12601"/>
                </a:cubicBezTo>
                <a:cubicBezTo>
                  <a:pt x="22002" y="12784"/>
                  <a:pt x="21808" y="12768"/>
                  <a:pt x="21679" y="12774"/>
                </a:cubicBezTo>
                <a:cubicBezTo>
                  <a:pt x="21654" y="12774"/>
                  <a:pt x="21646" y="12774"/>
                  <a:pt x="21679" y="12774"/>
                </a:cubicBezTo>
              </a:path>
              <a:path w="3051" h="4341">
                <a:moveTo>
                  <a:pt x="21828" y="10244"/>
                </a:moveTo>
                <a:cubicBezTo>
                  <a:pt x="21763" y="10277"/>
                  <a:pt x="21726" y="10369"/>
                  <a:pt x="21704" y="10443"/>
                </a:cubicBezTo>
                <a:cubicBezTo>
                  <a:pt x="21745" y="10498"/>
                  <a:pt x="21835" y="10509"/>
                  <a:pt x="21878" y="10418"/>
                </a:cubicBezTo>
                <a:cubicBezTo>
                  <a:pt x="21903" y="10365"/>
                  <a:pt x="21875" y="10310"/>
                  <a:pt x="21828" y="10294"/>
                </a:cubicBezTo>
                <a:cubicBezTo>
                  <a:pt x="21820" y="10294"/>
                  <a:pt x="21811" y="10294"/>
                  <a:pt x="21803" y="10294"/>
                </a:cubicBezTo>
              </a:path>
              <a:path w="3051" h="4341">
                <a:moveTo>
                  <a:pt x="22002" y="9649"/>
                </a:moveTo>
                <a:cubicBezTo>
                  <a:pt x="22002" y="9624"/>
                  <a:pt x="22002" y="9616"/>
                  <a:pt x="22002" y="9599"/>
                </a:cubicBezTo>
                <a:cubicBezTo>
                  <a:pt x="22036" y="9738"/>
                  <a:pt x="22088" y="9880"/>
                  <a:pt x="22126" y="10021"/>
                </a:cubicBezTo>
              </a:path>
              <a:path w="3051" h="4341">
                <a:moveTo>
                  <a:pt x="22275" y="10220"/>
                </a:moveTo>
                <a:cubicBezTo>
                  <a:pt x="22221" y="10220"/>
                  <a:pt x="22172" y="10205"/>
                  <a:pt x="22151" y="10244"/>
                </a:cubicBezTo>
                <a:cubicBezTo>
                  <a:pt x="22131" y="10285"/>
                  <a:pt x="22122" y="10291"/>
                  <a:pt x="22126" y="10319"/>
                </a:cubicBezTo>
                <a:cubicBezTo>
                  <a:pt x="22181" y="10319"/>
                  <a:pt x="22220" y="10340"/>
                  <a:pt x="22275" y="10344"/>
                </a:cubicBezTo>
                <a:cubicBezTo>
                  <a:pt x="22314" y="10344"/>
                  <a:pt x="22333" y="10355"/>
                  <a:pt x="22349" y="10393"/>
                </a:cubicBezTo>
                <a:cubicBezTo>
                  <a:pt x="22291" y="10419"/>
                  <a:pt x="22230" y="10454"/>
                  <a:pt x="22175" y="10468"/>
                </a:cubicBezTo>
              </a:path>
              <a:path w="3051" h="4341">
                <a:moveTo>
                  <a:pt x="21828" y="8458"/>
                </a:moveTo>
                <a:cubicBezTo>
                  <a:pt x="21828" y="8434"/>
                  <a:pt x="21828" y="8426"/>
                  <a:pt x="21803" y="8434"/>
                </a:cubicBezTo>
                <a:cubicBezTo>
                  <a:pt x="21825" y="8522"/>
                  <a:pt x="21866" y="8651"/>
                  <a:pt x="21903" y="8731"/>
                </a:cubicBezTo>
                <a:cubicBezTo>
                  <a:pt x="21911" y="8739"/>
                  <a:pt x="21919" y="8748"/>
                  <a:pt x="21927" y="8756"/>
                </a:cubicBezTo>
              </a:path>
              <a:path w="3051" h="4341">
                <a:moveTo>
                  <a:pt x="22448" y="11038"/>
                </a:moveTo>
                <a:cubicBezTo>
                  <a:pt x="22501" y="11038"/>
                  <a:pt x="22546" y="11022"/>
                  <a:pt x="22597" y="11013"/>
                </a:cubicBezTo>
                <a:cubicBezTo>
                  <a:pt x="22583" y="11099"/>
                  <a:pt x="22531" y="11139"/>
                  <a:pt x="22498" y="11212"/>
                </a:cubicBezTo>
                <a:cubicBezTo>
                  <a:pt x="22498" y="11220"/>
                  <a:pt x="22498" y="11229"/>
                  <a:pt x="22498" y="11237"/>
                </a:cubicBezTo>
                <a:cubicBezTo>
                  <a:pt x="22562" y="11230"/>
                  <a:pt x="22611" y="11192"/>
                  <a:pt x="22647" y="11187"/>
                </a:cubicBezTo>
                <a:cubicBezTo>
                  <a:pt x="22655" y="11187"/>
                  <a:pt x="22663" y="11187"/>
                  <a:pt x="22671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32840" y="3017880"/>
            <a:ext cx="706320" cy="652320"/>
          </a:xfrm>
          <a:custGeom>
            <a:avLst/>
            <a:gdLst/>
            <a:ahLst/>
            <a:rect l="l" t="t" r="r" b="b"/>
            <a:pathLst>
              <a:path w="1960" h="1812">
                <a:moveTo>
                  <a:pt x="23465" y="8905"/>
                </a:moveTo>
                <a:cubicBezTo>
                  <a:pt x="23478" y="9129"/>
                  <a:pt x="23501" y="9352"/>
                  <a:pt x="23515" y="9575"/>
                </a:cubicBezTo>
                <a:cubicBezTo>
                  <a:pt x="23515" y="9649"/>
                  <a:pt x="23515" y="9707"/>
                  <a:pt x="23515" y="9649"/>
                </a:cubicBezTo>
              </a:path>
              <a:path w="1960" h="1812">
                <a:moveTo>
                  <a:pt x="23788" y="8880"/>
                </a:moveTo>
                <a:cubicBezTo>
                  <a:pt x="23788" y="8841"/>
                  <a:pt x="23835" y="9216"/>
                  <a:pt x="23837" y="9252"/>
                </a:cubicBezTo>
                <a:cubicBezTo>
                  <a:pt x="23845" y="9391"/>
                  <a:pt x="23837" y="9534"/>
                  <a:pt x="23837" y="9674"/>
                </a:cubicBezTo>
              </a:path>
              <a:path w="1960" h="1812">
                <a:moveTo>
                  <a:pt x="23961" y="8558"/>
                </a:moveTo>
                <a:cubicBezTo>
                  <a:pt x="24032" y="8558"/>
                  <a:pt x="23989" y="8535"/>
                  <a:pt x="24061" y="8508"/>
                </a:cubicBezTo>
                <a:cubicBezTo>
                  <a:pt x="24069" y="8508"/>
                  <a:pt x="24077" y="8508"/>
                  <a:pt x="24085" y="8508"/>
                </a:cubicBezTo>
                <a:cubicBezTo>
                  <a:pt x="24126" y="8644"/>
                  <a:pt x="24083" y="8732"/>
                  <a:pt x="24011" y="8855"/>
                </a:cubicBezTo>
                <a:cubicBezTo>
                  <a:pt x="24003" y="8863"/>
                  <a:pt x="23994" y="8872"/>
                  <a:pt x="23986" y="8880"/>
                </a:cubicBezTo>
                <a:cubicBezTo>
                  <a:pt x="24070" y="8880"/>
                  <a:pt x="24078" y="8864"/>
                  <a:pt x="24160" y="8830"/>
                </a:cubicBezTo>
                <a:cubicBezTo>
                  <a:pt x="24217" y="8806"/>
                  <a:pt x="24251" y="8806"/>
                  <a:pt x="24309" y="8806"/>
                </a:cubicBezTo>
              </a:path>
              <a:path w="1960" h="1812">
                <a:moveTo>
                  <a:pt x="24036" y="9153"/>
                </a:moveTo>
                <a:cubicBezTo>
                  <a:pt x="24165" y="9110"/>
                  <a:pt x="24286" y="9065"/>
                  <a:pt x="24408" y="9004"/>
                </a:cubicBezTo>
              </a:path>
              <a:path w="1960" h="1812">
                <a:moveTo>
                  <a:pt x="24259" y="9376"/>
                </a:moveTo>
                <a:cubicBezTo>
                  <a:pt x="24328" y="9359"/>
                  <a:pt x="24407" y="9325"/>
                  <a:pt x="24482" y="9302"/>
                </a:cubicBezTo>
                <a:cubicBezTo>
                  <a:pt x="24494" y="9395"/>
                  <a:pt x="24447" y="9420"/>
                  <a:pt x="24358" y="9475"/>
                </a:cubicBezTo>
                <a:cubicBezTo>
                  <a:pt x="24448" y="9460"/>
                  <a:pt x="24508" y="9426"/>
                  <a:pt x="24557" y="9525"/>
                </a:cubicBezTo>
                <a:cubicBezTo>
                  <a:pt x="24631" y="9673"/>
                  <a:pt x="24466" y="9702"/>
                  <a:pt x="24358" y="9723"/>
                </a:cubicBezTo>
                <a:cubicBezTo>
                  <a:pt x="24333" y="9723"/>
                  <a:pt x="24325" y="9723"/>
                  <a:pt x="24309" y="9723"/>
                </a:cubicBezTo>
              </a:path>
              <a:path w="1960" h="1812">
                <a:moveTo>
                  <a:pt x="23465" y="10071"/>
                </a:moveTo>
                <a:cubicBezTo>
                  <a:pt x="23676" y="10105"/>
                  <a:pt x="23921" y="10161"/>
                  <a:pt x="24135" y="10120"/>
                </a:cubicBezTo>
                <a:cubicBezTo>
                  <a:pt x="24312" y="10086"/>
                  <a:pt x="24450" y="9956"/>
                  <a:pt x="24581" y="9847"/>
                </a:cubicBezTo>
                <a:cubicBezTo>
                  <a:pt x="24711" y="9739"/>
                  <a:pt x="24801" y="9625"/>
                  <a:pt x="24829" y="9451"/>
                </a:cubicBezTo>
                <a:cubicBezTo>
                  <a:pt x="24847" y="9336"/>
                  <a:pt x="24832" y="9191"/>
                  <a:pt x="24805" y="9079"/>
                </a:cubicBezTo>
                <a:cubicBezTo>
                  <a:pt x="24778" y="8964"/>
                  <a:pt x="24695" y="8857"/>
                  <a:pt x="24656" y="8756"/>
                </a:cubicBezTo>
                <a:cubicBezTo>
                  <a:pt x="24613" y="8645"/>
                  <a:pt x="24559" y="8568"/>
                  <a:pt x="24433" y="8508"/>
                </a:cubicBezTo>
                <a:cubicBezTo>
                  <a:pt x="24281" y="8435"/>
                  <a:pt x="24103" y="8395"/>
                  <a:pt x="23937" y="8384"/>
                </a:cubicBezTo>
                <a:cubicBezTo>
                  <a:pt x="23732" y="8371"/>
                  <a:pt x="23531" y="8376"/>
                  <a:pt x="23341" y="8458"/>
                </a:cubicBezTo>
                <a:cubicBezTo>
                  <a:pt x="23178" y="8529"/>
                  <a:pt x="22962" y="8658"/>
                  <a:pt x="22895" y="8830"/>
                </a:cubicBezTo>
                <a:cubicBezTo>
                  <a:pt x="22806" y="9058"/>
                  <a:pt x="22882" y="9362"/>
                  <a:pt x="22969" y="9575"/>
                </a:cubicBezTo>
                <a:cubicBezTo>
                  <a:pt x="23074" y="9831"/>
                  <a:pt x="23232" y="10011"/>
                  <a:pt x="23490" y="10120"/>
                </a:cubicBezTo>
                <a:cubicBezTo>
                  <a:pt x="23604" y="10168"/>
                  <a:pt x="23765" y="10180"/>
                  <a:pt x="23887" y="10195"/>
                </a:cubicBezTo>
                <a:cubicBezTo>
                  <a:pt x="23912" y="10195"/>
                  <a:pt x="23920" y="10195"/>
                  <a:pt x="23937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5018040"/>
            <a:ext cx="1330200" cy="1617840"/>
          </a:xfrm>
          <a:custGeom>
            <a:avLst/>
            <a:gdLst/>
            <a:ahLst/>
            <a:rect l="l" t="t" r="r" b="b"/>
            <a:pathLst>
              <a:path w="3697" h="4491">
                <a:moveTo>
                  <a:pt x="20265" y="15007"/>
                </a:moveTo>
                <a:cubicBezTo>
                  <a:pt x="20392" y="14951"/>
                  <a:pt x="20742" y="14795"/>
                  <a:pt x="20662" y="14908"/>
                </a:cubicBezTo>
                <a:cubicBezTo>
                  <a:pt x="20637" y="14924"/>
                  <a:pt x="20613" y="14941"/>
                  <a:pt x="20588" y="14957"/>
                </a:cubicBezTo>
              </a:path>
              <a:path w="3697" h="4491">
                <a:moveTo>
                  <a:pt x="20439" y="15131"/>
                </a:moveTo>
                <a:cubicBezTo>
                  <a:pt x="20530" y="15131"/>
                  <a:pt x="20538" y="15131"/>
                  <a:pt x="20588" y="15131"/>
                </a:cubicBezTo>
              </a:path>
              <a:path w="3697" h="4491">
                <a:moveTo>
                  <a:pt x="21779" y="15156"/>
                </a:moveTo>
                <a:cubicBezTo>
                  <a:pt x="21753" y="15340"/>
                  <a:pt x="21504" y="15764"/>
                  <a:pt x="21679" y="15701"/>
                </a:cubicBezTo>
                <a:cubicBezTo>
                  <a:pt x="21704" y="15676"/>
                  <a:pt x="21729" y="15652"/>
                  <a:pt x="21754" y="15627"/>
                </a:cubicBezTo>
              </a:path>
              <a:path w="3697" h="4491">
                <a:moveTo>
                  <a:pt x="22399" y="14957"/>
                </a:moveTo>
                <a:cubicBezTo>
                  <a:pt x="22274" y="15039"/>
                  <a:pt x="21965" y="15173"/>
                  <a:pt x="22175" y="15280"/>
                </a:cubicBezTo>
                <a:cubicBezTo>
                  <a:pt x="22323" y="15343"/>
                  <a:pt x="22362" y="15348"/>
                  <a:pt x="22423" y="15429"/>
                </a:cubicBezTo>
                <a:cubicBezTo>
                  <a:pt x="22371" y="15535"/>
                  <a:pt x="22347" y="15571"/>
                  <a:pt x="22250" y="15577"/>
                </a:cubicBezTo>
                <a:cubicBezTo>
                  <a:pt x="22212" y="15402"/>
                  <a:pt x="22360" y="15292"/>
                  <a:pt x="22374" y="15106"/>
                </a:cubicBezTo>
                <a:cubicBezTo>
                  <a:pt x="22366" y="15106"/>
                  <a:pt x="22357" y="15106"/>
                  <a:pt x="22349" y="15106"/>
                </a:cubicBezTo>
              </a:path>
              <a:path w="3697" h="4491">
                <a:moveTo>
                  <a:pt x="21258" y="14932"/>
                </a:moveTo>
                <a:cubicBezTo>
                  <a:pt x="21519" y="14904"/>
                  <a:pt x="21787" y="14855"/>
                  <a:pt x="22051" y="14833"/>
                </a:cubicBezTo>
                <a:cubicBezTo>
                  <a:pt x="22334" y="14809"/>
                  <a:pt x="22612" y="14808"/>
                  <a:pt x="22895" y="14808"/>
                </a:cubicBezTo>
              </a:path>
              <a:path w="3697" h="4491">
                <a:moveTo>
                  <a:pt x="21183" y="14238"/>
                </a:moveTo>
                <a:cubicBezTo>
                  <a:pt x="21306" y="14269"/>
                  <a:pt x="21399" y="14220"/>
                  <a:pt x="21530" y="14188"/>
                </a:cubicBezTo>
                <a:cubicBezTo>
                  <a:pt x="21571" y="14180"/>
                  <a:pt x="21613" y="14171"/>
                  <a:pt x="21654" y="14163"/>
                </a:cubicBezTo>
                <a:cubicBezTo>
                  <a:pt x="21595" y="14354"/>
                  <a:pt x="21546" y="14622"/>
                  <a:pt x="21431" y="14759"/>
                </a:cubicBezTo>
              </a:path>
              <a:path w="3697" h="4491">
                <a:moveTo>
                  <a:pt x="21927" y="14089"/>
                </a:moveTo>
                <a:cubicBezTo>
                  <a:pt x="21927" y="14260"/>
                  <a:pt x="21874" y="14422"/>
                  <a:pt x="21828" y="14585"/>
                </a:cubicBezTo>
                <a:cubicBezTo>
                  <a:pt x="21809" y="14643"/>
                  <a:pt x="21782" y="14668"/>
                  <a:pt x="21828" y="14660"/>
                </a:cubicBezTo>
              </a:path>
              <a:path w="3697" h="4491">
                <a:moveTo>
                  <a:pt x="22250" y="14015"/>
                </a:moveTo>
                <a:cubicBezTo>
                  <a:pt x="22360" y="13984"/>
                  <a:pt x="22412" y="13943"/>
                  <a:pt x="22523" y="13965"/>
                </a:cubicBezTo>
                <a:cubicBezTo>
                  <a:pt x="22502" y="14055"/>
                  <a:pt x="22374" y="14237"/>
                  <a:pt x="22374" y="14238"/>
                </a:cubicBezTo>
                <a:cubicBezTo>
                  <a:pt x="22558" y="14192"/>
                  <a:pt x="22718" y="14327"/>
                  <a:pt x="22523" y="14511"/>
                </a:cubicBezTo>
                <a:cubicBezTo>
                  <a:pt x="22402" y="14626"/>
                  <a:pt x="22297" y="14604"/>
                  <a:pt x="22175" y="14560"/>
                </a:cubicBezTo>
              </a:path>
              <a:path w="3697" h="4491">
                <a:moveTo>
                  <a:pt x="20762" y="16768"/>
                </a:moveTo>
                <a:cubicBezTo>
                  <a:pt x="20912" y="16728"/>
                  <a:pt x="21060" y="16694"/>
                  <a:pt x="21208" y="16644"/>
                </a:cubicBezTo>
                <a:cubicBezTo>
                  <a:pt x="21208" y="16871"/>
                  <a:pt x="21171" y="17096"/>
                  <a:pt x="21109" y="17314"/>
                </a:cubicBezTo>
                <a:cubicBezTo>
                  <a:pt x="21092" y="17355"/>
                  <a:pt x="21076" y="17397"/>
                  <a:pt x="21059" y="17438"/>
                </a:cubicBezTo>
              </a:path>
              <a:path w="3697" h="4491">
                <a:moveTo>
                  <a:pt x="21580" y="16619"/>
                </a:moveTo>
                <a:cubicBezTo>
                  <a:pt x="21580" y="16850"/>
                  <a:pt x="21570" y="17062"/>
                  <a:pt x="21530" y="17289"/>
                </a:cubicBezTo>
              </a:path>
              <a:path w="3697" h="4491">
                <a:moveTo>
                  <a:pt x="21952" y="16644"/>
                </a:moveTo>
                <a:cubicBezTo>
                  <a:pt x="22011" y="16597"/>
                  <a:pt x="22160" y="16515"/>
                  <a:pt x="22225" y="16594"/>
                </a:cubicBezTo>
                <a:cubicBezTo>
                  <a:pt x="22305" y="16692"/>
                  <a:pt x="22121" y="16822"/>
                  <a:pt x="22076" y="16867"/>
                </a:cubicBezTo>
                <a:cubicBezTo>
                  <a:pt x="22068" y="16875"/>
                  <a:pt x="22059" y="16884"/>
                  <a:pt x="22051" y="16892"/>
                </a:cubicBezTo>
                <a:cubicBezTo>
                  <a:pt x="22146" y="16873"/>
                  <a:pt x="22264" y="16776"/>
                  <a:pt x="22324" y="16917"/>
                </a:cubicBezTo>
                <a:cubicBezTo>
                  <a:pt x="22395" y="17085"/>
                  <a:pt x="22121" y="17274"/>
                  <a:pt x="21977" y="17239"/>
                </a:cubicBezTo>
                <a:cubicBezTo>
                  <a:pt x="21936" y="17214"/>
                  <a:pt x="21894" y="17190"/>
                  <a:pt x="21853" y="17165"/>
                </a:cubicBezTo>
              </a:path>
              <a:path w="3697" h="4491">
                <a:moveTo>
                  <a:pt x="20563" y="17859"/>
                </a:moveTo>
                <a:cubicBezTo>
                  <a:pt x="20598" y="17619"/>
                  <a:pt x="20624" y="17421"/>
                  <a:pt x="20588" y="17165"/>
                </a:cubicBezTo>
                <a:cubicBezTo>
                  <a:pt x="20560" y="16969"/>
                  <a:pt x="20524" y="16922"/>
                  <a:pt x="20464" y="16768"/>
                </a:cubicBezTo>
                <a:cubicBezTo>
                  <a:pt x="20566" y="16739"/>
                  <a:pt x="20694" y="16708"/>
                  <a:pt x="20811" y="16694"/>
                </a:cubicBezTo>
                <a:cubicBezTo>
                  <a:pt x="21289" y="16635"/>
                  <a:pt x="21751" y="16520"/>
                  <a:pt x="22225" y="16446"/>
                </a:cubicBezTo>
                <a:cubicBezTo>
                  <a:pt x="22578" y="16391"/>
                  <a:pt x="22940" y="16377"/>
                  <a:pt x="23292" y="16321"/>
                </a:cubicBezTo>
                <a:cubicBezTo>
                  <a:pt x="23259" y="16321"/>
                  <a:pt x="23242" y="16321"/>
                  <a:pt x="23217" y="16321"/>
                </a:cubicBezTo>
              </a:path>
              <a:path w="3697" h="4491">
                <a:moveTo>
                  <a:pt x="19720" y="16966"/>
                </a:moveTo>
                <a:cubicBezTo>
                  <a:pt x="19675" y="17193"/>
                  <a:pt x="19542" y="17555"/>
                  <a:pt x="19596" y="17785"/>
                </a:cubicBezTo>
                <a:cubicBezTo>
                  <a:pt x="19604" y="17768"/>
                  <a:pt x="19613" y="17752"/>
                  <a:pt x="19621" y="17735"/>
                </a:cubicBezTo>
              </a:path>
              <a:path w="3697" h="4491">
                <a:moveTo>
                  <a:pt x="20042" y="16917"/>
                </a:moveTo>
                <a:cubicBezTo>
                  <a:pt x="19838" y="17205"/>
                  <a:pt x="19852" y="17127"/>
                  <a:pt x="20092" y="17314"/>
                </a:cubicBezTo>
                <a:cubicBezTo>
                  <a:pt x="20181" y="17403"/>
                  <a:pt x="20214" y="17423"/>
                  <a:pt x="20191" y="17512"/>
                </a:cubicBezTo>
                <a:cubicBezTo>
                  <a:pt x="20104" y="17578"/>
                  <a:pt x="20085" y="17608"/>
                  <a:pt x="20017" y="17562"/>
                </a:cubicBezTo>
                <a:cubicBezTo>
                  <a:pt x="20018" y="17349"/>
                  <a:pt x="20071" y="17121"/>
                  <a:pt x="20166" y="16917"/>
                </a:cubicBezTo>
                <a:cubicBezTo>
                  <a:pt x="20166" y="16925"/>
                  <a:pt x="20166" y="16934"/>
                  <a:pt x="20166" y="16942"/>
                </a:cubicBezTo>
              </a:path>
              <a:path w="3697" h="4491">
                <a:moveTo>
                  <a:pt x="20886" y="16892"/>
                </a:moveTo>
                <a:cubicBezTo>
                  <a:pt x="20886" y="16912"/>
                  <a:pt x="20886" y="17029"/>
                  <a:pt x="20886" y="16966"/>
                </a:cubicBezTo>
                <a:cubicBezTo>
                  <a:pt x="20914" y="16917"/>
                  <a:pt x="20912" y="16826"/>
                  <a:pt x="20960" y="16793"/>
                </a:cubicBezTo>
                <a:cubicBezTo>
                  <a:pt x="21023" y="16750"/>
                  <a:pt x="21110" y="16755"/>
                  <a:pt x="21183" y="16718"/>
                </a:cubicBezTo>
                <a:cubicBezTo>
                  <a:pt x="21166" y="16868"/>
                  <a:pt x="21134" y="17016"/>
                  <a:pt x="21109" y="17165"/>
                </a:cubicBezTo>
                <a:cubicBezTo>
                  <a:pt x="21109" y="17173"/>
                  <a:pt x="21109" y="17182"/>
                  <a:pt x="21109" y="17190"/>
                </a:cubicBezTo>
              </a:path>
              <a:path w="3697" h="4491">
                <a:moveTo>
                  <a:pt x="21357" y="16073"/>
                </a:moveTo>
                <a:cubicBezTo>
                  <a:pt x="21454" y="16073"/>
                  <a:pt x="21463" y="16090"/>
                  <a:pt x="21506" y="16123"/>
                </a:cubicBezTo>
                <a:cubicBezTo>
                  <a:pt x="21575" y="16176"/>
                  <a:pt x="21448" y="16234"/>
                  <a:pt x="21406" y="16272"/>
                </a:cubicBezTo>
                <a:cubicBezTo>
                  <a:pt x="21398" y="16280"/>
                  <a:pt x="21390" y="16289"/>
                  <a:pt x="21382" y="16297"/>
                </a:cubicBezTo>
                <a:cubicBezTo>
                  <a:pt x="21465" y="16222"/>
                  <a:pt x="21605" y="16117"/>
                  <a:pt x="21555" y="16346"/>
                </a:cubicBezTo>
                <a:cubicBezTo>
                  <a:pt x="21539" y="16417"/>
                  <a:pt x="21381" y="16500"/>
                  <a:pt x="21382" y="16495"/>
                </a:cubicBezTo>
                <a:cubicBezTo>
                  <a:pt x="21390" y="16487"/>
                  <a:pt x="21398" y="16478"/>
                  <a:pt x="21406" y="16470"/>
                </a:cubicBezTo>
              </a:path>
              <a:path w="3697" h="4491">
                <a:moveTo>
                  <a:pt x="21158" y="17636"/>
                </a:moveTo>
                <a:cubicBezTo>
                  <a:pt x="21124" y="17613"/>
                  <a:pt x="20949" y="17651"/>
                  <a:pt x="20910" y="17735"/>
                </a:cubicBezTo>
                <a:cubicBezTo>
                  <a:pt x="20910" y="17736"/>
                  <a:pt x="20914" y="17868"/>
                  <a:pt x="20910" y="17909"/>
                </a:cubicBezTo>
                <a:cubicBezTo>
                  <a:pt x="20982" y="17909"/>
                  <a:pt x="21043" y="17863"/>
                  <a:pt x="21109" y="17909"/>
                </a:cubicBezTo>
                <a:cubicBezTo>
                  <a:pt x="21180" y="17959"/>
                  <a:pt x="21015" y="18126"/>
                  <a:pt x="20935" y="18083"/>
                </a:cubicBezTo>
                <a:cubicBezTo>
                  <a:pt x="20902" y="18017"/>
                  <a:pt x="20902" y="17984"/>
                  <a:pt x="20960" y="17934"/>
                </a:cubicBezTo>
              </a:path>
              <a:path w="3697" h="4491">
                <a:moveTo>
                  <a:pt x="21233" y="17611"/>
                </a:moveTo>
                <a:cubicBezTo>
                  <a:pt x="21245" y="17661"/>
                  <a:pt x="21278" y="17752"/>
                  <a:pt x="21357" y="17711"/>
                </a:cubicBezTo>
                <a:cubicBezTo>
                  <a:pt x="21412" y="17682"/>
                  <a:pt x="21540" y="17515"/>
                  <a:pt x="21456" y="17487"/>
                </a:cubicBezTo>
                <a:cubicBezTo>
                  <a:pt x="21456" y="17619"/>
                  <a:pt x="21491" y="17776"/>
                  <a:pt x="21406" y="17859"/>
                </a:cubicBezTo>
              </a:path>
              <a:path w="3697" h="4491">
                <a:moveTo>
                  <a:pt x="20389" y="18430"/>
                </a:moveTo>
                <a:cubicBezTo>
                  <a:pt x="20747" y="18279"/>
                  <a:pt x="21108" y="18123"/>
                  <a:pt x="21481" y="18008"/>
                </a:cubicBezTo>
                <a:cubicBezTo>
                  <a:pt x="21621" y="17965"/>
                  <a:pt x="21822" y="17897"/>
                  <a:pt x="21952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12080" y="3795840"/>
            <a:ext cx="258840" cy="41904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22250" y="11708"/>
                </a:moveTo>
                <a:cubicBezTo>
                  <a:pt x="22372" y="11679"/>
                  <a:pt x="22513" y="11631"/>
                  <a:pt x="22622" y="11658"/>
                </a:cubicBezTo>
              </a:path>
              <a:path w="720" h="1167">
                <a:moveTo>
                  <a:pt x="22275" y="10542"/>
                </a:moveTo>
                <a:cubicBezTo>
                  <a:pt x="22353" y="10542"/>
                  <a:pt x="22396" y="10555"/>
                  <a:pt x="22349" y="10641"/>
                </a:cubicBezTo>
                <a:cubicBezTo>
                  <a:pt x="22326" y="10664"/>
                  <a:pt x="22322" y="10672"/>
                  <a:pt x="22299" y="10666"/>
                </a:cubicBezTo>
                <a:cubicBezTo>
                  <a:pt x="22325" y="10683"/>
                  <a:pt x="22395" y="10630"/>
                  <a:pt x="22423" y="10691"/>
                </a:cubicBezTo>
                <a:cubicBezTo>
                  <a:pt x="22458" y="10766"/>
                  <a:pt x="22369" y="10802"/>
                  <a:pt x="22324" y="10815"/>
                </a:cubicBezTo>
                <a:cubicBezTo>
                  <a:pt x="22268" y="10832"/>
                  <a:pt x="22338" y="10798"/>
                  <a:pt x="22349" y="10790"/>
                </a:cubicBezTo>
              </a:path>
              <a:path w="720" h="1167">
                <a:moveTo>
                  <a:pt x="21977" y="10964"/>
                </a:moveTo>
                <a:cubicBezTo>
                  <a:pt x="22157" y="10912"/>
                  <a:pt x="22340" y="10880"/>
                  <a:pt x="22523" y="10840"/>
                </a:cubicBezTo>
                <a:cubicBezTo>
                  <a:pt x="22608" y="10822"/>
                  <a:pt x="22624" y="10800"/>
                  <a:pt x="22696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86760" y="3803760"/>
            <a:ext cx="857160" cy="2706480"/>
          </a:xfrm>
          <a:custGeom>
            <a:avLst/>
            <a:gdLst/>
            <a:ahLst/>
            <a:rect l="l" t="t" r="r" b="b"/>
            <a:pathLst>
              <a:path w="2382" h="7517">
                <a:moveTo>
                  <a:pt x="22275" y="11906"/>
                </a:moveTo>
                <a:cubicBezTo>
                  <a:pt x="22395" y="11899"/>
                  <a:pt x="22504" y="11883"/>
                  <a:pt x="22622" y="11857"/>
                </a:cubicBezTo>
              </a:path>
              <a:path w="2382" h="7517">
                <a:moveTo>
                  <a:pt x="22622" y="11857"/>
                </a:moveTo>
                <a:lnTo>
                  <a:pt x="22622" y="11857"/>
                </a:lnTo>
              </a:path>
              <a:path w="2382" h="7517">
                <a:moveTo>
                  <a:pt x="22250" y="10567"/>
                </a:moveTo>
                <a:cubicBezTo>
                  <a:pt x="22242" y="10567"/>
                  <a:pt x="22233" y="10567"/>
                  <a:pt x="22225" y="10567"/>
                </a:cubicBezTo>
              </a:path>
              <a:path w="2382" h="7517">
                <a:moveTo>
                  <a:pt x="22250" y="10567"/>
                </a:moveTo>
                <a:lnTo>
                  <a:pt x="22250" y="10567"/>
                </a:lnTo>
              </a:path>
              <a:path w="2382" h="7517">
                <a:moveTo>
                  <a:pt x="21927" y="10740"/>
                </a:moveTo>
                <a:cubicBezTo>
                  <a:pt x="21973" y="10731"/>
                  <a:pt x="22008" y="10713"/>
                  <a:pt x="22051" y="10691"/>
                </a:cubicBezTo>
              </a:path>
              <a:path w="2382" h="7517">
                <a:moveTo>
                  <a:pt x="21010" y="16917"/>
                </a:moveTo>
                <a:cubicBezTo>
                  <a:pt x="20980" y="16910"/>
                  <a:pt x="20965" y="16899"/>
                  <a:pt x="20935" y="16892"/>
                </a:cubicBezTo>
              </a:path>
              <a:path w="2382" h="7517">
                <a:moveTo>
                  <a:pt x="20241" y="18083"/>
                </a:moveTo>
                <a:cubicBezTo>
                  <a:pt x="20351" y="18051"/>
                  <a:pt x="20460" y="18010"/>
                  <a:pt x="20563" y="179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911920"/>
            <a:ext cx="357480" cy="517320"/>
          </a:xfrm>
          <a:custGeom>
            <a:avLst/>
            <a:gdLst/>
            <a:ahLst/>
            <a:rect l="l" t="t" r="r" b="b"/>
            <a:pathLst>
              <a:path w="993" h="1439">
                <a:moveTo>
                  <a:pt x="3894" y="16545"/>
                </a:moveTo>
                <a:cubicBezTo>
                  <a:pt x="3937" y="16524"/>
                  <a:pt x="3993" y="16455"/>
                  <a:pt x="4068" y="16495"/>
                </a:cubicBezTo>
                <a:cubicBezTo>
                  <a:pt x="4085" y="16512"/>
                  <a:pt x="4101" y="16528"/>
                  <a:pt x="4118" y="16545"/>
                </a:cubicBezTo>
                <a:cubicBezTo>
                  <a:pt x="4073" y="16733"/>
                  <a:pt x="3993" y="16830"/>
                  <a:pt x="3820" y="16917"/>
                </a:cubicBezTo>
                <a:cubicBezTo>
                  <a:pt x="3781" y="16858"/>
                  <a:pt x="3739" y="16683"/>
                  <a:pt x="3894" y="16694"/>
                </a:cubicBezTo>
                <a:cubicBezTo>
                  <a:pt x="4012" y="16703"/>
                  <a:pt x="4042" y="16863"/>
                  <a:pt x="4068" y="16942"/>
                </a:cubicBezTo>
                <a:cubicBezTo>
                  <a:pt x="4068" y="16934"/>
                  <a:pt x="4068" y="16925"/>
                  <a:pt x="4068" y="16917"/>
                </a:cubicBezTo>
              </a:path>
              <a:path w="993" h="1439">
                <a:moveTo>
                  <a:pt x="4316" y="16520"/>
                </a:moveTo>
                <a:cubicBezTo>
                  <a:pt x="4358" y="16464"/>
                  <a:pt x="4500" y="16324"/>
                  <a:pt x="4539" y="16470"/>
                </a:cubicBezTo>
                <a:cubicBezTo>
                  <a:pt x="4569" y="16582"/>
                  <a:pt x="4515" y="16597"/>
                  <a:pt x="4440" y="16644"/>
                </a:cubicBezTo>
                <a:cubicBezTo>
                  <a:pt x="4432" y="16644"/>
                  <a:pt x="4423" y="16644"/>
                  <a:pt x="4415" y="16644"/>
                </a:cubicBezTo>
                <a:cubicBezTo>
                  <a:pt x="4495" y="16575"/>
                  <a:pt x="4615" y="16579"/>
                  <a:pt x="4564" y="16743"/>
                </a:cubicBezTo>
                <a:cubicBezTo>
                  <a:pt x="4551" y="16785"/>
                  <a:pt x="4410" y="16924"/>
                  <a:pt x="4366" y="16867"/>
                </a:cubicBezTo>
                <a:cubicBezTo>
                  <a:pt x="4366" y="16859"/>
                  <a:pt x="4366" y="16850"/>
                  <a:pt x="4366" y="16842"/>
                </a:cubicBezTo>
              </a:path>
              <a:path w="993" h="1439">
                <a:moveTo>
                  <a:pt x="3597" y="17190"/>
                </a:moveTo>
                <a:cubicBezTo>
                  <a:pt x="3716" y="17190"/>
                  <a:pt x="3824" y="17147"/>
                  <a:pt x="3944" y="17140"/>
                </a:cubicBezTo>
                <a:cubicBezTo>
                  <a:pt x="4141" y="17128"/>
                  <a:pt x="4321" y="17131"/>
                  <a:pt x="4514" y="17140"/>
                </a:cubicBezTo>
                <a:cubicBezTo>
                  <a:pt x="4525" y="17141"/>
                  <a:pt x="4631" y="17140"/>
                  <a:pt x="4564" y="17140"/>
                </a:cubicBezTo>
              </a:path>
              <a:path w="993" h="1439">
                <a:moveTo>
                  <a:pt x="4118" y="17363"/>
                </a:moveTo>
                <a:cubicBezTo>
                  <a:pt x="4097" y="17445"/>
                  <a:pt x="4039" y="17532"/>
                  <a:pt x="3994" y="17611"/>
                </a:cubicBezTo>
                <a:cubicBezTo>
                  <a:pt x="4113" y="17621"/>
                  <a:pt x="4243" y="17582"/>
                  <a:pt x="4366" y="17537"/>
                </a:cubicBezTo>
              </a:path>
              <a:path w="993" h="1439">
                <a:moveTo>
                  <a:pt x="4390" y="17264"/>
                </a:moveTo>
                <a:cubicBezTo>
                  <a:pt x="4351" y="17454"/>
                  <a:pt x="4323" y="17641"/>
                  <a:pt x="4316" y="17835"/>
                </a:cubicBezTo>
                <a:cubicBezTo>
                  <a:pt x="4316" y="17843"/>
                  <a:pt x="4316" y="17851"/>
                  <a:pt x="4316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3200" y="5143680"/>
            <a:ext cx="7599600" cy="1143000"/>
          </a:xfrm>
          <a:custGeom>
            <a:avLst/>
            <a:gdLst/>
            <a:ahLst/>
            <a:rect l="l" t="t" r="r" b="b"/>
            <a:pathLst>
              <a:path w="21110" h="3175">
                <a:moveTo>
                  <a:pt x="3646" y="17165"/>
                </a:moveTo>
                <a:cubicBezTo>
                  <a:pt x="3621" y="17165"/>
                  <a:pt x="3613" y="17165"/>
                  <a:pt x="3621" y="17190"/>
                </a:cubicBezTo>
              </a:path>
              <a:path w="21110" h="3175">
                <a:moveTo>
                  <a:pt x="3621" y="17165"/>
                </a:moveTo>
                <a:lnTo>
                  <a:pt x="3621" y="17165"/>
                </a:lnTo>
              </a:path>
              <a:path w="21110" h="3175">
                <a:moveTo>
                  <a:pt x="5011" y="17041"/>
                </a:moveTo>
                <a:cubicBezTo>
                  <a:pt x="5034" y="17113"/>
                  <a:pt x="5107" y="17276"/>
                  <a:pt x="5159" y="17363"/>
                </a:cubicBezTo>
                <a:cubicBezTo>
                  <a:pt x="5184" y="17396"/>
                  <a:pt x="5209" y="17429"/>
                  <a:pt x="5234" y="17462"/>
                </a:cubicBezTo>
              </a:path>
              <a:path w="21110" h="3175">
                <a:moveTo>
                  <a:pt x="6995" y="17190"/>
                </a:moveTo>
                <a:cubicBezTo>
                  <a:pt x="7062" y="17203"/>
                  <a:pt x="7136" y="17214"/>
                  <a:pt x="7193" y="17239"/>
                </a:cubicBezTo>
              </a:path>
              <a:path w="21110" h="3175">
                <a:moveTo>
                  <a:pt x="6921" y="17438"/>
                </a:moveTo>
                <a:cubicBezTo>
                  <a:pt x="7004" y="17432"/>
                  <a:pt x="7086" y="17421"/>
                  <a:pt x="7169" y="17413"/>
                </a:cubicBezTo>
              </a:path>
              <a:path w="21110" h="3175">
                <a:moveTo>
                  <a:pt x="8582" y="16446"/>
                </a:moveTo>
                <a:cubicBezTo>
                  <a:pt x="8548" y="16609"/>
                  <a:pt x="8517" y="16753"/>
                  <a:pt x="8508" y="16917"/>
                </a:cubicBezTo>
              </a:path>
              <a:path w="21110" h="3175">
                <a:moveTo>
                  <a:pt x="16842" y="15751"/>
                </a:moveTo>
                <a:lnTo>
                  <a:pt x="16842" y="15751"/>
                </a:lnTo>
              </a:path>
              <a:path w="21110" h="3175">
                <a:moveTo>
                  <a:pt x="17686" y="15081"/>
                </a:moveTo>
                <a:cubicBezTo>
                  <a:pt x="17761" y="15212"/>
                  <a:pt x="17755" y="15261"/>
                  <a:pt x="17884" y="15304"/>
                </a:cubicBezTo>
              </a:path>
              <a:path w="21110" h="3175">
                <a:moveTo>
                  <a:pt x="18430" y="15131"/>
                </a:moveTo>
                <a:cubicBezTo>
                  <a:pt x="18688" y="15106"/>
                  <a:pt x="18940" y="15088"/>
                  <a:pt x="19199" y="15081"/>
                </a:cubicBezTo>
              </a:path>
              <a:path w="21110" h="3175">
                <a:moveTo>
                  <a:pt x="17140" y="15528"/>
                </a:moveTo>
                <a:cubicBezTo>
                  <a:pt x="17140" y="15553"/>
                  <a:pt x="17140" y="15577"/>
                  <a:pt x="17140" y="15602"/>
                </a:cubicBezTo>
              </a:path>
              <a:path w="21110" h="3175">
                <a:moveTo>
                  <a:pt x="17090" y="15900"/>
                </a:moveTo>
                <a:lnTo>
                  <a:pt x="17090" y="15900"/>
                </a:lnTo>
                <a:lnTo>
                  <a:pt x="17090" y="15900"/>
                </a:lnTo>
              </a:path>
              <a:path w="21110" h="3175">
                <a:moveTo>
                  <a:pt x="17090" y="15900"/>
                </a:moveTo>
                <a:lnTo>
                  <a:pt x="17090" y="15900"/>
                </a:lnTo>
              </a:path>
              <a:path w="21110" h="3175">
                <a:moveTo>
                  <a:pt x="19273" y="14486"/>
                </a:moveTo>
                <a:cubicBezTo>
                  <a:pt x="19357" y="14462"/>
                  <a:pt x="19440" y="14441"/>
                  <a:pt x="19521" y="14412"/>
                </a:cubicBezTo>
              </a:path>
              <a:path w="21110" h="3175">
                <a:moveTo>
                  <a:pt x="19521" y="14660"/>
                </a:moveTo>
                <a:cubicBezTo>
                  <a:pt x="19529" y="14643"/>
                  <a:pt x="19538" y="14627"/>
                  <a:pt x="19546" y="14610"/>
                </a:cubicBezTo>
              </a:path>
              <a:path w="21110" h="3175">
                <a:moveTo>
                  <a:pt x="19348" y="14312"/>
                </a:moveTo>
                <a:lnTo>
                  <a:pt x="19348" y="14312"/>
                </a:lnTo>
              </a:path>
              <a:path w="21110" h="3175">
                <a:moveTo>
                  <a:pt x="18281" y="14883"/>
                </a:moveTo>
                <a:lnTo>
                  <a:pt x="18281" y="14883"/>
                </a:lnTo>
              </a:path>
              <a:path w="21110" h="3175">
                <a:moveTo>
                  <a:pt x="24681" y="14288"/>
                </a:moveTo>
                <a:cubicBezTo>
                  <a:pt x="24693" y="14454"/>
                  <a:pt x="24716" y="14619"/>
                  <a:pt x="24730" y="14784"/>
                </a:cubicBezTo>
                <a:cubicBezTo>
                  <a:pt x="24730" y="14809"/>
                  <a:pt x="24730" y="14833"/>
                  <a:pt x="2473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8320" y="5956200"/>
            <a:ext cx="527040" cy="490680"/>
          </a:xfrm>
          <a:custGeom>
            <a:avLst/>
            <a:gdLst/>
            <a:ahLst/>
            <a:rect l="l" t="t" r="r" b="b"/>
            <a:pathLst>
              <a:path w="1465" h="1365">
                <a:moveTo>
                  <a:pt x="5234" y="17066"/>
                </a:moveTo>
                <a:cubicBezTo>
                  <a:pt x="5112" y="17212"/>
                  <a:pt x="4996" y="17342"/>
                  <a:pt x="4911" y="17512"/>
                </a:cubicBezTo>
              </a:path>
              <a:path w="1465" h="1365">
                <a:moveTo>
                  <a:pt x="5655" y="16570"/>
                </a:moveTo>
                <a:cubicBezTo>
                  <a:pt x="5638" y="16639"/>
                  <a:pt x="5601" y="16717"/>
                  <a:pt x="5581" y="16793"/>
                </a:cubicBezTo>
                <a:cubicBezTo>
                  <a:pt x="5560" y="16875"/>
                  <a:pt x="5552" y="16891"/>
                  <a:pt x="5556" y="16942"/>
                </a:cubicBezTo>
                <a:cubicBezTo>
                  <a:pt x="5652" y="16942"/>
                  <a:pt x="5652" y="16909"/>
                  <a:pt x="5730" y="16867"/>
                </a:cubicBezTo>
                <a:cubicBezTo>
                  <a:pt x="5763" y="16867"/>
                  <a:pt x="5771" y="16859"/>
                  <a:pt x="5755" y="16818"/>
                </a:cubicBezTo>
                <a:cubicBezTo>
                  <a:pt x="5694" y="16833"/>
                  <a:pt x="5648" y="16902"/>
                  <a:pt x="5631" y="16966"/>
                </a:cubicBezTo>
                <a:cubicBezTo>
                  <a:pt x="5631" y="16983"/>
                  <a:pt x="5631" y="16999"/>
                  <a:pt x="5631" y="17016"/>
                </a:cubicBezTo>
              </a:path>
              <a:path w="1465" h="1365">
                <a:moveTo>
                  <a:pt x="5953" y="16594"/>
                </a:moveTo>
                <a:cubicBezTo>
                  <a:pt x="5981" y="16540"/>
                  <a:pt x="6014" y="16545"/>
                  <a:pt x="6077" y="16545"/>
                </a:cubicBezTo>
                <a:cubicBezTo>
                  <a:pt x="6063" y="16671"/>
                  <a:pt x="6015" y="16726"/>
                  <a:pt x="5928" y="16818"/>
                </a:cubicBezTo>
                <a:cubicBezTo>
                  <a:pt x="5920" y="16826"/>
                  <a:pt x="5912" y="16834"/>
                  <a:pt x="5904" y="16842"/>
                </a:cubicBezTo>
                <a:cubicBezTo>
                  <a:pt x="5983" y="16842"/>
                  <a:pt x="6049" y="16827"/>
                  <a:pt x="6127" y="16818"/>
                </a:cubicBezTo>
                <a:cubicBezTo>
                  <a:pt x="6168" y="16818"/>
                  <a:pt x="6176" y="16818"/>
                  <a:pt x="6201" y="16818"/>
                </a:cubicBezTo>
              </a:path>
              <a:path w="1465" h="1365">
                <a:moveTo>
                  <a:pt x="5482" y="17190"/>
                </a:moveTo>
                <a:cubicBezTo>
                  <a:pt x="5474" y="17198"/>
                  <a:pt x="5465" y="17206"/>
                  <a:pt x="5457" y="17214"/>
                </a:cubicBezTo>
                <a:cubicBezTo>
                  <a:pt x="5586" y="17214"/>
                  <a:pt x="5726" y="17227"/>
                  <a:pt x="5854" y="17239"/>
                </a:cubicBezTo>
                <a:cubicBezTo>
                  <a:pt x="6014" y="17255"/>
                  <a:pt x="6164" y="17264"/>
                  <a:pt x="6325" y="17264"/>
                </a:cubicBezTo>
                <a:cubicBezTo>
                  <a:pt x="6350" y="17264"/>
                  <a:pt x="6358" y="17264"/>
                  <a:pt x="6375" y="17264"/>
                </a:cubicBezTo>
              </a:path>
              <a:path w="1465" h="1365">
                <a:moveTo>
                  <a:pt x="5904" y="17512"/>
                </a:moveTo>
                <a:cubicBezTo>
                  <a:pt x="5904" y="17461"/>
                  <a:pt x="5910" y="17392"/>
                  <a:pt x="5854" y="17363"/>
                </a:cubicBezTo>
                <a:cubicBezTo>
                  <a:pt x="5753" y="17310"/>
                  <a:pt x="5638" y="17381"/>
                  <a:pt x="5606" y="17487"/>
                </a:cubicBezTo>
                <a:cubicBezTo>
                  <a:pt x="5606" y="17512"/>
                  <a:pt x="5606" y="17537"/>
                  <a:pt x="5606" y="17562"/>
                </a:cubicBezTo>
                <a:cubicBezTo>
                  <a:pt x="5722" y="17551"/>
                  <a:pt x="5743" y="17524"/>
                  <a:pt x="5829" y="17438"/>
                </a:cubicBezTo>
                <a:cubicBezTo>
                  <a:pt x="5837" y="17430"/>
                  <a:pt x="5846" y="17421"/>
                  <a:pt x="5854" y="17413"/>
                </a:cubicBezTo>
                <a:cubicBezTo>
                  <a:pt x="5854" y="17549"/>
                  <a:pt x="5855" y="17703"/>
                  <a:pt x="5829" y="17835"/>
                </a:cubicBezTo>
                <a:cubicBezTo>
                  <a:pt x="5822" y="17869"/>
                  <a:pt x="5804" y="17919"/>
                  <a:pt x="5804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30680" y="5867280"/>
            <a:ext cx="706320" cy="554040"/>
          </a:xfrm>
          <a:custGeom>
            <a:avLst/>
            <a:gdLst/>
            <a:ahLst/>
            <a:rect l="l" t="t" r="r" b="b"/>
            <a:pathLst>
              <a:path w="1961" h="1539">
                <a:moveTo>
                  <a:pt x="8285" y="17438"/>
                </a:moveTo>
                <a:cubicBezTo>
                  <a:pt x="8237" y="17342"/>
                  <a:pt x="8429" y="17303"/>
                  <a:pt x="8508" y="17289"/>
                </a:cubicBezTo>
                <a:cubicBezTo>
                  <a:pt x="8687" y="17257"/>
                  <a:pt x="8518" y="17445"/>
                  <a:pt x="8483" y="17487"/>
                </a:cubicBezTo>
                <a:cubicBezTo>
                  <a:pt x="8475" y="17495"/>
                  <a:pt x="8466" y="17504"/>
                  <a:pt x="8458" y="17512"/>
                </a:cubicBezTo>
                <a:cubicBezTo>
                  <a:pt x="8602" y="17512"/>
                  <a:pt x="8763" y="17530"/>
                  <a:pt x="8582" y="17711"/>
                </a:cubicBezTo>
                <a:cubicBezTo>
                  <a:pt x="8496" y="17797"/>
                  <a:pt x="8198" y="17972"/>
                  <a:pt x="8334" y="17735"/>
                </a:cubicBezTo>
              </a:path>
              <a:path w="1961" h="1539">
                <a:moveTo>
                  <a:pt x="8930" y="17314"/>
                </a:moveTo>
                <a:cubicBezTo>
                  <a:pt x="8930" y="17450"/>
                  <a:pt x="8882" y="17561"/>
                  <a:pt x="8830" y="17686"/>
                </a:cubicBezTo>
                <a:cubicBezTo>
                  <a:pt x="8822" y="17702"/>
                  <a:pt x="8814" y="17719"/>
                  <a:pt x="8806" y="17735"/>
                </a:cubicBezTo>
                <a:cubicBezTo>
                  <a:pt x="8963" y="17830"/>
                  <a:pt x="9009" y="17759"/>
                  <a:pt x="9128" y="17636"/>
                </a:cubicBezTo>
                <a:cubicBezTo>
                  <a:pt x="9170" y="17595"/>
                  <a:pt x="9195" y="17587"/>
                  <a:pt x="9153" y="17562"/>
                </a:cubicBezTo>
                <a:cubicBezTo>
                  <a:pt x="9081" y="17610"/>
                  <a:pt x="8977" y="17676"/>
                  <a:pt x="8954" y="17760"/>
                </a:cubicBezTo>
                <a:cubicBezTo>
                  <a:pt x="8954" y="17768"/>
                  <a:pt x="8954" y="17777"/>
                  <a:pt x="8954" y="17785"/>
                </a:cubicBezTo>
              </a:path>
              <a:path w="1961" h="1539">
                <a:moveTo>
                  <a:pt x="7938" y="17115"/>
                </a:moveTo>
                <a:cubicBezTo>
                  <a:pt x="8054" y="17115"/>
                  <a:pt x="8119" y="17115"/>
                  <a:pt x="8235" y="17115"/>
                </a:cubicBezTo>
                <a:cubicBezTo>
                  <a:pt x="8601" y="17115"/>
                  <a:pt x="8963" y="17128"/>
                  <a:pt x="9327" y="17140"/>
                </a:cubicBezTo>
                <a:cubicBezTo>
                  <a:pt x="9492" y="17146"/>
                  <a:pt x="9658" y="17140"/>
                  <a:pt x="9823" y="17140"/>
                </a:cubicBezTo>
              </a:path>
              <a:path w="1961" h="1539">
                <a:moveTo>
                  <a:pt x="7938" y="16421"/>
                </a:moveTo>
                <a:cubicBezTo>
                  <a:pt x="7938" y="16600"/>
                  <a:pt x="7863" y="16777"/>
                  <a:pt x="7863" y="16942"/>
                </a:cubicBezTo>
                <a:cubicBezTo>
                  <a:pt x="7871" y="16925"/>
                  <a:pt x="7880" y="16909"/>
                  <a:pt x="7888" y="16892"/>
                </a:cubicBezTo>
              </a:path>
              <a:path w="1961" h="1539">
                <a:moveTo>
                  <a:pt x="8285" y="16446"/>
                </a:moveTo>
                <a:cubicBezTo>
                  <a:pt x="8273" y="16568"/>
                  <a:pt x="8278" y="16612"/>
                  <a:pt x="8210" y="16718"/>
                </a:cubicBezTo>
                <a:cubicBezTo>
                  <a:pt x="8334" y="16705"/>
                  <a:pt x="8458" y="16680"/>
                  <a:pt x="8582" y="16669"/>
                </a:cubicBezTo>
              </a:path>
              <a:path w="1961" h="1539">
                <a:moveTo>
                  <a:pt x="8806" y="16421"/>
                </a:moveTo>
                <a:cubicBezTo>
                  <a:pt x="9007" y="16420"/>
                  <a:pt x="9121" y="16530"/>
                  <a:pt x="8979" y="16743"/>
                </a:cubicBezTo>
                <a:cubicBezTo>
                  <a:pt x="8879" y="16893"/>
                  <a:pt x="8825" y="16902"/>
                  <a:pt x="8706" y="16842"/>
                </a:cubicBezTo>
                <a:cubicBezTo>
                  <a:pt x="8774" y="16765"/>
                  <a:pt x="8878" y="16679"/>
                  <a:pt x="8979" y="16793"/>
                </a:cubicBezTo>
                <a:cubicBezTo>
                  <a:pt x="8979" y="16801"/>
                  <a:pt x="8979" y="16810"/>
                  <a:pt x="8979" y="16818"/>
                </a:cubicBezTo>
              </a:path>
              <a:path w="1961" h="1539">
                <a:moveTo>
                  <a:pt x="9327" y="16297"/>
                </a:moveTo>
                <a:cubicBezTo>
                  <a:pt x="9314" y="16452"/>
                  <a:pt x="9262" y="16611"/>
                  <a:pt x="9277" y="16768"/>
                </a:cubicBezTo>
                <a:cubicBezTo>
                  <a:pt x="9297" y="16966"/>
                  <a:pt x="9457" y="16937"/>
                  <a:pt x="9575" y="16842"/>
                </a:cubicBezTo>
                <a:cubicBezTo>
                  <a:pt x="9682" y="16756"/>
                  <a:pt x="9687" y="16716"/>
                  <a:pt x="9699" y="16594"/>
                </a:cubicBezTo>
                <a:cubicBezTo>
                  <a:pt x="9548" y="16632"/>
                  <a:pt x="9487" y="16729"/>
                  <a:pt x="9451" y="16892"/>
                </a:cubicBezTo>
                <a:cubicBezTo>
                  <a:pt x="9451" y="16909"/>
                  <a:pt x="9451" y="16925"/>
                  <a:pt x="9451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0760" y="5724360"/>
            <a:ext cx="1403280" cy="366840"/>
          </a:xfrm>
          <a:custGeom>
            <a:avLst/>
            <a:gdLst/>
            <a:ahLst/>
            <a:rect l="l" t="t" r="r" b="b"/>
            <a:pathLst>
              <a:path w="3896" h="1018">
                <a:moveTo>
                  <a:pt x="12229" y="16123"/>
                </a:moveTo>
                <a:cubicBezTo>
                  <a:pt x="12273" y="16299"/>
                  <a:pt x="12169" y="16538"/>
                  <a:pt x="12105" y="16718"/>
                </a:cubicBezTo>
                <a:cubicBezTo>
                  <a:pt x="12063" y="16822"/>
                  <a:pt x="12031" y="16879"/>
                  <a:pt x="12105" y="16793"/>
                </a:cubicBezTo>
              </a:path>
              <a:path w="3896" h="1018">
                <a:moveTo>
                  <a:pt x="12551" y="16371"/>
                </a:moveTo>
                <a:cubicBezTo>
                  <a:pt x="12490" y="16474"/>
                  <a:pt x="12482" y="16498"/>
                  <a:pt x="12427" y="16545"/>
                </a:cubicBezTo>
                <a:cubicBezTo>
                  <a:pt x="12548" y="16493"/>
                  <a:pt x="12607" y="16434"/>
                  <a:pt x="12750" y="16495"/>
                </a:cubicBezTo>
                <a:cubicBezTo>
                  <a:pt x="12772" y="16518"/>
                  <a:pt x="12777" y="16526"/>
                  <a:pt x="12799" y="16520"/>
                </a:cubicBezTo>
              </a:path>
              <a:path w="3896" h="1018">
                <a:moveTo>
                  <a:pt x="12923" y="16024"/>
                </a:moveTo>
                <a:cubicBezTo>
                  <a:pt x="12884" y="16256"/>
                  <a:pt x="12839" y="16469"/>
                  <a:pt x="12774" y="16694"/>
                </a:cubicBezTo>
                <a:cubicBezTo>
                  <a:pt x="12774" y="16747"/>
                  <a:pt x="12787" y="16729"/>
                  <a:pt x="12824" y="16619"/>
                </a:cubicBezTo>
              </a:path>
              <a:path w="3896" h="1018">
                <a:moveTo>
                  <a:pt x="13246" y="16098"/>
                </a:moveTo>
                <a:cubicBezTo>
                  <a:pt x="13445" y="16083"/>
                  <a:pt x="13528" y="16238"/>
                  <a:pt x="13444" y="16446"/>
                </a:cubicBezTo>
                <a:cubicBezTo>
                  <a:pt x="13370" y="16630"/>
                  <a:pt x="13186" y="16668"/>
                  <a:pt x="13097" y="16520"/>
                </a:cubicBezTo>
                <a:cubicBezTo>
                  <a:pt x="13229" y="16493"/>
                  <a:pt x="13311" y="16465"/>
                  <a:pt x="13395" y="16570"/>
                </a:cubicBezTo>
                <a:cubicBezTo>
                  <a:pt x="13403" y="16578"/>
                  <a:pt x="13411" y="16586"/>
                  <a:pt x="13419" y="16594"/>
                </a:cubicBezTo>
              </a:path>
              <a:path w="3896" h="1018">
                <a:moveTo>
                  <a:pt x="13717" y="16049"/>
                </a:moveTo>
                <a:cubicBezTo>
                  <a:pt x="13717" y="16204"/>
                  <a:pt x="13630" y="16402"/>
                  <a:pt x="13667" y="16545"/>
                </a:cubicBezTo>
                <a:cubicBezTo>
                  <a:pt x="13726" y="16771"/>
                  <a:pt x="14042" y="16499"/>
                  <a:pt x="14089" y="16421"/>
                </a:cubicBezTo>
                <a:cubicBezTo>
                  <a:pt x="14097" y="16388"/>
                  <a:pt x="14106" y="16354"/>
                  <a:pt x="14114" y="16321"/>
                </a:cubicBezTo>
                <a:cubicBezTo>
                  <a:pt x="13967" y="16355"/>
                  <a:pt x="13896" y="16408"/>
                  <a:pt x="13866" y="16570"/>
                </a:cubicBezTo>
                <a:cubicBezTo>
                  <a:pt x="13866" y="16578"/>
                  <a:pt x="13866" y="16586"/>
                  <a:pt x="13866" y="16594"/>
                </a:cubicBezTo>
              </a:path>
              <a:path w="3896" h="1018">
                <a:moveTo>
                  <a:pt x="11658" y="16917"/>
                </a:moveTo>
                <a:cubicBezTo>
                  <a:pt x="11697" y="16832"/>
                  <a:pt x="11748" y="16675"/>
                  <a:pt x="11757" y="16545"/>
                </a:cubicBezTo>
                <a:cubicBezTo>
                  <a:pt x="11771" y="16339"/>
                  <a:pt x="11717" y="16148"/>
                  <a:pt x="11683" y="15949"/>
                </a:cubicBezTo>
                <a:cubicBezTo>
                  <a:pt x="11885" y="15923"/>
                  <a:pt x="12098" y="15905"/>
                  <a:pt x="12303" y="15900"/>
                </a:cubicBezTo>
                <a:cubicBezTo>
                  <a:pt x="13028" y="15882"/>
                  <a:pt x="13855" y="15875"/>
                  <a:pt x="14536" y="15925"/>
                </a:cubicBezTo>
              </a:path>
              <a:path w="3896" h="1018">
                <a:moveTo>
                  <a:pt x="10716" y="16247"/>
                </a:moveTo>
                <a:cubicBezTo>
                  <a:pt x="10812" y="16247"/>
                  <a:pt x="10894" y="16211"/>
                  <a:pt x="10988" y="16197"/>
                </a:cubicBezTo>
                <a:cubicBezTo>
                  <a:pt x="10952" y="16332"/>
                  <a:pt x="10897" y="16380"/>
                  <a:pt x="10790" y="16470"/>
                </a:cubicBezTo>
                <a:cubicBezTo>
                  <a:pt x="10856" y="16470"/>
                  <a:pt x="11013" y="16447"/>
                  <a:pt x="10964" y="16570"/>
                </a:cubicBezTo>
                <a:cubicBezTo>
                  <a:pt x="10934" y="16645"/>
                  <a:pt x="10608" y="16838"/>
                  <a:pt x="10641" y="16694"/>
                </a:cubicBezTo>
                <a:cubicBezTo>
                  <a:pt x="10666" y="16644"/>
                  <a:pt x="10691" y="16595"/>
                  <a:pt x="10716" y="16545"/>
                </a:cubicBezTo>
              </a:path>
              <a:path w="3896" h="1018">
                <a:moveTo>
                  <a:pt x="11162" y="16148"/>
                </a:moveTo>
                <a:cubicBezTo>
                  <a:pt x="11206" y="16320"/>
                  <a:pt x="11148" y="16468"/>
                  <a:pt x="11137" y="16644"/>
                </a:cubicBezTo>
                <a:cubicBezTo>
                  <a:pt x="11128" y="16787"/>
                  <a:pt x="11413" y="16642"/>
                  <a:pt x="11460" y="16570"/>
                </a:cubicBezTo>
                <a:cubicBezTo>
                  <a:pt x="11468" y="16537"/>
                  <a:pt x="11477" y="16503"/>
                  <a:pt x="11485" y="16470"/>
                </a:cubicBezTo>
                <a:cubicBezTo>
                  <a:pt x="11468" y="16470"/>
                  <a:pt x="11452" y="16470"/>
                  <a:pt x="11435" y="16470"/>
                </a:cubicBezTo>
                <a:cubicBezTo>
                  <a:pt x="11316" y="16557"/>
                  <a:pt x="11311" y="16614"/>
                  <a:pt x="11311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75200" y="4813200"/>
            <a:ext cx="1393920" cy="1125720"/>
          </a:xfrm>
          <a:custGeom>
            <a:avLst/>
            <a:gdLst/>
            <a:ahLst/>
            <a:rect l="l" t="t" r="r" b="b"/>
            <a:pathLst>
              <a:path w="3871" h="3126">
                <a:moveTo>
                  <a:pt x="16470" y="14412"/>
                </a:moveTo>
                <a:cubicBezTo>
                  <a:pt x="16528" y="14393"/>
                  <a:pt x="16584" y="14292"/>
                  <a:pt x="16694" y="14312"/>
                </a:cubicBezTo>
                <a:cubicBezTo>
                  <a:pt x="16735" y="14337"/>
                  <a:pt x="16777" y="14362"/>
                  <a:pt x="16818" y="14387"/>
                </a:cubicBezTo>
                <a:cubicBezTo>
                  <a:pt x="16753" y="14733"/>
                  <a:pt x="16685" y="14823"/>
                  <a:pt x="16321" y="14883"/>
                </a:cubicBezTo>
                <a:cubicBezTo>
                  <a:pt x="16424" y="14715"/>
                  <a:pt x="16525" y="14649"/>
                  <a:pt x="16718" y="14759"/>
                </a:cubicBezTo>
                <a:cubicBezTo>
                  <a:pt x="16735" y="14775"/>
                  <a:pt x="16751" y="14792"/>
                  <a:pt x="16768" y="14808"/>
                </a:cubicBezTo>
              </a:path>
              <a:path w="3871" h="3126">
                <a:moveTo>
                  <a:pt x="17115" y="14213"/>
                </a:moveTo>
                <a:cubicBezTo>
                  <a:pt x="17180" y="14232"/>
                  <a:pt x="17454" y="14246"/>
                  <a:pt x="17363" y="14387"/>
                </a:cubicBezTo>
                <a:cubicBezTo>
                  <a:pt x="17282" y="14447"/>
                  <a:pt x="17269" y="14462"/>
                  <a:pt x="17214" y="14486"/>
                </a:cubicBezTo>
                <a:cubicBezTo>
                  <a:pt x="17301" y="14486"/>
                  <a:pt x="17521" y="14487"/>
                  <a:pt x="17438" y="14635"/>
                </a:cubicBezTo>
                <a:cubicBezTo>
                  <a:pt x="17347" y="14798"/>
                  <a:pt x="17158" y="14766"/>
                  <a:pt x="17016" y="14759"/>
                </a:cubicBezTo>
              </a:path>
              <a:path w="3871" h="3126">
                <a:moveTo>
                  <a:pt x="16346" y="15056"/>
                </a:moveTo>
                <a:cubicBezTo>
                  <a:pt x="16695" y="15029"/>
                  <a:pt x="17038" y="15007"/>
                  <a:pt x="17388" y="15007"/>
                </a:cubicBezTo>
              </a:path>
              <a:path w="3871" h="3126">
                <a:moveTo>
                  <a:pt x="16644" y="15255"/>
                </a:moveTo>
                <a:cubicBezTo>
                  <a:pt x="16616" y="15347"/>
                  <a:pt x="16590" y="15419"/>
                  <a:pt x="16545" y="15503"/>
                </a:cubicBezTo>
                <a:cubicBezTo>
                  <a:pt x="16732" y="15574"/>
                  <a:pt x="16771" y="15541"/>
                  <a:pt x="16966" y="15478"/>
                </a:cubicBezTo>
              </a:path>
              <a:path w="3871" h="3126">
                <a:moveTo>
                  <a:pt x="17016" y="15329"/>
                </a:moveTo>
                <a:cubicBezTo>
                  <a:pt x="16962" y="15476"/>
                  <a:pt x="16915" y="15615"/>
                  <a:pt x="16842" y="15751"/>
                </a:cubicBezTo>
              </a:path>
              <a:path w="3871" h="3126">
                <a:moveTo>
                  <a:pt x="17810" y="14982"/>
                </a:moveTo>
                <a:cubicBezTo>
                  <a:pt x="17763" y="15067"/>
                  <a:pt x="17544" y="15399"/>
                  <a:pt x="17562" y="15453"/>
                </a:cubicBezTo>
              </a:path>
              <a:path w="3871" h="3126">
                <a:moveTo>
                  <a:pt x="18355" y="14412"/>
                </a:moveTo>
                <a:cubicBezTo>
                  <a:pt x="18338" y="14474"/>
                  <a:pt x="18112" y="15038"/>
                  <a:pt x="18430" y="14908"/>
                </a:cubicBezTo>
                <a:cubicBezTo>
                  <a:pt x="18545" y="14815"/>
                  <a:pt x="18579" y="14792"/>
                  <a:pt x="18628" y="14709"/>
                </a:cubicBezTo>
                <a:cubicBezTo>
                  <a:pt x="18516" y="14782"/>
                  <a:pt x="18472" y="14833"/>
                  <a:pt x="18430" y="14957"/>
                </a:cubicBezTo>
              </a:path>
              <a:path w="3871" h="3126">
                <a:moveTo>
                  <a:pt x="18951" y="14362"/>
                </a:moveTo>
                <a:cubicBezTo>
                  <a:pt x="19226" y="14334"/>
                  <a:pt x="19265" y="14410"/>
                  <a:pt x="19050" y="14635"/>
                </a:cubicBezTo>
                <a:cubicBezTo>
                  <a:pt x="19000" y="14676"/>
                  <a:pt x="18951" y="14718"/>
                  <a:pt x="18901" y="14759"/>
                </a:cubicBezTo>
                <a:cubicBezTo>
                  <a:pt x="18876" y="14775"/>
                  <a:pt x="18852" y="14792"/>
                  <a:pt x="18827" y="14808"/>
                </a:cubicBezTo>
                <a:cubicBezTo>
                  <a:pt x="18994" y="14808"/>
                  <a:pt x="19157" y="14792"/>
                  <a:pt x="19323" y="14784"/>
                </a:cubicBezTo>
              </a:path>
              <a:path w="3871" h="3126">
                <a:moveTo>
                  <a:pt x="19199" y="15329"/>
                </a:moveTo>
                <a:cubicBezTo>
                  <a:pt x="19074" y="15204"/>
                  <a:pt x="18903" y="15267"/>
                  <a:pt x="18752" y="15354"/>
                </a:cubicBezTo>
                <a:cubicBezTo>
                  <a:pt x="18736" y="15371"/>
                  <a:pt x="18719" y="15387"/>
                  <a:pt x="18703" y="15404"/>
                </a:cubicBezTo>
                <a:cubicBezTo>
                  <a:pt x="18918" y="15404"/>
                  <a:pt x="19029" y="15379"/>
                  <a:pt x="19199" y="15230"/>
                </a:cubicBezTo>
                <a:cubicBezTo>
                  <a:pt x="19142" y="15406"/>
                  <a:pt x="19096" y="15547"/>
                  <a:pt x="19075" y="15726"/>
                </a:cubicBezTo>
              </a:path>
              <a:path w="3871" h="3126">
                <a:moveTo>
                  <a:pt x="16991" y="15701"/>
                </a:moveTo>
                <a:cubicBezTo>
                  <a:pt x="17067" y="15714"/>
                  <a:pt x="17137" y="15742"/>
                  <a:pt x="17214" y="15751"/>
                </a:cubicBezTo>
              </a:path>
              <a:path w="3871" h="3126">
                <a:moveTo>
                  <a:pt x="17314" y="15701"/>
                </a:moveTo>
                <a:cubicBezTo>
                  <a:pt x="17396" y="15660"/>
                  <a:pt x="17413" y="15635"/>
                  <a:pt x="17462" y="15677"/>
                </a:cubicBezTo>
                <a:cubicBezTo>
                  <a:pt x="17389" y="15803"/>
                  <a:pt x="17310" y="15914"/>
                  <a:pt x="17214" y="16024"/>
                </a:cubicBezTo>
                <a:cubicBezTo>
                  <a:pt x="17354" y="15996"/>
                  <a:pt x="17489" y="15948"/>
                  <a:pt x="17587" y="15850"/>
                </a:cubicBezTo>
              </a:path>
              <a:path w="3871" h="3126">
                <a:moveTo>
                  <a:pt x="19769" y="14263"/>
                </a:moveTo>
                <a:cubicBezTo>
                  <a:pt x="19819" y="14256"/>
                  <a:pt x="19868" y="14245"/>
                  <a:pt x="19918" y="14238"/>
                </a:cubicBezTo>
                <a:cubicBezTo>
                  <a:pt x="19902" y="14369"/>
                  <a:pt x="19857" y="14446"/>
                  <a:pt x="19794" y="14560"/>
                </a:cubicBezTo>
                <a:cubicBezTo>
                  <a:pt x="19916" y="14560"/>
                  <a:pt x="20002" y="14527"/>
                  <a:pt x="20117" y="14486"/>
                </a:cubicBezTo>
              </a:path>
              <a:path w="3871" h="3126">
                <a:moveTo>
                  <a:pt x="18281" y="14858"/>
                </a:moveTo>
                <a:cubicBezTo>
                  <a:pt x="18556" y="14766"/>
                  <a:pt x="18820" y="14664"/>
                  <a:pt x="19100" y="14585"/>
                </a:cubicBezTo>
                <a:cubicBezTo>
                  <a:pt x="19439" y="14489"/>
                  <a:pt x="19794" y="14397"/>
                  <a:pt x="20141" y="14337"/>
                </a:cubicBezTo>
                <a:cubicBezTo>
                  <a:pt x="20166" y="14337"/>
                  <a:pt x="20174" y="14337"/>
                  <a:pt x="20191" y="14337"/>
                </a:cubicBezTo>
              </a:path>
              <a:path w="3871" h="3126">
                <a:moveTo>
                  <a:pt x="18529" y="13568"/>
                </a:moveTo>
                <a:cubicBezTo>
                  <a:pt x="18571" y="13556"/>
                  <a:pt x="18747" y="13448"/>
                  <a:pt x="18752" y="13568"/>
                </a:cubicBezTo>
                <a:cubicBezTo>
                  <a:pt x="18726" y="13674"/>
                  <a:pt x="18714" y="13714"/>
                  <a:pt x="18653" y="13767"/>
                </a:cubicBezTo>
                <a:cubicBezTo>
                  <a:pt x="18499" y="13817"/>
                  <a:pt x="18744" y="13670"/>
                  <a:pt x="18802" y="13717"/>
                </a:cubicBezTo>
                <a:cubicBezTo>
                  <a:pt x="18904" y="13800"/>
                  <a:pt x="18584" y="14033"/>
                  <a:pt x="18479" y="13990"/>
                </a:cubicBezTo>
                <a:cubicBezTo>
                  <a:pt x="18479" y="13973"/>
                  <a:pt x="18479" y="13957"/>
                  <a:pt x="18479" y="13940"/>
                </a:cubicBezTo>
              </a:path>
              <a:path w="3871" h="3126">
                <a:moveTo>
                  <a:pt x="19050" y="13370"/>
                </a:moveTo>
                <a:cubicBezTo>
                  <a:pt x="19037" y="13528"/>
                  <a:pt x="19025" y="13681"/>
                  <a:pt x="19025" y="13841"/>
                </a:cubicBezTo>
                <a:cubicBezTo>
                  <a:pt x="19025" y="13858"/>
                  <a:pt x="19025" y="13874"/>
                  <a:pt x="19025" y="13891"/>
                </a:cubicBezTo>
              </a:path>
              <a:path w="3871" h="3126">
                <a:moveTo>
                  <a:pt x="16594" y="15280"/>
                </a:moveTo>
                <a:cubicBezTo>
                  <a:pt x="16764" y="15335"/>
                  <a:pt x="16973" y="15517"/>
                  <a:pt x="17115" y="15627"/>
                </a:cubicBezTo>
                <a:cubicBezTo>
                  <a:pt x="17252" y="15733"/>
                  <a:pt x="17366" y="15812"/>
                  <a:pt x="17512" y="15900"/>
                </a:cubicBezTo>
              </a:path>
              <a:path w="3871" h="3126">
                <a:moveTo>
                  <a:pt x="16396" y="16123"/>
                </a:moveTo>
                <a:cubicBezTo>
                  <a:pt x="16556" y="16086"/>
                  <a:pt x="16582" y="16108"/>
                  <a:pt x="16718" y="16173"/>
                </a:cubicBezTo>
                <a:cubicBezTo>
                  <a:pt x="16709" y="16348"/>
                  <a:pt x="16615" y="16560"/>
                  <a:pt x="16371" y="16495"/>
                </a:cubicBezTo>
                <a:cubicBezTo>
                  <a:pt x="16363" y="16479"/>
                  <a:pt x="16354" y="16462"/>
                  <a:pt x="16346" y="16446"/>
                </a:cubicBezTo>
                <a:cubicBezTo>
                  <a:pt x="16459" y="16340"/>
                  <a:pt x="16601" y="16222"/>
                  <a:pt x="16768" y="16346"/>
                </a:cubicBezTo>
                <a:cubicBezTo>
                  <a:pt x="16776" y="16363"/>
                  <a:pt x="16785" y="16379"/>
                  <a:pt x="16793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19960" y="4991040"/>
            <a:ext cx="1716120" cy="1812960"/>
          </a:xfrm>
          <a:custGeom>
            <a:avLst/>
            <a:gdLst/>
            <a:ahLst/>
            <a:rect l="l" t="t" r="r" b="b"/>
            <a:pathLst>
              <a:path w="4763" h="5036">
                <a:moveTo>
                  <a:pt x="20886" y="16942"/>
                </a:moveTo>
                <a:cubicBezTo>
                  <a:pt x="20886" y="17029"/>
                  <a:pt x="20957" y="17145"/>
                  <a:pt x="21010" y="17214"/>
                </a:cubicBezTo>
                <a:cubicBezTo>
                  <a:pt x="21092" y="17297"/>
                  <a:pt x="21108" y="17314"/>
                  <a:pt x="21158" y="17363"/>
                </a:cubicBezTo>
              </a:path>
              <a:path w="4763" h="5036">
                <a:moveTo>
                  <a:pt x="20613" y="17289"/>
                </a:moveTo>
                <a:cubicBezTo>
                  <a:pt x="20616" y="17308"/>
                  <a:pt x="20644" y="17505"/>
                  <a:pt x="20662" y="17512"/>
                </a:cubicBezTo>
                <a:cubicBezTo>
                  <a:pt x="20790" y="17560"/>
                  <a:pt x="20826" y="17426"/>
                  <a:pt x="20836" y="17338"/>
                </a:cubicBezTo>
                <a:cubicBezTo>
                  <a:pt x="20762" y="17498"/>
                  <a:pt x="20741" y="17535"/>
                  <a:pt x="20935" y="17462"/>
                </a:cubicBezTo>
              </a:path>
              <a:path w="4763" h="5036">
                <a:moveTo>
                  <a:pt x="21208" y="16917"/>
                </a:moveTo>
                <a:cubicBezTo>
                  <a:pt x="21246" y="16840"/>
                  <a:pt x="21230" y="17074"/>
                  <a:pt x="21233" y="17090"/>
                </a:cubicBezTo>
                <a:cubicBezTo>
                  <a:pt x="21241" y="17107"/>
                  <a:pt x="21250" y="17123"/>
                  <a:pt x="21258" y="17140"/>
                </a:cubicBezTo>
              </a:path>
              <a:path w="4763" h="5036">
                <a:moveTo>
                  <a:pt x="21580" y="18207"/>
                </a:moveTo>
                <a:cubicBezTo>
                  <a:pt x="21645" y="18170"/>
                  <a:pt x="21732" y="18131"/>
                  <a:pt x="21803" y="18107"/>
                </a:cubicBezTo>
                <a:cubicBezTo>
                  <a:pt x="21820" y="18209"/>
                  <a:pt x="21828" y="18300"/>
                  <a:pt x="21828" y="18405"/>
                </a:cubicBezTo>
              </a:path>
              <a:path w="4763" h="5036">
                <a:moveTo>
                  <a:pt x="21357" y="18281"/>
                </a:moveTo>
                <a:cubicBezTo>
                  <a:pt x="21391" y="18355"/>
                  <a:pt x="21396" y="18531"/>
                  <a:pt x="21431" y="18579"/>
                </a:cubicBezTo>
                <a:cubicBezTo>
                  <a:pt x="21439" y="18579"/>
                  <a:pt x="21448" y="18579"/>
                  <a:pt x="21456" y="18579"/>
                </a:cubicBezTo>
              </a:path>
              <a:path w="4763" h="5036">
                <a:moveTo>
                  <a:pt x="22151" y="17487"/>
                </a:moveTo>
                <a:cubicBezTo>
                  <a:pt x="22162" y="17604"/>
                  <a:pt x="22175" y="17715"/>
                  <a:pt x="22175" y="17835"/>
                </a:cubicBezTo>
              </a:path>
              <a:path w="4763" h="5036">
                <a:moveTo>
                  <a:pt x="22126" y="18058"/>
                </a:moveTo>
                <a:cubicBezTo>
                  <a:pt x="22196" y="18030"/>
                  <a:pt x="22273" y="17972"/>
                  <a:pt x="22349" y="17934"/>
                </a:cubicBezTo>
                <a:cubicBezTo>
                  <a:pt x="22349" y="18054"/>
                  <a:pt x="22304" y="18095"/>
                  <a:pt x="22225" y="18182"/>
                </a:cubicBezTo>
                <a:cubicBezTo>
                  <a:pt x="22324" y="18132"/>
                  <a:pt x="22331" y="18082"/>
                  <a:pt x="22448" y="18132"/>
                </a:cubicBezTo>
                <a:cubicBezTo>
                  <a:pt x="22399" y="18251"/>
                  <a:pt x="22363" y="18293"/>
                  <a:pt x="22250" y="18355"/>
                </a:cubicBezTo>
              </a:path>
              <a:path w="4763" h="5036">
                <a:moveTo>
                  <a:pt x="22027" y="16073"/>
                </a:moveTo>
                <a:cubicBezTo>
                  <a:pt x="21931" y="16073"/>
                  <a:pt x="21887" y="16068"/>
                  <a:pt x="21803" y="16123"/>
                </a:cubicBezTo>
                <a:cubicBezTo>
                  <a:pt x="21746" y="16160"/>
                  <a:pt x="21706" y="16187"/>
                  <a:pt x="21729" y="16222"/>
                </a:cubicBezTo>
                <a:cubicBezTo>
                  <a:pt x="21812" y="16176"/>
                  <a:pt x="21874" y="16091"/>
                  <a:pt x="21952" y="16049"/>
                </a:cubicBezTo>
                <a:cubicBezTo>
                  <a:pt x="21960" y="16049"/>
                  <a:pt x="21969" y="16049"/>
                  <a:pt x="21977" y="16049"/>
                </a:cubicBezTo>
                <a:cubicBezTo>
                  <a:pt x="21992" y="16123"/>
                  <a:pt x="22036" y="16198"/>
                  <a:pt x="22051" y="16272"/>
                </a:cubicBezTo>
                <a:cubicBezTo>
                  <a:pt x="22051" y="16313"/>
                  <a:pt x="22043" y="16329"/>
                  <a:pt x="22076" y="16321"/>
                </a:cubicBezTo>
              </a:path>
              <a:path w="4763" h="5036">
                <a:moveTo>
                  <a:pt x="21555" y="18802"/>
                </a:moveTo>
                <a:cubicBezTo>
                  <a:pt x="21563" y="18802"/>
                  <a:pt x="21572" y="18802"/>
                  <a:pt x="21580" y="18802"/>
                </a:cubicBezTo>
                <a:cubicBezTo>
                  <a:pt x="21611" y="18834"/>
                  <a:pt x="21657" y="18842"/>
                  <a:pt x="21704" y="18901"/>
                </a:cubicBezTo>
              </a:path>
              <a:path w="4763" h="5036">
                <a:moveTo>
                  <a:pt x="21927" y="18604"/>
                </a:moveTo>
                <a:cubicBezTo>
                  <a:pt x="21946" y="18687"/>
                  <a:pt x="21938" y="18857"/>
                  <a:pt x="22076" y="18802"/>
                </a:cubicBezTo>
                <a:cubicBezTo>
                  <a:pt x="22182" y="18759"/>
                  <a:pt x="22169" y="18712"/>
                  <a:pt x="22151" y="18628"/>
                </a:cubicBezTo>
                <a:cubicBezTo>
                  <a:pt x="22119" y="18639"/>
                  <a:pt x="22090" y="18706"/>
                  <a:pt x="22076" y="18752"/>
                </a:cubicBezTo>
                <a:cubicBezTo>
                  <a:pt x="22064" y="18791"/>
                  <a:pt x="22075" y="18793"/>
                  <a:pt x="22101" y="18802"/>
                </a:cubicBezTo>
              </a:path>
              <a:path w="4763" h="5036">
                <a:moveTo>
                  <a:pt x="22349" y="18430"/>
                </a:moveTo>
                <a:cubicBezTo>
                  <a:pt x="22374" y="18381"/>
                  <a:pt x="22439" y="18350"/>
                  <a:pt x="22498" y="18331"/>
                </a:cubicBezTo>
                <a:cubicBezTo>
                  <a:pt x="22529" y="18407"/>
                  <a:pt x="22462" y="18519"/>
                  <a:pt x="22423" y="18604"/>
                </a:cubicBezTo>
                <a:cubicBezTo>
                  <a:pt x="22403" y="18644"/>
                  <a:pt x="22395" y="18651"/>
                  <a:pt x="22399" y="18678"/>
                </a:cubicBezTo>
                <a:cubicBezTo>
                  <a:pt x="22456" y="18652"/>
                  <a:pt x="22517" y="18617"/>
                  <a:pt x="22572" y="18604"/>
                </a:cubicBezTo>
              </a:path>
              <a:path w="4763" h="5036">
                <a:moveTo>
                  <a:pt x="22969" y="18678"/>
                </a:moveTo>
                <a:cubicBezTo>
                  <a:pt x="22997" y="18748"/>
                  <a:pt x="23028" y="18783"/>
                  <a:pt x="23093" y="18802"/>
                </a:cubicBezTo>
              </a:path>
              <a:path w="4763" h="5036">
                <a:moveTo>
                  <a:pt x="22721" y="18752"/>
                </a:moveTo>
                <a:cubicBezTo>
                  <a:pt x="22767" y="18775"/>
                  <a:pt x="22817" y="18837"/>
                  <a:pt x="22895" y="18827"/>
                </a:cubicBezTo>
                <a:cubicBezTo>
                  <a:pt x="22936" y="18822"/>
                  <a:pt x="22926" y="18769"/>
                  <a:pt x="22944" y="18827"/>
                </a:cubicBezTo>
              </a:path>
              <a:path w="4763" h="5036">
                <a:moveTo>
                  <a:pt x="22969" y="16098"/>
                </a:moveTo>
                <a:cubicBezTo>
                  <a:pt x="23070" y="16123"/>
                  <a:pt x="23160" y="16044"/>
                  <a:pt x="23267" y="16049"/>
                </a:cubicBezTo>
                <a:cubicBezTo>
                  <a:pt x="23305" y="16086"/>
                  <a:pt x="23303" y="16109"/>
                  <a:pt x="23242" y="16148"/>
                </a:cubicBezTo>
              </a:path>
              <a:path w="4763" h="5036">
                <a:moveTo>
                  <a:pt x="23044" y="16371"/>
                </a:moveTo>
                <a:cubicBezTo>
                  <a:pt x="23129" y="16359"/>
                  <a:pt x="23208" y="16330"/>
                  <a:pt x="23292" y="16321"/>
                </a:cubicBezTo>
              </a:path>
              <a:path w="4763" h="5036">
                <a:moveTo>
                  <a:pt x="23515" y="15379"/>
                </a:moveTo>
                <a:cubicBezTo>
                  <a:pt x="23604" y="15301"/>
                  <a:pt x="23689" y="15244"/>
                  <a:pt x="23788" y="15180"/>
                </a:cubicBezTo>
                <a:cubicBezTo>
                  <a:pt x="23883" y="15359"/>
                  <a:pt x="23793" y="15473"/>
                  <a:pt x="23639" y="15627"/>
                </a:cubicBezTo>
                <a:cubicBezTo>
                  <a:pt x="23631" y="15635"/>
                  <a:pt x="23622" y="15644"/>
                  <a:pt x="23614" y="15652"/>
                </a:cubicBezTo>
                <a:cubicBezTo>
                  <a:pt x="23732" y="15575"/>
                  <a:pt x="23970" y="15542"/>
                  <a:pt x="23812" y="15776"/>
                </a:cubicBezTo>
                <a:cubicBezTo>
                  <a:pt x="23694" y="15952"/>
                  <a:pt x="23625" y="15922"/>
                  <a:pt x="23465" y="15875"/>
                </a:cubicBezTo>
                <a:cubicBezTo>
                  <a:pt x="23465" y="15773"/>
                  <a:pt x="23483" y="15726"/>
                  <a:pt x="23564" y="15677"/>
                </a:cubicBezTo>
              </a:path>
              <a:path w="4763" h="5036">
                <a:moveTo>
                  <a:pt x="24011" y="15131"/>
                </a:moveTo>
                <a:cubicBezTo>
                  <a:pt x="23998" y="15080"/>
                  <a:pt x="23987" y="15085"/>
                  <a:pt x="23937" y="15056"/>
                </a:cubicBezTo>
                <a:cubicBezTo>
                  <a:pt x="23903" y="15079"/>
                  <a:pt x="23883" y="15292"/>
                  <a:pt x="23887" y="15354"/>
                </a:cubicBezTo>
                <a:cubicBezTo>
                  <a:pt x="23895" y="15371"/>
                  <a:pt x="23904" y="15387"/>
                  <a:pt x="23912" y="15404"/>
                </a:cubicBezTo>
                <a:cubicBezTo>
                  <a:pt x="24046" y="15355"/>
                  <a:pt x="24063" y="15261"/>
                  <a:pt x="24085" y="15106"/>
                </a:cubicBezTo>
                <a:cubicBezTo>
                  <a:pt x="24056" y="15226"/>
                  <a:pt x="24043" y="15394"/>
                  <a:pt x="24036" y="15528"/>
                </a:cubicBezTo>
                <a:cubicBezTo>
                  <a:pt x="24032" y="15601"/>
                  <a:pt x="24036" y="15677"/>
                  <a:pt x="24036" y="15751"/>
                </a:cubicBezTo>
              </a:path>
              <a:path w="4763" h="5036">
                <a:moveTo>
                  <a:pt x="24408" y="14511"/>
                </a:moveTo>
                <a:cubicBezTo>
                  <a:pt x="24447" y="14393"/>
                  <a:pt x="24455" y="14683"/>
                  <a:pt x="24457" y="14808"/>
                </a:cubicBezTo>
                <a:cubicBezTo>
                  <a:pt x="24457" y="14899"/>
                  <a:pt x="24457" y="14907"/>
                  <a:pt x="24457" y="14957"/>
                </a:cubicBezTo>
              </a:path>
              <a:path w="4763" h="5036">
                <a:moveTo>
                  <a:pt x="24383" y="15156"/>
                </a:moveTo>
                <a:cubicBezTo>
                  <a:pt x="24548" y="15051"/>
                  <a:pt x="24711" y="14978"/>
                  <a:pt x="24904" y="14932"/>
                </a:cubicBezTo>
                <a:cubicBezTo>
                  <a:pt x="24912" y="14932"/>
                  <a:pt x="24921" y="14932"/>
                  <a:pt x="24929" y="14932"/>
                </a:cubicBezTo>
              </a:path>
              <a:path w="4763" h="5036">
                <a:moveTo>
                  <a:pt x="24383" y="15280"/>
                </a:moveTo>
                <a:cubicBezTo>
                  <a:pt x="24383" y="15420"/>
                  <a:pt x="24383" y="15561"/>
                  <a:pt x="24383" y="15701"/>
                </a:cubicBezTo>
              </a:path>
              <a:path w="4763" h="5036">
                <a:moveTo>
                  <a:pt x="24805" y="15156"/>
                </a:moveTo>
                <a:cubicBezTo>
                  <a:pt x="24696" y="15203"/>
                  <a:pt x="24625" y="15281"/>
                  <a:pt x="24557" y="15379"/>
                </a:cubicBezTo>
                <a:cubicBezTo>
                  <a:pt x="24598" y="15405"/>
                  <a:pt x="24854" y="15483"/>
                  <a:pt x="24854" y="15553"/>
                </a:cubicBezTo>
                <a:cubicBezTo>
                  <a:pt x="24854" y="15663"/>
                  <a:pt x="24755" y="15685"/>
                  <a:pt x="24681" y="15701"/>
                </a:cubicBezTo>
                <a:cubicBezTo>
                  <a:pt x="24668" y="15514"/>
                  <a:pt x="24761" y="15405"/>
                  <a:pt x="24829" y="15230"/>
                </a:cubicBezTo>
                <a:cubicBezTo>
                  <a:pt x="24829" y="15222"/>
                  <a:pt x="24829" y="15213"/>
                  <a:pt x="24829" y="15205"/>
                </a:cubicBezTo>
              </a:path>
              <a:path w="4763" h="5036">
                <a:moveTo>
                  <a:pt x="23217" y="16148"/>
                </a:moveTo>
                <a:cubicBezTo>
                  <a:pt x="23312" y="16155"/>
                  <a:pt x="23396" y="16179"/>
                  <a:pt x="23490" y="16197"/>
                </a:cubicBezTo>
                <a:cubicBezTo>
                  <a:pt x="23742" y="16246"/>
                  <a:pt x="23932" y="16206"/>
                  <a:pt x="24160" y="16123"/>
                </a:cubicBezTo>
                <a:cubicBezTo>
                  <a:pt x="24241" y="16093"/>
                  <a:pt x="24432" y="15942"/>
                  <a:pt x="24507" y="15974"/>
                </a:cubicBezTo>
                <a:cubicBezTo>
                  <a:pt x="24627" y="16026"/>
                  <a:pt x="24624" y="16131"/>
                  <a:pt x="24780" y="16073"/>
                </a:cubicBezTo>
                <a:cubicBezTo>
                  <a:pt x="24858" y="16044"/>
                  <a:pt x="24893" y="15995"/>
                  <a:pt x="24954" y="15949"/>
                </a:cubicBezTo>
                <a:cubicBezTo>
                  <a:pt x="24990" y="15922"/>
                  <a:pt x="25021" y="15903"/>
                  <a:pt x="25053" y="15875"/>
                </a:cubicBezTo>
                <a:cubicBezTo>
                  <a:pt x="25130" y="15807"/>
                  <a:pt x="25180" y="15766"/>
                  <a:pt x="25226" y="15677"/>
                </a:cubicBezTo>
                <a:cubicBezTo>
                  <a:pt x="25308" y="15517"/>
                  <a:pt x="25324" y="15422"/>
                  <a:pt x="25350" y="15255"/>
                </a:cubicBezTo>
                <a:cubicBezTo>
                  <a:pt x="25368" y="15139"/>
                  <a:pt x="25368" y="15073"/>
                  <a:pt x="25350" y="14957"/>
                </a:cubicBezTo>
                <a:cubicBezTo>
                  <a:pt x="25332" y="14843"/>
                  <a:pt x="25312" y="14724"/>
                  <a:pt x="25301" y="14610"/>
                </a:cubicBezTo>
                <a:cubicBezTo>
                  <a:pt x="25291" y="14502"/>
                  <a:pt x="25275" y="14411"/>
                  <a:pt x="25226" y="14312"/>
                </a:cubicBezTo>
                <a:cubicBezTo>
                  <a:pt x="25182" y="14224"/>
                  <a:pt x="25095" y="14156"/>
                  <a:pt x="25028" y="14089"/>
                </a:cubicBezTo>
                <a:cubicBezTo>
                  <a:pt x="24954" y="14015"/>
                  <a:pt x="24850" y="13937"/>
                  <a:pt x="24755" y="13891"/>
                </a:cubicBezTo>
                <a:cubicBezTo>
                  <a:pt x="24648" y="13839"/>
                  <a:pt x="24565" y="13891"/>
                  <a:pt x="24457" y="13915"/>
                </a:cubicBezTo>
                <a:cubicBezTo>
                  <a:pt x="24200" y="13972"/>
                  <a:pt x="24064" y="14019"/>
                  <a:pt x="23862" y="14188"/>
                </a:cubicBezTo>
                <a:cubicBezTo>
                  <a:pt x="23720" y="14306"/>
                  <a:pt x="23622" y="14436"/>
                  <a:pt x="23515" y="14585"/>
                </a:cubicBezTo>
                <a:cubicBezTo>
                  <a:pt x="23425" y="14710"/>
                  <a:pt x="23345" y="14848"/>
                  <a:pt x="23267" y="14982"/>
                </a:cubicBezTo>
                <a:cubicBezTo>
                  <a:pt x="23187" y="15120"/>
                  <a:pt x="23113" y="15294"/>
                  <a:pt x="23093" y="15453"/>
                </a:cubicBezTo>
                <a:cubicBezTo>
                  <a:pt x="23075" y="15597"/>
                  <a:pt x="23090" y="15760"/>
                  <a:pt x="23118" y="15900"/>
                </a:cubicBezTo>
                <a:cubicBezTo>
                  <a:pt x="23143" y="16022"/>
                  <a:pt x="23241" y="16091"/>
                  <a:pt x="23366" y="16123"/>
                </a:cubicBezTo>
                <a:cubicBezTo>
                  <a:pt x="23391" y="16123"/>
                  <a:pt x="23399" y="16123"/>
                  <a:pt x="23416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78840" y="3983040"/>
            <a:ext cx="457200" cy="544680"/>
          </a:xfrm>
          <a:custGeom>
            <a:avLst/>
            <a:gdLst/>
            <a:ahLst/>
            <a:rect l="l" t="t" r="r" b="b"/>
            <a:pathLst>
              <a:path w="1266" h="1514">
                <a:moveTo>
                  <a:pt x="23019" y="11237"/>
                </a:moveTo>
                <a:cubicBezTo>
                  <a:pt x="23089" y="11201"/>
                  <a:pt x="23129" y="11188"/>
                  <a:pt x="23192" y="11187"/>
                </a:cubicBezTo>
                <a:cubicBezTo>
                  <a:pt x="23251" y="11323"/>
                  <a:pt x="23178" y="11372"/>
                  <a:pt x="23068" y="11460"/>
                </a:cubicBezTo>
                <a:cubicBezTo>
                  <a:pt x="23139" y="11460"/>
                  <a:pt x="23304" y="11495"/>
                  <a:pt x="23316" y="11584"/>
                </a:cubicBezTo>
                <a:cubicBezTo>
                  <a:pt x="23331" y="11700"/>
                  <a:pt x="23027" y="11822"/>
                  <a:pt x="22969" y="11733"/>
                </a:cubicBezTo>
                <a:cubicBezTo>
                  <a:pt x="22969" y="11708"/>
                  <a:pt x="22969" y="11683"/>
                  <a:pt x="22969" y="11658"/>
                </a:cubicBezTo>
              </a:path>
              <a:path w="1266" h="1514">
                <a:moveTo>
                  <a:pt x="23639" y="11137"/>
                </a:moveTo>
                <a:cubicBezTo>
                  <a:pt x="23550" y="11204"/>
                  <a:pt x="23509" y="11280"/>
                  <a:pt x="23465" y="11385"/>
                </a:cubicBezTo>
                <a:cubicBezTo>
                  <a:pt x="23577" y="11385"/>
                  <a:pt x="23837" y="11346"/>
                  <a:pt x="23837" y="11534"/>
                </a:cubicBezTo>
                <a:cubicBezTo>
                  <a:pt x="23837" y="11644"/>
                  <a:pt x="23615" y="11814"/>
                  <a:pt x="23540" y="11683"/>
                </a:cubicBezTo>
                <a:cubicBezTo>
                  <a:pt x="23523" y="11633"/>
                  <a:pt x="23507" y="11584"/>
                  <a:pt x="23490" y="11534"/>
                </a:cubicBezTo>
              </a:path>
              <a:path w="1266" h="1514">
                <a:moveTo>
                  <a:pt x="23564" y="11212"/>
                </a:moveTo>
                <a:cubicBezTo>
                  <a:pt x="23637" y="11120"/>
                  <a:pt x="23768" y="11121"/>
                  <a:pt x="23887" y="11088"/>
                </a:cubicBezTo>
                <a:cubicBezTo>
                  <a:pt x="23944" y="11069"/>
                  <a:pt x="23951" y="11060"/>
                  <a:pt x="23986" y="11063"/>
                </a:cubicBezTo>
              </a:path>
              <a:path w="1266" h="1514">
                <a:moveTo>
                  <a:pt x="22721" y="12080"/>
                </a:moveTo>
                <a:cubicBezTo>
                  <a:pt x="22869" y="12080"/>
                  <a:pt x="23103" y="12025"/>
                  <a:pt x="23242" y="12005"/>
                </a:cubicBezTo>
                <a:cubicBezTo>
                  <a:pt x="23356" y="11989"/>
                  <a:pt x="23775" y="11887"/>
                  <a:pt x="23862" y="11906"/>
                </a:cubicBezTo>
                <a:cubicBezTo>
                  <a:pt x="23870" y="11914"/>
                  <a:pt x="23879" y="11923"/>
                  <a:pt x="23887" y="11931"/>
                </a:cubicBezTo>
              </a:path>
              <a:path w="1266" h="1514">
                <a:moveTo>
                  <a:pt x="23192" y="12254"/>
                </a:moveTo>
                <a:cubicBezTo>
                  <a:pt x="23276" y="12254"/>
                  <a:pt x="23318" y="12195"/>
                  <a:pt x="23391" y="12179"/>
                </a:cubicBezTo>
                <a:cubicBezTo>
                  <a:pt x="23527" y="12149"/>
                  <a:pt x="23594" y="12233"/>
                  <a:pt x="23465" y="12328"/>
                </a:cubicBezTo>
                <a:cubicBezTo>
                  <a:pt x="23398" y="12351"/>
                  <a:pt x="23380" y="12356"/>
                  <a:pt x="23341" y="12378"/>
                </a:cubicBezTo>
                <a:cubicBezTo>
                  <a:pt x="23400" y="12368"/>
                  <a:pt x="23553" y="12292"/>
                  <a:pt x="23564" y="12402"/>
                </a:cubicBezTo>
                <a:cubicBezTo>
                  <a:pt x="23579" y="12554"/>
                  <a:pt x="23357" y="12566"/>
                  <a:pt x="23267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03200" y="6367320"/>
            <a:ext cx="6983640" cy="411480"/>
          </a:xfrm>
          <a:custGeom>
            <a:avLst/>
            <a:gdLst/>
            <a:ahLst/>
            <a:rect l="l" t="t" r="r" b="b"/>
            <a:pathLst>
              <a:path w="19399" h="1142">
                <a:moveTo>
                  <a:pt x="3621" y="17686"/>
                </a:moveTo>
                <a:lnTo>
                  <a:pt x="3621" y="17686"/>
                </a:lnTo>
              </a:path>
              <a:path w="19399" h="1142">
                <a:moveTo>
                  <a:pt x="23019" y="18231"/>
                </a:moveTo>
                <a:cubicBezTo>
                  <a:pt x="22905" y="18421"/>
                  <a:pt x="22754" y="18598"/>
                  <a:pt x="22572" y="18728"/>
                </a:cubicBezTo>
                <a:cubicBezTo>
                  <a:pt x="22462" y="18782"/>
                  <a:pt x="22443" y="18775"/>
                  <a:pt x="22399" y="18827"/>
                </a:cubicBezTo>
              </a:path>
              <a:path w="19399" h="1142">
                <a:moveTo>
                  <a:pt x="22944" y="18703"/>
                </a:moveTo>
                <a:cubicBezTo>
                  <a:pt x="22944" y="18695"/>
                  <a:pt x="22944" y="18686"/>
                  <a:pt x="22944" y="18678"/>
                </a:cubicBezTo>
              </a:path>
              <a:path w="19399" h="1142">
                <a:moveTo>
                  <a:pt x="22944" y="18678"/>
                </a:moveTo>
                <a:lnTo>
                  <a:pt x="22944" y="18678"/>
                </a:lnTo>
              </a:path>
              <a:path w="19399" h="1142">
                <a:moveTo>
                  <a:pt x="22969" y="18678"/>
                </a:moveTo>
                <a:lnTo>
                  <a:pt x="22969" y="186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C-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11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1-10-26T18:54:35Z</dcterms:modified>
  <cp:revision>4</cp:revision>
  <dc:subject/>
  <dc:title>Warm - up:</dc:title>
</cp:coreProperties>
</file>